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748-A1C0-4333-A28E-FDA953FC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533-9C00-4C5D-A6B2-B8040D56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874-0E2F-4384-8D8A-C08BDE4D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FE6-20CB-412B-B399-2C1695EB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287-8577-4DDD-A601-9F7FBA64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D1C-FF07-40AE-A558-DFC0C151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D02-22C8-49C1-A506-087B409D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149-2D33-4F20-BE61-234CB78E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C06-892F-4130-8116-F0B861FD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3A8-7984-4F67-9C63-FF4F73C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FDE-7F3A-4255-9492-68503B95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D0C-B2CF-4940-91CB-2D409C9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A706-6BDB-4CAC-8F9A-2255AC038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рт - месец борбе против рака: </a:t>
            </a:r>
            <a:br>
              <a:rPr sz="4400"/>
            </a:b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ПРЕВЕНЦИЈА МАЛИГНИХ ТУМ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3341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лигн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тумо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у 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Нишавском округу 2012. г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U 2012. godini na teritoriji Nišavskog okruga pod dijagnozom malignog tumora ukupno je registrovana </a:t>
            </a:r>
            <a:r>
              <a:rPr b="1" lang="sl-SI" sz="2000" spc="-1" strike="noStrike">
                <a:solidFill>
                  <a:srgbClr val="990033"/>
                </a:solidFill>
                <a:latin typeface="Arial"/>
              </a:rPr>
              <a:t>180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so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Broj obolelih muškaraca je nešto veći u odnosu na broj obolelih žena (</a:t>
            </a:r>
            <a:r>
              <a:rPr b="1" lang="sl-SI" sz="2000" spc="-1" strike="noStrike">
                <a:solidFill>
                  <a:srgbClr val="990033"/>
                </a:solidFill>
                <a:latin typeface="Arial"/>
              </a:rPr>
              <a:t>938 vs 863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viša nestandardizovana stopa incidencije beleži se u opštini Ražanj kod muškaraca i u opštini Svrljig kod žena (</a:t>
            </a:r>
            <a:r>
              <a:rPr b="1" lang="sl-SI" sz="2000" spc="-1" strike="noStrike">
                <a:solidFill>
                  <a:srgbClr val="990033"/>
                </a:solidFill>
                <a:latin typeface="Arial"/>
              </a:rPr>
              <a:t>703,14 vs 494,35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) a najniža u opštini Merošina kod oba pola (</a:t>
            </a:r>
            <a:r>
              <a:rPr b="1" lang="sl-SI" sz="2000" spc="-1" strike="noStrike">
                <a:solidFill>
                  <a:srgbClr val="990033"/>
                </a:solidFill>
                <a:latin typeface="Arial"/>
              </a:rPr>
              <a:t>390,30 vs 353,25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) na 100 000 stanov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862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31840" y="1636560"/>
            <a:ext cx="711216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49480" y="934920"/>
            <a:ext cx="644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446880"/>
            <a:ext cx="62229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59160" y="2076480"/>
            <a:ext cx="1217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0080" y="213372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Muškar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97920" y="23860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52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42040" y="2076480"/>
            <a:ext cx="1450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0320" y="21319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Ž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3920" y="23860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4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852640"/>
            <a:ext cx="633600" cy="3611520"/>
          </a:xfrm>
          <a:custGeom>
            <a:avLst/>
            <a:gdLst/>
            <a:ahLst/>
            <a:rect l="l" t="t" r="r" b="b"/>
            <a:pathLst>
              <a:path w="798" h="4551">
                <a:moveTo>
                  <a:pt x="652" y="320"/>
                </a:moveTo>
                <a:lnTo>
                  <a:pt x="646" y="344"/>
                </a:lnTo>
                <a:lnTo>
                  <a:pt x="640" y="365"/>
                </a:lnTo>
                <a:lnTo>
                  <a:pt x="642" y="387"/>
                </a:lnTo>
                <a:lnTo>
                  <a:pt x="650" y="409"/>
                </a:lnTo>
                <a:lnTo>
                  <a:pt x="661" y="425"/>
                </a:lnTo>
                <a:lnTo>
                  <a:pt x="678" y="441"/>
                </a:lnTo>
                <a:lnTo>
                  <a:pt x="690" y="455"/>
                </a:lnTo>
                <a:lnTo>
                  <a:pt x="686" y="475"/>
                </a:lnTo>
                <a:lnTo>
                  <a:pt x="673" y="488"/>
                </a:lnTo>
                <a:lnTo>
                  <a:pt x="657" y="493"/>
                </a:lnTo>
                <a:lnTo>
                  <a:pt x="646" y="488"/>
                </a:lnTo>
                <a:lnTo>
                  <a:pt x="640" y="488"/>
                </a:lnTo>
                <a:lnTo>
                  <a:pt x="633" y="488"/>
                </a:lnTo>
                <a:lnTo>
                  <a:pt x="625" y="502"/>
                </a:lnTo>
                <a:lnTo>
                  <a:pt x="619" y="518"/>
                </a:lnTo>
                <a:lnTo>
                  <a:pt x="616" y="536"/>
                </a:lnTo>
                <a:lnTo>
                  <a:pt x="614" y="552"/>
                </a:lnTo>
                <a:lnTo>
                  <a:pt x="610" y="569"/>
                </a:lnTo>
                <a:lnTo>
                  <a:pt x="608" y="585"/>
                </a:lnTo>
                <a:lnTo>
                  <a:pt x="604" y="599"/>
                </a:lnTo>
                <a:lnTo>
                  <a:pt x="598" y="614"/>
                </a:lnTo>
                <a:lnTo>
                  <a:pt x="591" y="624"/>
                </a:lnTo>
                <a:lnTo>
                  <a:pt x="579" y="635"/>
                </a:lnTo>
                <a:lnTo>
                  <a:pt x="566" y="642"/>
                </a:lnTo>
                <a:lnTo>
                  <a:pt x="543" y="648"/>
                </a:lnTo>
                <a:lnTo>
                  <a:pt x="515" y="650"/>
                </a:lnTo>
                <a:lnTo>
                  <a:pt x="492" y="659"/>
                </a:lnTo>
                <a:lnTo>
                  <a:pt x="481" y="669"/>
                </a:lnTo>
                <a:lnTo>
                  <a:pt x="471" y="684"/>
                </a:lnTo>
                <a:lnTo>
                  <a:pt x="467" y="698"/>
                </a:lnTo>
                <a:lnTo>
                  <a:pt x="464" y="714"/>
                </a:lnTo>
                <a:lnTo>
                  <a:pt x="462" y="732"/>
                </a:lnTo>
                <a:lnTo>
                  <a:pt x="460" y="750"/>
                </a:lnTo>
                <a:lnTo>
                  <a:pt x="458" y="768"/>
                </a:lnTo>
                <a:lnTo>
                  <a:pt x="456" y="788"/>
                </a:lnTo>
                <a:lnTo>
                  <a:pt x="450" y="806"/>
                </a:lnTo>
                <a:lnTo>
                  <a:pt x="460" y="822"/>
                </a:lnTo>
                <a:lnTo>
                  <a:pt x="467" y="837"/>
                </a:lnTo>
                <a:lnTo>
                  <a:pt x="477" y="851"/>
                </a:lnTo>
                <a:lnTo>
                  <a:pt x="484" y="865"/>
                </a:lnTo>
                <a:lnTo>
                  <a:pt x="494" y="880"/>
                </a:lnTo>
                <a:lnTo>
                  <a:pt x="502" y="896"/>
                </a:lnTo>
                <a:lnTo>
                  <a:pt x="509" y="910"/>
                </a:lnTo>
                <a:lnTo>
                  <a:pt x="519" y="925"/>
                </a:lnTo>
                <a:lnTo>
                  <a:pt x="528" y="939"/>
                </a:lnTo>
                <a:lnTo>
                  <a:pt x="538" y="954"/>
                </a:lnTo>
                <a:lnTo>
                  <a:pt x="545" y="968"/>
                </a:lnTo>
                <a:lnTo>
                  <a:pt x="555" y="984"/>
                </a:lnTo>
                <a:lnTo>
                  <a:pt x="564" y="999"/>
                </a:lnTo>
                <a:lnTo>
                  <a:pt x="572" y="1013"/>
                </a:lnTo>
                <a:lnTo>
                  <a:pt x="581" y="1027"/>
                </a:lnTo>
                <a:lnTo>
                  <a:pt x="589" y="1042"/>
                </a:lnTo>
                <a:lnTo>
                  <a:pt x="598" y="1056"/>
                </a:lnTo>
                <a:lnTo>
                  <a:pt x="608" y="1070"/>
                </a:lnTo>
                <a:lnTo>
                  <a:pt x="617" y="1087"/>
                </a:lnTo>
                <a:lnTo>
                  <a:pt x="625" y="1101"/>
                </a:lnTo>
                <a:lnTo>
                  <a:pt x="635" y="1115"/>
                </a:lnTo>
                <a:lnTo>
                  <a:pt x="642" y="1132"/>
                </a:lnTo>
                <a:lnTo>
                  <a:pt x="652" y="1146"/>
                </a:lnTo>
                <a:lnTo>
                  <a:pt x="659" y="1160"/>
                </a:lnTo>
                <a:lnTo>
                  <a:pt x="667" y="1175"/>
                </a:lnTo>
                <a:lnTo>
                  <a:pt x="676" y="1191"/>
                </a:lnTo>
                <a:lnTo>
                  <a:pt x="684" y="1205"/>
                </a:lnTo>
                <a:lnTo>
                  <a:pt x="693" y="1222"/>
                </a:lnTo>
                <a:lnTo>
                  <a:pt x="701" y="1236"/>
                </a:lnTo>
                <a:lnTo>
                  <a:pt x="709" y="1252"/>
                </a:lnTo>
                <a:lnTo>
                  <a:pt x="716" y="1267"/>
                </a:lnTo>
                <a:lnTo>
                  <a:pt x="724" y="1283"/>
                </a:lnTo>
                <a:lnTo>
                  <a:pt x="731" y="1299"/>
                </a:lnTo>
                <a:lnTo>
                  <a:pt x="737" y="1320"/>
                </a:lnTo>
                <a:lnTo>
                  <a:pt x="737" y="1346"/>
                </a:lnTo>
                <a:lnTo>
                  <a:pt x="731" y="1369"/>
                </a:lnTo>
                <a:lnTo>
                  <a:pt x="724" y="1387"/>
                </a:lnTo>
                <a:lnTo>
                  <a:pt x="712" y="1405"/>
                </a:lnTo>
                <a:lnTo>
                  <a:pt x="701" y="1421"/>
                </a:lnTo>
                <a:lnTo>
                  <a:pt x="688" y="1437"/>
                </a:lnTo>
                <a:lnTo>
                  <a:pt x="676" y="1454"/>
                </a:lnTo>
                <a:lnTo>
                  <a:pt x="665" y="1468"/>
                </a:lnTo>
                <a:lnTo>
                  <a:pt x="657" y="1486"/>
                </a:lnTo>
                <a:lnTo>
                  <a:pt x="652" y="1500"/>
                </a:lnTo>
                <a:lnTo>
                  <a:pt x="650" y="1517"/>
                </a:lnTo>
                <a:lnTo>
                  <a:pt x="650" y="1535"/>
                </a:lnTo>
                <a:lnTo>
                  <a:pt x="652" y="1554"/>
                </a:lnTo>
                <a:lnTo>
                  <a:pt x="655" y="1574"/>
                </a:lnTo>
                <a:lnTo>
                  <a:pt x="657" y="1592"/>
                </a:lnTo>
                <a:lnTo>
                  <a:pt x="657" y="1610"/>
                </a:lnTo>
                <a:lnTo>
                  <a:pt x="659" y="1630"/>
                </a:lnTo>
                <a:lnTo>
                  <a:pt x="663" y="1650"/>
                </a:lnTo>
                <a:lnTo>
                  <a:pt x="665" y="1669"/>
                </a:lnTo>
                <a:lnTo>
                  <a:pt x="665" y="1689"/>
                </a:lnTo>
                <a:lnTo>
                  <a:pt x="665" y="1711"/>
                </a:lnTo>
                <a:lnTo>
                  <a:pt x="665" y="1731"/>
                </a:lnTo>
                <a:lnTo>
                  <a:pt x="665" y="1750"/>
                </a:lnTo>
                <a:lnTo>
                  <a:pt x="665" y="1754"/>
                </a:lnTo>
                <a:lnTo>
                  <a:pt x="665" y="1761"/>
                </a:lnTo>
                <a:lnTo>
                  <a:pt x="665" y="1767"/>
                </a:lnTo>
                <a:lnTo>
                  <a:pt x="671" y="1786"/>
                </a:lnTo>
                <a:lnTo>
                  <a:pt x="674" y="1804"/>
                </a:lnTo>
                <a:lnTo>
                  <a:pt x="680" y="1824"/>
                </a:lnTo>
                <a:lnTo>
                  <a:pt x="686" y="1842"/>
                </a:lnTo>
                <a:lnTo>
                  <a:pt x="690" y="1860"/>
                </a:lnTo>
                <a:lnTo>
                  <a:pt x="695" y="1880"/>
                </a:lnTo>
                <a:lnTo>
                  <a:pt x="699" y="1898"/>
                </a:lnTo>
                <a:lnTo>
                  <a:pt x="703" y="1916"/>
                </a:lnTo>
                <a:lnTo>
                  <a:pt x="705" y="1934"/>
                </a:lnTo>
                <a:lnTo>
                  <a:pt x="709" y="1952"/>
                </a:lnTo>
                <a:lnTo>
                  <a:pt x="711" y="1968"/>
                </a:lnTo>
                <a:lnTo>
                  <a:pt x="711" y="1986"/>
                </a:lnTo>
                <a:lnTo>
                  <a:pt x="711" y="2004"/>
                </a:lnTo>
                <a:lnTo>
                  <a:pt x="711" y="2022"/>
                </a:lnTo>
                <a:lnTo>
                  <a:pt x="711" y="2038"/>
                </a:lnTo>
                <a:lnTo>
                  <a:pt x="709" y="2056"/>
                </a:lnTo>
                <a:lnTo>
                  <a:pt x="705" y="2074"/>
                </a:lnTo>
                <a:lnTo>
                  <a:pt x="703" y="2092"/>
                </a:lnTo>
                <a:lnTo>
                  <a:pt x="699" y="2108"/>
                </a:lnTo>
                <a:lnTo>
                  <a:pt x="695" y="2128"/>
                </a:lnTo>
                <a:lnTo>
                  <a:pt x="690" y="2148"/>
                </a:lnTo>
                <a:lnTo>
                  <a:pt x="686" y="2166"/>
                </a:lnTo>
                <a:lnTo>
                  <a:pt x="682" y="2184"/>
                </a:lnTo>
                <a:lnTo>
                  <a:pt x="680" y="2202"/>
                </a:lnTo>
                <a:lnTo>
                  <a:pt x="676" y="2220"/>
                </a:lnTo>
                <a:lnTo>
                  <a:pt x="673" y="2238"/>
                </a:lnTo>
                <a:lnTo>
                  <a:pt x="669" y="2256"/>
                </a:lnTo>
                <a:lnTo>
                  <a:pt x="665" y="2276"/>
                </a:lnTo>
                <a:lnTo>
                  <a:pt x="661" y="2292"/>
                </a:lnTo>
                <a:lnTo>
                  <a:pt x="657" y="2312"/>
                </a:lnTo>
                <a:lnTo>
                  <a:pt x="654" y="2329"/>
                </a:lnTo>
                <a:lnTo>
                  <a:pt x="654" y="2347"/>
                </a:lnTo>
                <a:lnTo>
                  <a:pt x="652" y="2365"/>
                </a:lnTo>
                <a:lnTo>
                  <a:pt x="652" y="2383"/>
                </a:lnTo>
                <a:lnTo>
                  <a:pt x="654" y="2401"/>
                </a:lnTo>
                <a:lnTo>
                  <a:pt x="654" y="2418"/>
                </a:lnTo>
                <a:lnTo>
                  <a:pt x="655" y="2436"/>
                </a:lnTo>
                <a:lnTo>
                  <a:pt x="659" y="2452"/>
                </a:lnTo>
                <a:lnTo>
                  <a:pt x="661" y="2470"/>
                </a:lnTo>
                <a:lnTo>
                  <a:pt x="665" y="2486"/>
                </a:lnTo>
                <a:lnTo>
                  <a:pt x="667" y="2504"/>
                </a:lnTo>
                <a:lnTo>
                  <a:pt x="669" y="2520"/>
                </a:lnTo>
                <a:lnTo>
                  <a:pt x="673" y="2536"/>
                </a:lnTo>
                <a:lnTo>
                  <a:pt x="674" y="2553"/>
                </a:lnTo>
                <a:lnTo>
                  <a:pt x="674" y="2571"/>
                </a:lnTo>
                <a:lnTo>
                  <a:pt x="674" y="2588"/>
                </a:lnTo>
                <a:lnTo>
                  <a:pt x="673" y="2606"/>
                </a:lnTo>
                <a:lnTo>
                  <a:pt x="673" y="2623"/>
                </a:lnTo>
                <a:lnTo>
                  <a:pt x="673" y="2641"/>
                </a:lnTo>
                <a:lnTo>
                  <a:pt x="671" y="2659"/>
                </a:lnTo>
                <a:lnTo>
                  <a:pt x="669" y="2677"/>
                </a:lnTo>
                <a:lnTo>
                  <a:pt x="667" y="2693"/>
                </a:lnTo>
                <a:lnTo>
                  <a:pt x="663" y="2711"/>
                </a:lnTo>
                <a:lnTo>
                  <a:pt x="659" y="2729"/>
                </a:lnTo>
                <a:lnTo>
                  <a:pt x="655" y="2747"/>
                </a:lnTo>
                <a:lnTo>
                  <a:pt x="650" y="2763"/>
                </a:lnTo>
                <a:lnTo>
                  <a:pt x="644" y="2779"/>
                </a:lnTo>
                <a:lnTo>
                  <a:pt x="640" y="2795"/>
                </a:lnTo>
                <a:lnTo>
                  <a:pt x="635" y="2813"/>
                </a:lnTo>
                <a:lnTo>
                  <a:pt x="631" y="2828"/>
                </a:lnTo>
                <a:lnTo>
                  <a:pt x="625" y="2846"/>
                </a:lnTo>
                <a:lnTo>
                  <a:pt x="621" y="2862"/>
                </a:lnTo>
                <a:lnTo>
                  <a:pt x="617" y="2876"/>
                </a:lnTo>
                <a:lnTo>
                  <a:pt x="614" y="2894"/>
                </a:lnTo>
                <a:lnTo>
                  <a:pt x="610" y="2909"/>
                </a:lnTo>
                <a:lnTo>
                  <a:pt x="604" y="2927"/>
                </a:lnTo>
                <a:lnTo>
                  <a:pt x="602" y="2943"/>
                </a:lnTo>
                <a:lnTo>
                  <a:pt x="597" y="2959"/>
                </a:lnTo>
                <a:lnTo>
                  <a:pt x="595" y="2973"/>
                </a:lnTo>
                <a:lnTo>
                  <a:pt x="589" y="2991"/>
                </a:lnTo>
                <a:lnTo>
                  <a:pt x="587" y="3008"/>
                </a:lnTo>
                <a:lnTo>
                  <a:pt x="583" y="3024"/>
                </a:lnTo>
                <a:lnTo>
                  <a:pt x="579" y="3040"/>
                </a:lnTo>
                <a:lnTo>
                  <a:pt x="576" y="3056"/>
                </a:lnTo>
                <a:lnTo>
                  <a:pt x="572" y="3072"/>
                </a:lnTo>
                <a:lnTo>
                  <a:pt x="568" y="3090"/>
                </a:lnTo>
                <a:lnTo>
                  <a:pt x="564" y="3106"/>
                </a:lnTo>
                <a:lnTo>
                  <a:pt x="560" y="3123"/>
                </a:lnTo>
                <a:lnTo>
                  <a:pt x="557" y="3139"/>
                </a:lnTo>
                <a:lnTo>
                  <a:pt x="553" y="3155"/>
                </a:lnTo>
                <a:lnTo>
                  <a:pt x="549" y="3173"/>
                </a:lnTo>
                <a:lnTo>
                  <a:pt x="545" y="3189"/>
                </a:lnTo>
                <a:lnTo>
                  <a:pt x="541" y="3205"/>
                </a:lnTo>
                <a:lnTo>
                  <a:pt x="538" y="3223"/>
                </a:lnTo>
                <a:lnTo>
                  <a:pt x="534" y="3240"/>
                </a:lnTo>
                <a:lnTo>
                  <a:pt x="528" y="3263"/>
                </a:lnTo>
                <a:lnTo>
                  <a:pt x="528" y="3288"/>
                </a:lnTo>
                <a:lnTo>
                  <a:pt x="524" y="3310"/>
                </a:lnTo>
                <a:lnTo>
                  <a:pt x="521" y="3326"/>
                </a:lnTo>
                <a:lnTo>
                  <a:pt x="513" y="3357"/>
                </a:lnTo>
                <a:lnTo>
                  <a:pt x="509" y="3373"/>
                </a:lnTo>
                <a:lnTo>
                  <a:pt x="502" y="3387"/>
                </a:lnTo>
                <a:lnTo>
                  <a:pt x="494" y="3403"/>
                </a:lnTo>
                <a:lnTo>
                  <a:pt x="486" y="3419"/>
                </a:lnTo>
                <a:lnTo>
                  <a:pt x="479" y="3436"/>
                </a:lnTo>
                <a:lnTo>
                  <a:pt x="473" y="3452"/>
                </a:lnTo>
                <a:lnTo>
                  <a:pt x="467" y="3470"/>
                </a:lnTo>
                <a:lnTo>
                  <a:pt x="462" y="3486"/>
                </a:lnTo>
                <a:lnTo>
                  <a:pt x="458" y="3502"/>
                </a:lnTo>
                <a:lnTo>
                  <a:pt x="454" y="3518"/>
                </a:lnTo>
                <a:lnTo>
                  <a:pt x="450" y="3536"/>
                </a:lnTo>
                <a:lnTo>
                  <a:pt x="448" y="3553"/>
                </a:lnTo>
                <a:lnTo>
                  <a:pt x="445" y="3571"/>
                </a:lnTo>
                <a:lnTo>
                  <a:pt x="445" y="3587"/>
                </a:lnTo>
                <a:lnTo>
                  <a:pt x="443" y="3605"/>
                </a:lnTo>
                <a:lnTo>
                  <a:pt x="443" y="3621"/>
                </a:lnTo>
                <a:lnTo>
                  <a:pt x="443" y="3633"/>
                </a:lnTo>
                <a:lnTo>
                  <a:pt x="441" y="3646"/>
                </a:lnTo>
                <a:lnTo>
                  <a:pt x="441" y="3660"/>
                </a:lnTo>
                <a:lnTo>
                  <a:pt x="439" y="3673"/>
                </a:lnTo>
                <a:lnTo>
                  <a:pt x="435" y="3687"/>
                </a:lnTo>
                <a:lnTo>
                  <a:pt x="435" y="3700"/>
                </a:lnTo>
                <a:lnTo>
                  <a:pt x="431" y="3723"/>
                </a:lnTo>
                <a:lnTo>
                  <a:pt x="429" y="3747"/>
                </a:lnTo>
                <a:lnTo>
                  <a:pt x="426" y="3767"/>
                </a:lnTo>
                <a:lnTo>
                  <a:pt x="422" y="3786"/>
                </a:lnTo>
                <a:lnTo>
                  <a:pt x="422" y="3803"/>
                </a:lnTo>
                <a:lnTo>
                  <a:pt x="418" y="3819"/>
                </a:lnTo>
                <a:lnTo>
                  <a:pt x="416" y="3833"/>
                </a:lnTo>
                <a:lnTo>
                  <a:pt x="414" y="3855"/>
                </a:lnTo>
                <a:lnTo>
                  <a:pt x="410" y="3876"/>
                </a:lnTo>
                <a:lnTo>
                  <a:pt x="408" y="3894"/>
                </a:lnTo>
                <a:lnTo>
                  <a:pt x="403" y="3912"/>
                </a:lnTo>
                <a:lnTo>
                  <a:pt x="401" y="3930"/>
                </a:lnTo>
                <a:lnTo>
                  <a:pt x="397" y="3950"/>
                </a:lnTo>
                <a:lnTo>
                  <a:pt x="395" y="3968"/>
                </a:lnTo>
                <a:lnTo>
                  <a:pt x="393" y="3988"/>
                </a:lnTo>
                <a:lnTo>
                  <a:pt x="391" y="4006"/>
                </a:lnTo>
                <a:lnTo>
                  <a:pt x="388" y="4026"/>
                </a:lnTo>
                <a:lnTo>
                  <a:pt x="386" y="4044"/>
                </a:lnTo>
                <a:lnTo>
                  <a:pt x="386" y="4047"/>
                </a:lnTo>
                <a:lnTo>
                  <a:pt x="386" y="4062"/>
                </a:lnTo>
                <a:lnTo>
                  <a:pt x="386" y="4080"/>
                </a:lnTo>
                <a:lnTo>
                  <a:pt x="386" y="4103"/>
                </a:lnTo>
                <a:lnTo>
                  <a:pt x="386" y="4132"/>
                </a:lnTo>
                <a:lnTo>
                  <a:pt x="386" y="4159"/>
                </a:lnTo>
                <a:lnTo>
                  <a:pt x="386" y="4186"/>
                </a:lnTo>
                <a:lnTo>
                  <a:pt x="386" y="4209"/>
                </a:lnTo>
                <a:lnTo>
                  <a:pt x="386" y="4229"/>
                </a:lnTo>
                <a:lnTo>
                  <a:pt x="386" y="4241"/>
                </a:lnTo>
                <a:lnTo>
                  <a:pt x="386" y="4245"/>
                </a:lnTo>
                <a:lnTo>
                  <a:pt x="391" y="4261"/>
                </a:lnTo>
                <a:lnTo>
                  <a:pt x="399" y="4276"/>
                </a:lnTo>
                <a:lnTo>
                  <a:pt x="405" y="4288"/>
                </a:lnTo>
                <a:lnTo>
                  <a:pt x="414" y="4301"/>
                </a:lnTo>
                <a:lnTo>
                  <a:pt x="424" y="4313"/>
                </a:lnTo>
                <a:lnTo>
                  <a:pt x="435" y="4326"/>
                </a:lnTo>
                <a:lnTo>
                  <a:pt x="446" y="4335"/>
                </a:lnTo>
                <a:lnTo>
                  <a:pt x="460" y="4346"/>
                </a:lnTo>
                <a:lnTo>
                  <a:pt x="471" y="4355"/>
                </a:lnTo>
                <a:lnTo>
                  <a:pt x="486" y="4364"/>
                </a:lnTo>
                <a:lnTo>
                  <a:pt x="500" y="4373"/>
                </a:lnTo>
                <a:lnTo>
                  <a:pt x="515" y="4382"/>
                </a:lnTo>
                <a:lnTo>
                  <a:pt x="530" y="4389"/>
                </a:lnTo>
                <a:lnTo>
                  <a:pt x="545" y="4396"/>
                </a:lnTo>
                <a:lnTo>
                  <a:pt x="562" y="4403"/>
                </a:lnTo>
                <a:lnTo>
                  <a:pt x="578" y="4410"/>
                </a:lnTo>
                <a:lnTo>
                  <a:pt x="595" y="4418"/>
                </a:lnTo>
                <a:lnTo>
                  <a:pt x="610" y="4425"/>
                </a:lnTo>
                <a:lnTo>
                  <a:pt x="627" y="4432"/>
                </a:lnTo>
                <a:lnTo>
                  <a:pt x="644" y="4437"/>
                </a:lnTo>
                <a:lnTo>
                  <a:pt x="659" y="4445"/>
                </a:lnTo>
                <a:lnTo>
                  <a:pt x="674" y="4450"/>
                </a:lnTo>
                <a:lnTo>
                  <a:pt x="692" y="4457"/>
                </a:lnTo>
                <a:lnTo>
                  <a:pt x="707" y="4464"/>
                </a:lnTo>
                <a:lnTo>
                  <a:pt x="724" y="4473"/>
                </a:lnTo>
                <a:lnTo>
                  <a:pt x="741" y="4482"/>
                </a:lnTo>
                <a:lnTo>
                  <a:pt x="758" y="4493"/>
                </a:lnTo>
                <a:lnTo>
                  <a:pt x="775" y="4506"/>
                </a:lnTo>
                <a:lnTo>
                  <a:pt x="788" y="4520"/>
                </a:lnTo>
                <a:lnTo>
                  <a:pt x="798" y="4535"/>
                </a:lnTo>
                <a:lnTo>
                  <a:pt x="781" y="4538"/>
                </a:lnTo>
                <a:lnTo>
                  <a:pt x="764" y="4542"/>
                </a:lnTo>
                <a:lnTo>
                  <a:pt x="747" y="4544"/>
                </a:lnTo>
                <a:lnTo>
                  <a:pt x="731" y="4545"/>
                </a:lnTo>
                <a:lnTo>
                  <a:pt x="712" y="4547"/>
                </a:lnTo>
                <a:lnTo>
                  <a:pt x="695" y="4549"/>
                </a:lnTo>
                <a:lnTo>
                  <a:pt x="678" y="4551"/>
                </a:lnTo>
                <a:lnTo>
                  <a:pt x="661" y="4551"/>
                </a:lnTo>
                <a:lnTo>
                  <a:pt x="644" y="4551"/>
                </a:lnTo>
                <a:lnTo>
                  <a:pt x="625" y="4551"/>
                </a:lnTo>
                <a:lnTo>
                  <a:pt x="608" y="4551"/>
                </a:lnTo>
                <a:lnTo>
                  <a:pt x="591" y="4551"/>
                </a:lnTo>
                <a:lnTo>
                  <a:pt x="572" y="4549"/>
                </a:lnTo>
                <a:lnTo>
                  <a:pt x="555" y="4549"/>
                </a:lnTo>
                <a:lnTo>
                  <a:pt x="536" y="4549"/>
                </a:lnTo>
                <a:lnTo>
                  <a:pt x="519" y="4547"/>
                </a:lnTo>
                <a:lnTo>
                  <a:pt x="502" y="4547"/>
                </a:lnTo>
                <a:lnTo>
                  <a:pt x="483" y="4545"/>
                </a:lnTo>
                <a:lnTo>
                  <a:pt x="465" y="4545"/>
                </a:lnTo>
                <a:lnTo>
                  <a:pt x="446" y="4544"/>
                </a:lnTo>
                <a:lnTo>
                  <a:pt x="429" y="4544"/>
                </a:lnTo>
                <a:lnTo>
                  <a:pt x="412" y="4544"/>
                </a:lnTo>
                <a:lnTo>
                  <a:pt x="395" y="4542"/>
                </a:lnTo>
                <a:lnTo>
                  <a:pt x="376" y="4542"/>
                </a:lnTo>
                <a:lnTo>
                  <a:pt x="359" y="4542"/>
                </a:lnTo>
                <a:lnTo>
                  <a:pt x="342" y="4544"/>
                </a:lnTo>
                <a:lnTo>
                  <a:pt x="323" y="4544"/>
                </a:lnTo>
                <a:lnTo>
                  <a:pt x="304" y="4544"/>
                </a:lnTo>
                <a:lnTo>
                  <a:pt x="287" y="4544"/>
                </a:lnTo>
                <a:lnTo>
                  <a:pt x="268" y="4544"/>
                </a:lnTo>
                <a:lnTo>
                  <a:pt x="249" y="4544"/>
                </a:lnTo>
                <a:lnTo>
                  <a:pt x="230" y="4544"/>
                </a:lnTo>
                <a:lnTo>
                  <a:pt x="213" y="4542"/>
                </a:lnTo>
                <a:lnTo>
                  <a:pt x="194" y="4540"/>
                </a:lnTo>
                <a:lnTo>
                  <a:pt x="175" y="4538"/>
                </a:lnTo>
                <a:lnTo>
                  <a:pt x="156" y="4535"/>
                </a:lnTo>
                <a:lnTo>
                  <a:pt x="139" y="4531"/>
                </a:lnTo>
                <a:lnTo>
                  <a:pt x="122" y="4527"/>
                </a:lnTo>
                <a:lnTo>
                  <a:pt x="106" y="4518"/>
                </a:lnTo>
                <a:lnTo>
                  <a:pt x="99" y="4499"/>
                </a:lnTo>
                <a:lnTo>
                  <a:pt x="95" y="4481"/>
                </a:lnTo>
                <a:lnTo>
                  <a:pt x="97" y="4463"/>
                </a:lnTo>
                <a:lnTo>
                  <a:pt x="99" y="4445"/>
                </a:lnTo>
                <a:lnTo>
                  <a:pt x="103" y="4425"/>
                </a:lnTo>
                <a:lnTo>
                  <a:pt x="106" y="4405"/>
                </a:lnTo>
                <a:lnTo>
                  <a:pt x="110" y="4387"/>
                </a:lnTo>
                <a:lnTo>
                  <a:pt x="116" y="4367"/>
                </a:lnTo>
                <a:lnTo>
                  <a:pt x="123" y="4349"/>
                </a:lnTo>
                <a:lnTo>
                  <a:pt x="129" y="4331"/>
                </a:lnTo>
                <a:lnTo>
                  <a:pt x="135" y="4313"/>
                </a:lnTo>
                <a:lnTo>
                  <a:pt x="137" y="4295"/>
                </a:lnTo>
                <a:lnTo>
                  <a:pt x="139" y="4276"/>
                </a:lnTo>
                <a:lnTo>
                  <a:pt x="139" y="4258"/>
                </a:lnTo>
                <a:lnTo>
                  <a:pt x="137" y="4238"/>
                </a:lnTo>
                <a:lnTo>
                  <a:pt x="135" y="4220"/>
                </a:lnTo>
                <a:lnTo>
                  <a:pt x="133" y="4202"/>
                </a:lnTo>
                <a:lnTo>
                  <a:pt x="129" y="4184"/>
                </a:lnTo>
                <a:lnTo>
                  <a:pt x="127" y="4166"/>
                </a:lnTo>
                <a:lnTo>
                  <a:pt x="125" y="4150"/>
                </a:lnTo>
                <a:lnTo>
                  <a:pt x="123" y="4132"/>
                </a:lnTo>
                <a:lnTo>
                  <a:pt x="122" y="4116"/>
                </a:lnTo>
                <a:lnTo>
                  <a:pt x="120" y="4099"/>
                </a:lnTo>
                <a:lnTo>
                  <a:pt x="118" y="4081"/>
                </a:lnTo>
                <a:lnTo>
                  <a:pt x="116" y="4065"/>
                </a:lnTo>
                <a:lnTo>
                  <a:pt x="114" y="4049"/>
                </a:lnTo>
                <a:lnTo>
                  <a:pt x="110" y="4033"/>
                </a:lnTo>
                <a:lnTo>
                  <a:pt x="108" y="4017"/>
                </a:lnTo>
                <a:lnTo>
                  <a:pt x="106" y="3999"/>
                </a:lnTo>
                <a:lnTo>
                  <a:pt x="103" y="3982"/>
                </a:lnTo>
                <a:lnTo>
                  <a:pt x="101" y="3966"/>
                </a:lnTo>
                <a:lnTo>
                  <a:pt x="99" y="3950"/>
                </a:lnTo>
                <a:lnTo>
                  <a:pt x="95" y="3934"/>
                </a:lnTo>
                <a:lnTo>
                  <a:pt x="93" y="3918"/>
                </a:lnTo>
                <a:lnTo>
                  <a:pt x="91" y="3901"/>
                </a:lnTo>
                <a:lnTo>
                  <a:pt x="87" y="3885"/>
                </a:lnTo>
                <a:lnTo>
                  <a:pt x="85" y="3867"/>
                </a:lnTo>
                <a:lnTo>
                  <a:pt x="84" y="3851"/>
                </a:lnTo>
                <a:lnTo>
                  <a:pt x="82" y="3835"/>
                </a:lnTo>
                <a:lnTo>
                  <a:pt x="78" y="3819"/>
                </a:lnTo>
                <a:lnTo>
                  <a:pt x="76" y="3803"/>
                </a:lnTo>
                <a:lnTo>
                  <a:pt x="74" y="3786"/>
                </a:lnTo>
                <a:lnTo>
                  <a:pt x="72" y="3768"/>
                </a:lnTo>
                <a:lnTo>
                  <a:pt x="70" y="3752"/>
                </a:lnTo>
                <a:lnTo>
                  <a:pt x="68" y="3736"/>
                </a:lnTo>
                <a:lnTo>
                  <a:pt x="66" y="3718"/>
                </a:lnTo>
                <a:lnTo>
                  <a:pt x="65" y="3702"/>
                </a:lnTo>
                <a:lnTo>
                  <a:pt x="63" y="3684"/>
                </a:lnTo>
                <a:lnTo>
                  <a:pt x="63" y="3664"/>
                </a:lnTo>
                <a:lnTo>
                  <a:pt x="63" y="3644"/>
                </a:lnTo>
                <a:lnTo>
                  <a:pt x="63" y="3624"/>
                </a:lnTo>
                <a:lnTo>
                  <a:pt x="65" y="3605"/>
                </a:lnTo>
                <a:lnTo>
                  <a:pt x="66" y="3585"/>
                </a:lnTo>
                <a:lnTo>
                  <a:pt x="68" y="3563"/>
                </a:lnTo>
                <a:lnTo>
                  <a:pt x="72" y="3544"/>
                </a:lnTo>
                <a:lnTo>
                  <a:pt x="72" y="3538"/>
                </a:lnTo>
                <a:lnTo>
                  <a:pt x="76" y="3526"/>
                </a:lnTo>
                <a:lnTo>
                  <a:pt x="78" y="3520"/>
                </a:lnTo>
                <a:lnTo>
                  <a:pt x="87" y="3466"/>
                </a:lnTo>
                <a:lnTo>
                  <a:pt x="89" y="3461"/>
                </a:lnTo>
                <a:lnTo>
                  <a:pt x="93" y="3445"/>
                </a:lnTo>
                <a:lnTo>
                  <a:pt x="101" y="3421"/>
                </a:lnTo>
                <a:lnTo>
                  <a:pt x="108" y="3396"/>
                </a:lnTo>
                <a:lnTo>
                  <a:pt x="116" y="3371"/>
                </a:lnTo>
                <a:lnTo>
                  <a:pt x="123" y="3348"/>
                </a:lnTo>
                <a:lnTo>
                  <a:pt x="127" y="3331"/>
                </a:lnTo>
                <a:lnTo>
                  <a:pt x="129" y="3326"/>
                </a:lnTo>
                <a:lnTo>
                  <a:pt x="133" y="3306"/>
                </a:lnTo>
                <a:lnTo>
                  <a:pt x="133" y="3285"/>
                </a:lnTo>
                <a:lnTo>
                  <a:pt x="129" y="3263"/>
                </a:lnTo>
                <a:lnTo>
                  <a:pt x="125" y="3240"/>
                </a:lnTo>
                <a:lnTo>
                  <a:pt x="122" y="3216"/>
                </a:lnTo>
                <a:lnTo>
                  <a:pt x="120" y="3200"/>
                </a:lnTo>
                <a:lnTo>
                  <a:pt x="118" y="3184"/>
                </a:lnTo>
                <a:lnTo>
                  <a:pt x="118" y="3168"/>
                </a:lnTo>
                <a:lnTo>
                  <a:pt x="116" y="3150"/>
                </a:lnTo>
                <a:lnTo>
                  <a:pt x="116" y="3133"/>
                </a:lnTo>
                <a:lnTo>
                  <a:pt x="114" y="3117"/>
                </a:lnTo>
                <a:lnTo>
                  <a:pt x="114" y="3099"/>
                </a:lnTo>
                <a:lnTo>
                  <a:pt x="112" y="3083"/>
                </a:lnTo>
                <a:lnTo>
                  <a:pt x="110" y="3067"/>
                </a:lnTo>
                <a:lnTo>
                  <a:pt x="110" y="3049"/>
                </a:lnTo>
                <a:lnTo>
                  <a:pt x="108" y="3033"/>
                </a:lnTo>
                <a:lnTo>
                  <a:pt x="108" y="3015"/>
                </a:lnTo>
                <a:lnTo>
                  <a:pt x="106" y="2999"/>
                </a:lnTo>
                <a:lnTo>
                  <a:pt x="106" y="2982"/>
                </a:lnTo>
                <a:lnTo>
                  <a:pt x="104" y="2964"/>
                </a:lnTo>
                <a:lnTo>
                  <a:pt x="104" y="2948"/>
                </a:lnTo>
                <a:lnTo>
                  <a:pt x="103" y="2930"/>
                </a:lnTo>
                <a:lnTo>
                  <a:pt x="103" y="2914"/>
                </a:lnTo>
                <a:lnTo>
                  <a:pt x="103" y="2898"/>
                </a:lnTo>
                <a:lnTo>
                  <a:pt x="103" y="2880"/>
                </a:lnTo>
                <a:lnTo>
                  <a:pt x="103" y="2864"/>
                </a:lnTo>
                <a:lnTo>
                  <a:pt x="103" y="2847"/>
                </a:lnTo>
                <a:lnTo>
                  <a:pt x="103" y="2830"/>
                </a:lnTo>
                <a:lnTo>
                  <a:pt x="103" y="2813"/>
                </a:lnTo>
                <a:lnTo>
                  <a:pt x="103" y="2797"/>
                </a:lnTo>
                <a:lnTo>
                  <a:pt x="103" y="2781"/>
                </a:lnTo>
                <a:lnTo>
                  <a:pt x="104" y="2763"/>
                </a:lnTo>
                <a:lnTo>
                  <a:pt x="104" y="2747"/>
                </a:lnTo>
                <a:lnTo>
                  <a:pt x="106" y="2729"/>
                </a:lnTo>
                <a:lnTo>
                  <a:pt x="106" y="2711"/>
                </a:lnTo>
                <a:lnTo>
                  <a:pt x="108" y="2691"/>
                </a:lnTo>
                <a:lnTo>
                  <a:pt x="110" y="2673"/>
                </a:lnTo>
                <a:lnTo>
                  <a:pt x="110" y="2655"/>
                </a:lnTo>
                <a:lnTo>
                  <a:pt x="112" y="2635"/>
                </a:lnTo>
                <a:lnTo>
                  <a:pt x="112" y="2619"/>
                </a:lnTo>
                <a:lnTo>
                  <a:pt x="110" y="2601"/>
                </a:lnTo>
                <a:lnTo>
                  <a:pt x="108" y="2585"/>
                </a:lnTo>
                <a:lnTo>
                  <a:pt x="104" y="2569"/>
                </a:lnTo>
                <a:lnTo>
                  <a:pt x="99" y="2556"/>
                </a:lnTo>
                <a:lnTo>
                  <a:pt x="89" y="2544"/>
                </a:lnTo>
                <a:lnTo>
                  <a:pt x="78" y="2529"/>
                </a:lnTo>
                <a:lnTo>
                  <a:pt x="68" y="2517"/>
                </a:lnTo>
                <a:lnTo>
                  <a:pt x="55" y="2500"/>
                </a:lnTo>
                <a:lnTo>
                  <a:pt x="44" y="2486"/>
                </a:lnTo>
                <a:lnTo>
                  <a:pt x="34" y="2470"/>
                </a:lnTo>
                <a:lnTo>
                  <a:pt x="25" y="2454"/>
                </a:lnTo>
                <a:lnTo>
                  <a:pt x="17" y="2437"/>
                </a:lnTo>
                <a:lnTo>
                  <a:pt x="13" y="2421"/>
                </a:lnTo>
                <a:lnTo>
                  <a:pt x="11" y="2414"/>
                </a:lnTo>
                <a:lnTo>
                  <a:pt x="8" y="2403"/>
                </a:lnTo>
                <a:lnTo>
                  <a:pt x="4" y="2398"/>
                </a:lnTo>
                <a:lnTo>
                  <a:pt x="2" y="2378"/>
                </a:lnTo>
                <a:lnTo>
                  <a:pt x="0" y="2360"/>
                </a:lnTo>
                <a:lnTo>
                  <a:pt x="0" y="2340"/>
                </a:lnTo>
                <a:lnTo>
                  <a:pt x="0" y="2322"/>
                </a:lnTo>
                <a:lnTo>
                  <a:pt x="0" y="2303"/>
                </a:lnTo>
                <a:lnTo>
                  <a:pt x="2" y="2283"/>
                </a:lnTo>
                <a:lnTo>
                  <a:pt x="4" y="2263"/>
                </a:lnTo>
                <a:lnTo>
                  <a:pt x="8" y="2245"/>
                </a:lnTo>
                <a:lnTo>
                  <a:pt x="13" y="2227"/>
                </a:lnTo>
                <a:lnTo>
                  <a:pt x="19" y="2209"/>
                </a:lnTo>
                <a:lnTo>
                  <a:pt x="27" y="2193"/>
                </a:lnTo>
                <a:lnTo>
                  <a:pt x="36" y="2175"/>
                </a:lnTo>
                <a:lnTo>
                  <a:pt x="44" y="2159"/>
                </a:lnTo>
                <a:lnTo>
                  <a:pt x="51" y="2142"/>
                </a:lnTo>
                <a:lnTo>
                  <a:pt x="61" y="2126"/>
                </a:lnTo>
                <a:lnTo>
                  <a:pt x="68" y="2110"/>
                </a:lnTo>
                <a:lnTo>
                  <a:pt x="76" y="2094"/>
                </a:lnTo>
                <a:lnTo>
                  <a:pt x="84" y="2078"/>
                </a:lnTo>
                <a:lnTo>
                  <a:pt x="91" y="2060"/>
                </a:lnTo>
                <a:lnTo>
                  <a:pt x="97" y="2044"/>
                </a:lnTo>
                <a:lnTo>
                  <a:pt x="103" y="2027"/>
                </a:lnTo>
                <a:lnTo>
                  <a:pt x="106" y="2011"/>
                </a:lnTo>
                <a:lnTo>
                  <a:pt x="110" y="1993"/>
                </a:lnTo>
                <a:lnTo>
                  <a:pt x="112" y="1977"/>
                </a:lnTo>
                <a:lnTo>
                  <a:pt x="114" y="1959"/>
                </a:lnTo>
                <a:lnTo>
                  <a:pt x="116" y="1941"/>
                </a:lnTo>
                <a:lnTo>
                  <a:pt x="118" y="1925"/>
                </a:lnTo>
                <a:lnTo>
                  <a:pt x="120" y="1907"/>
                </a:lnTo>
                <a:lnTo>
                  <a:pt x="122" y="1891"/>
                </a:lnTo>
                <a:lnTo>
                  <a:pt x="122" y="1873"/>
                </a:lnTo>
                <a:lnTo>
                  <a:pt x="123" y="1856"/>
                </a:lnTo>
                <a:lnTo>
                  <a:pt x="123" y="1838"/>
                </a:lnTo>
                <a:lnTo>
                  <a:pt x="123" y="1820"/>
                </a:lnTo>
                <a:lnTo>
                  <a:pt x="125" y="1804"/>
                </a:lnTo>
                <a:lnTo>
                  <a:pt x="125" y="1786"/>
                </a:lnTo>
                <a:lnTo>
                  <a:pt x="125" y="1770"/>
                </a:lnTo>
                <a:lnTo>
                  <a:pt x="125" y="1752"/>
                </a:lnTo>
                <a:lnTo>
                  <a:pt x="125" y="1736"/>
                </a:lnTo>
                <a:lnTo>
                  <a:pt x="123" y="1718"/>
                </a:lnTo>
                <a:lnTo>
                  <a:pt x="123" y="1702"/>
                </a:lnTo>
                <a:lnTo>
                  <a:pt x="123" y="1684"/>
                </a:lnTo>
                <a:lnTo>
                  <a:pt x="122" y="1668"/>
                </a:lnTo>
                <a:lnTo>
                  <a:pt x="122" y="1650"/>
                </a:lnTo>
                <a:lnTo>
                  <a:pt x="120" y="1633"/>
                </a:lnTo>
                <a:lnTo>
                  <a:pt x="118" y="1615"/>
                </a:lnTo>
                <a:lnTo>
                  <a:pt x="116" y="1597"/>
                </a:lnTo>
                <a:lnTo>
                  <a:pt x="114" y="1581"/>
                </a:lnTo>
                <a:lnTo>
                  <a:pt x="112" y="1563"/>
                </a:lnTo>
                <a:lnTo>
                  <a:pt x="110" y="1545"/>
                </a:lnTo>
                <a:lnTo>
                  <a:pt x="108" y="1529"/>
                </a:lnTo>
                <a:lnTo>
                  <a:pt x="104" y="1511"/>
                </a:lnTo>
                <a:lnTo>
                  <a:pt x="103" y="1495"/>
                </a:lnTo>
                <a:lnTo>
                  <a:pt x="99" y="1477"/>
                </a:lnTo>
                <a:lnTo>
                  <a:pt x="95" y="1461"/>
                </a:lnTo>
                <a:lnTo>
                  <a:pt x="91" y="1445"/>
                </a:lnTo>
                <a:lnTo>
                  <a:pt x="87" y="1427"/>
                </a:lnTo>
                <a:lnTo>
                  <a:pt x="85" y="1410"/>
                </a:lnTo>
                <a:lnTo>
                  <a:pt x="82" y="1394"/>
                </a:lnTo>
                <a:lnTo>
                  <a:pt x="78" y="1378"/>
                </a:lnTo>
                <a:lnTo>
                  <a:pt x="74" y="1360"/>
                </a:lnTo>
                <a:lnTo>
                  <a:pt x="70" y="1344"/>
                </a:lnTo>
                <a:lnTo>
                  <a:pt x="68" y="1328"/>
                </a:lnTo>
                <a:lnTo>
                  <a:pt x="65" y="1311"/>
                </a:lnTo>
                <a:lnTo>
                  <a:pt x="63" y="1293"/>
                </a:lnTo>
                <a:lnTo>
                  <a:pt x="61" y="1277"/>
                </a:lnTo>
                <a:lnTo>
                  <a:pt x="57" y="1261"/>
                </a:lnTo>
                <a:lnTo>
                  <a:pt x="57" y="1243"/>
                </a:lnTo>
                <a:lnTo>
                  <a:pt x="55" y="1227"/>
                </a:lnTo>
                <a:lnTo>
                  <a:pt x="55" y="1209"/>
                </a:lnTo>
                <a:lnTo>
                  <a:pt x="53" y="1193"/>
                </a:lnTo>
                <a:lnTo>
                  <a:pt x="53" y="1175"/>
                </a:lnTo>
                <a:lnTo>
                  <a:pt x="55" y="1159"/>
                </a:lnTo>
                <a:lnTo>
                  <a:pt x="55" y="1141"/>
                </a:lnTo>
                <a:lnTo>
                  <a:pt x="57" y="1124"/>
                </a:lnTo>
                <a:lnTo>
                  <a:pt x="57" y="1108"/>
                </a:lnTo>
                <a:lnTo>
                  <a:pt x="61" y="1090"/>
                </a:lnTo>
                <a:lnTo>
                  <a:pt x="63" y="1074"/>
                </a:lnTo>
                <a:lnTo>
                  <a:pt x="66" y="1060"/>
                </a:lnTo>
                <a:lnTo>
                  <a:pt x="70" y="1042"/>
                </a:lnTo>
                <a:lnTo>
                  <a:pt x="74" y="1027"/>
                </a:lnTo>
                <a:lnTo>
                  <a:pt x="80" y="1011"/>
                </a:lnTo>
                <a:lnTo>
                  <a:pt x="85" y="995"/>
                </a:lnTo>
                <a:lnTo>
                  <a:pt x="91" y="979"/>
                </a:lnTo>
                <a:lnTo>
                  <a:pt x="97" y="964"/>
                </a:lnTo>
                <a:lnTo>
                  <a:pt x="103" y="948"/>
                </a:lnTo>
                <a:lnTo>
                  <a:pt x="110" y="932"/>
                </a:lnTo>
                <a:lnTo>
                  <a:pt x="118" y="918"/>
                </a:lnTo>
                <a:lnTo>
                  <a:pt x="123" y="901"/>
                </a:lnTo>
                <a:lnTo>
                  <a:pt x="131" y="885"/>
                </a:lnTo>
                <a:lnTo>
                  <a:pt x="139" y="871"/>
                </a:lnTo>
                <a:lnTo>
                  <a:pt x="146" y="855"/>
                </a:lnTo>
                <a:lnTo>
                  <a:pt x="154" y="838"/>
                </a:lnTo>
                <a:lnTo>
                  <a:pt x="161" y="822"/>
                </a:lnTo>
                <a:lnTo>
                  <a:pt x="171" y="806"/>
                </a:lnTo>
                <a:lnTo>
                  <a:pt x="171" y="792"/>
                </a:lnTo>
                <a:lnTo>
                  <a:pt x="163" y="781"/>
                </a:lnTo>
                <a:lnTo>
                  <a:pt x="154" y="775"/>
                </a:lnTo>
                <a:lnTo>
                  <a:pt x="137" y="777"/>
                </a:lnTo>
                <a:lnTo>
                  <a:pt x="118" y="775"/>
                </a:lnTo>
                <a:lnTo>
                  <a:pt x="99" y="774"/>
                </a:lnTo>
                <a:lnTo>
                  <a:pt x="80" y="768"/>
                </a:lnTo>
                <a:lnTo>
                  <a:pt x="65" y="761"/>
                </a:lnTo>
                <a:lnTo>
                  <a:pt x="49" y="752"/>
                </a:lnTo>
                <a:lnTo>
                  <a:pt x="36" y="741"/>
                </a:lnTo>
                <a:lnTo>
                  <a:pt x="27" y="727"/>
                </a:lnTo>
                <a:lnTo>
                  <a:pt x="21" y="713"/>
                </a:lnTo>
                <a:lnTo>
                  <a:pt x="15" y="695"/>
                </a:lnTo>
                <a:lnTo>
                  <a:pt x="11" y="675"/>
                </a:lnTo>
                <a:lnTo>
                  <a:pt x="9" y="655"/>
                </a:lnTo>
                <a:lnTo>
                  <a:pt x="13" y="635"/>
                </a:lnTo>
                <a:lnTo>
                  <a:pt x="23" y="619"/>
                </a:lnTo>
                <a:lnTo>
                  <a:pt x="32" y="603"/>
                </a:lnTo>
                <a:lnTo>
                  <a:pt x="42" y="587"/>
                </a:lnTo>
                <a:lnTo>
                  <a:pt x="53" y="570"/>
                </a:lnTo>
                <a:lnTo>
                  <a:pt x="63" y="552"/>
                </a:lnTo>
                <a:lnTo>
                  <a:pt x="72" y="533"/>
                </a:lnTo>
                <a:lnTo>
                  <a:pt x="74" y="515"/>
                </a:lnTo>
                <a:lnTo>
                  <a:pt x="72" y="495"/>
                </a:lnTo>
                <a:lnTo>
                  <a:pt x="68" y="475"/>
                </a:lnTo>
                <a:lnTo>
                  <a:pt x="63" y="455"/>
                </a:lnTo>
                <a:lnTo>
                  <a:pt x="59" y="439"/>
                </a:lnTo>
                <a:lnTo>
                  <a:pt x="55" y="423"/>
                </a:lnTo>
                <a:lnTo>
                  <a:pt x="53" y="407"/>
                </a:lnTo>
                <a:lnTo>
                  <a:pt x="49" y="391"/>
                </a:lnTo>
                <a:lnTo>
                  <a:pt x="46" y="373"/>
                </a:lnTo>
                <a:lnTo>
                  <a:pt x="42" y="356"/>
                </a:lnTo>
                <a:lnTo>
                  <a:pt x="40" y="342"/>
                </a:lnTo>
                <a:lnTo>
                  <a:pt x="38" y="324"/>
                </a:lnTo>
                <a:lnTo>
                  <a:pt x="36" y="310"/>
                </a:lnTo>
                <a:lnTo>
                  <a:pt x="34" y="293"/>
                </a:lnTo>
                <a:lnTo>
                  <a:pt x="34" y="277"/>
                </a:lnTo>
                <a:lnTo>
                  <a:pt x="34" y="261"/>
                </a:lnTo>
                <a:lnTo>
                  <a:pt x="34" y="245"/>
                </a:lnTo>
                <a:lnTo>
                  <a:pt x="36" y="231"/>
                </a:lnTo>
                <a:lnTo>
                  <a:pt x="40" y="214"/>
                </a:lnTo>
                <a:lnTo>
                  <a:pt x="44" y="198"/>
                </a:lnTo>
                <a:lnTo>
                  <a:pt x="47" y="182"/>
                </a:lnTo>
                <a:lnTo>
                  <a:pt x="53" y="168"/>
                </a:lnTo>
                <a:lnTo>
                  <a:pt x="61" y="151"/>
                </a:lnTo>
                <a:lnTo>
                  <a:pt x="70" y="135"/>
                </a:lnTo>
                <a:lnTo>
                  <a:pt x="80" y="121"/>
                </a:lnTo>
                <a:lnTo>
                  <a:pt x="89" y="106"/>
                </a:lnTo>
                <a:lnTo>
                  <a:pt x="101" y="94"/>
                </a:lnTo>
                <a:lnTo>
                  <a:pt x="110" y="81"/>
                </a:lnTo>
                <a:lnTo>
                  <a:pt x="123" y="70"/>
                </a:lnTo>
                <a:lnTo>
                  <a:pt x="135" y="61"/>
                </a:lnTo>
                <a:lnTo>
                  <a:pt x="146" y="51"/>
                </a:lnTo>
                <a:lnTo>
                  <a:pt x="160" y="43"/>
                </a:lnTo>
                <a:lnTo>
                  <a:pt x="173" y="36"/>
                </a:lnTo>
                <a:lnTo>
                  <a:pt x="188" y="29"/>
                </a:lnTo>
                <a:lnTo>
                  <a:pt x="201" y="24"/>
                </a:lnTo>
                <a:lnTo>
                  <a:pt x="215" y="18"/>
                </a:lnTo>
                <a:lnTo>
                  <a:pt x="230" y="13"/>
                </a:lnTo>
                <a:lnTo>
                  <a:pt x="245" y="9"/>
                </a:lnTo>
                <a:lnTo>
                  <a:pt x="260" y="6"/>
                </a:lnTo>
                <a:lnTo>
                  <a:pt x="275" y="4"/>
                </a:lnTo>
                <a:lnTo>
                  <a:pt x="291" y="2"/>
                </a:lnTo>
                <a:lnTo>
                  <a:pt x="306" y="0"/>
                </a:lnTo>
                <a:lnTo>
                  <a:pt x="321" y="0"/>
                </a:lnTo>
                <a:lnTo>
                  <a:pt x="336" y="0"/>
                </a:lnTo>
                <a:lnTo>
                  <a:pt x="353" y="0"/>
                </a:lnTo>
                <a:lnTo>
                  <a:pt x="369" y="2"/>
                </a:lnTo>
                <a:lnTo>
                  <a:pt x="386" y="4"/>
                </a:lnTo>
                <a:lnTo>
                  <a:pt x="401" y="6"/>
                </a:lnTo>
                <a:lnTo>
                  <a:pt x="416" y="7"/>
                </a:lnTo>
                <a:lnTo>
                  <a:pt x="431" y="11"/>
                </a:lnTo>
                <a:lnTo>
                  <a:pt x="446" y="13"/>
                </a:lnTo>
                <a:lnTo>
                  <a:pt x="464" y="16"/>
                </a:lnTo>
                <a:lnTo>
                  <a:pt x="479" y="22"/>
                </a:lnTo>
                <a:lnTo>
                  <a:pt x="494" y="25"/>
                </a:lnTo>
                <a:lnTo>
                  <a:pt x="509" y="29"/>
                </a:lnTo>
                <a:lnTo>
                  <a:pt x="522" y="34"/>
                </a:lnTo>
                <a:lnTo>
                  <a:pt x="538" y="40"/>
                </a:lnTo>
                <a:lnTo>
                  <a:pt x="553" y="45"/>
                </a:lnTo>
                <a:lnTo>
                  <a:pt x="566" y="51"/>
                </a:lnTo>
                <a:lnTo>
                  <a:pt x="583" y="60"/>
                </a:lnTo>
                <a:lnTo>
                  <a:pt x="598" y="69"/>
                </a:lnTo>
                <a:lnTo>
                  <a:pt x="612" y="79"/>
                </a:lnTo>
                <a:lnTo>
                  <a:pt x="623" y="92"/>
                </a:lnTo>
                <a:lnTo>
                  <a:pt x="633" y="105"/>
                </a:lnTo>
                <a:lnTo>
                  <a:pt x="642" y="119"/>
                </a:lnTo>
                <a:lnTo>
                  <a:pt x="648" y="133"/>
                </a:lnTo>
                <a:lnTo>
                  <a:pt x="654" y="148"/>
                </a:lnTo>
                <a:lnTo>
                  <a:pt x="657" y="164"/>
                </a:lnTo>
                <a:lnTo>
                  <a:pt x="661" y="178"/>
                </a:lnTo>
                <a:lnTo>
                  <a:pt x="665" y="196"/>
                </a:lnTo>
                <a:lnTo>
                  <a:pt x="665" y="213"/>
                </a:lnTo>
                <a:lnTo>
                  <a:pt x="665" y="229"/>
                </a:lnTo>
                <a:lnTo>
                  <a:pt x="665" y="245"/>
                </a:lnTo>
                <a:lnTo>
                  <a:pt x="665" y="263"/>
                </a:lnTo>
                <a:lnTo>
                  <a:pt x="663" y="279"/>
                </a:lnTo>
                <a:lnTo>
                  <a:pt x="659" y="295"/>
                </a:lnTo>
                <a:lnTo>
                  <a:pt x="657" y="302"/>
                </a:lnTo>
                <a:lnTo>
                  <a:pt x="654" y="315"/>
                </a:lnTo>
                <a:lnTo>
                  <a:pt x="652" y="32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2781360"/>
            <a:ext cx="601560" cy="3639960"/>
          </a:xfrm>
          <a:custGeom>
            <a:avLst/>
            <a:gdLst/>
            <a:ahLst/>
            <a:rect l="l" t="t" r="r" b="b"/>
            <a:pathLst>
              <a:path w="758" h="4587">
                <a:moveTo>
                  <a:pt x="297" y="9"/>
                </a:moveTo>
                <a:lnTo>
                  <a:pt x="318" y="8"/>
                </a:lnTo>
                <a:lnTo>
                  <a:pt x="338" y="2"/>
                </a:lnTo>
                <a:lnTo>
                  <a:pt x="359" y="0"/>
                </a:lnTo>
                <a:lnTo>
                  <a:pt x="386" y="0"/>
                </a:lnTo>
                <a:lnTo>
                  <a:pt x="413" y="0"/>
                </a:lnTo>
                <a:lnTo>
                  <a:pt x="439" y="0"/>
                </a:lnTo>
                <a:lnTo>
                  <a:pt x="466" y="2"/>
                </a:lnTo>
                <a:lnTo>
                  <a:pt x="489" y="6"/>
                </a:lnTo>
                <a:lnTo>
                  <a:pt x="511" y="9"/>
                </a:lnTo>
                <a:lnTo>
                  <a:pt x="532" y="17"/>
                </a:lnTo>
                <a:lnTo>
                  <a:pt x="555" y="26"/>
                </a:lnTo>
                <a:lnTo>
                  <a:pt x="576" y="33"/>
                </a:lnTo>
                <a:lnTo>
                  <a:pt x="599" y="40"/>
                </a:lnTo>
                <a:lnTo>
                  <a:pt x="618" y="51"/>
                </a:lnTo>
                <a:lnTo>
                  <a:pt x="635" y="61"/>
                </a:lnTo>
                <a:lnTo>
                  <a:pt x="650" y="74"/>
                </a:lnTo>
                <a:lnTo>
                  <a:pt x="661" y="88"/>
                </a:lnTo>
                <a:lnTo>
                  <a:pt x="673" y="101"/>
                </a:lnTo>
                <a:lnTo>
                  <a:pt x="682" y="117"/>
                </a:lnTo>
                <a:lnTo>
                  <a:pt x="690" y="132"/>
                </a:lnTo>
                <a:lnTo>
                  <a:pt x="696" y="148"/>
                </a:lnTo>
                <a:lnTo>
                  <a:pt x="699" y="164"/>
                </a:lnTo>
                <a:lnTo>
                  <a:pt x="703" y="182"/>
                </a:lnTo>
                <a:lnTo>
                  <a:pt x="705" y="198"/>
                </a:lnTo>
                <a:lnTo>
                  <a:pt x="705" y="216"/>
                </a:lnTo>
                <a:lnTo>
                  <a:pt x="705" y="234"/>
                </a:lnTo>
                <a:lnTo>
                  <a:pt x="705" y="250"/>
                </a:lnTo>
                <a:lnTo>
                  <a:pt x="703" y="267"/>
                </a:lnTo>
                <a:lnTo>
                  <a:pt x="701" y="285"/>
                </a:lnTo>
                <a:lnTo>
                  <a:pt x="698" y="301"/>
                </a:lnTo>
                <a:lnTo>
                  <a:pt x="694" y="317"/>
                </a:lnTo>
                <a:lnTo>
                  <a:pt x="690" y="333"/>
                </a:lnTo>
                <a:lnTo>
                  <a:pt x="684" y="351"/>
                </a:lnTo>
                <a:lnTo>
                  <a:pt x="677" y="367"/>
                </a:lnTo>
                <a:lnTo>
                  <a:pt x="671" y="382"/>
                </a:lnTo>
                <a:lnTo>
                  <a:pt x="663" y="398"/>
                </a:lnTo>
                <a:lnTo>
                  <a:pt x="656" y="414"/>
                </a:lnTo>
                <a:lnTo>
                  <a:pt x="650" y="430"/>
                </a:lnTo>
                <a:lnTo>
                  <a:pt x="641" y="446"/>
                </a:lnTo>
                <a:lnTo>
                  <a:pt x="633" y="463"/>
                </a:lnTo>
                <a:lnTo>
                  <a:pt x="625" y="479"/>
                </a:lnTo>
                <a:lnTo>
                  <a:pt x="618" y="495"/>
                </a:lnTo>
                <a:lnTo>
                  <a:pt x="610" y="511"/>
                </a:lnTo>
                <a:lnTo>
                  <a:pt x="603" y="527"/>
                </a:lnTo>
                <a:lnTo>
                  <a:pt x="597" y="544"/>
                </a:lnTo>
                <a:lnTo>
                  <a:pt x="589" y="560"/>
                </a:lnTo>
                <a:lnTo>
                  <a:pt x="582" y="576"/>
                </a:lnTo>
                <a:lnTo>
                  <a:pt x="578" y="592"/>
                </a:lnTo>
                <a:lnTo>
                  <a:pt x="572" y="610"/>
                </a:lnTo>
                <a:lnTo>
                  <a:pt x="568" y="626"/>
                </a:lnTo>
                <a:lnTo>
                  <a:pt x="566" y="642"/>
                </a:lnTo>
                <a:lnTo>
                  <a:pt x="566" y="659"/>
                </a:lnTo>
                <a:lnTo>
                  <a:pt x="566" y="677"/>
                </a:lnTo>
                <a:lnTo>
                  <a:pt x="570" y="693"/>
                </a:lnTo>
                <a:lnTo>
                  <a:pt x="574" y="709"/>
                </a:lnTo>
                <a:lnTo>
                  <a:pt x="582" y="725"/>
                </a:lnTo>
                <a:lnTo>
                  <a:pt x="589" y="743"/>
                </a:lnTo>
                <a:lnTo>
                  <a:pt x="601" y="759"/>
                </a:lnTo>
                <a:lnTo>
                  <a:pt x="612" y="776"/>
                </a:lnTo>
                <a:lnTo>
                  <a:pt x="622" y="792"/>
                </a:lnTo>
                <a:lnTo>
                  <a:pt x="635" y="808"/>
                </a:lnTo>
                <a:lnTo>
                  <a:pt x="646" y="824"/>
                </a:lnTo>
                <a:lnTo>
                  <a:pt x="658" y="842"/>
                </a:lnTo>
                <a:lnTo>
                  <a:pt x="667" y="860"/>
                </a:lnTo>
                <a:lnTo>
                  <a:pt x="679" y="880"/>
                </a:lnTo>
                <a:lnTo>
                  <a:pt x="680" y="889"/>
                </a:lnTo>
                <a:lnTo>
                  <a:pt x="686" y="901"/>
                </a:lnTo>
                <a:lnTo>
                  <a:pt x="692" y="910"/>
                </a:lnTo>
                <a:lnTo>
                  <a:pt x="699" y="928"/>
                </a:lnTo>
                <a:lnTo>
                  <a:pt x="707" y="943"/>
                </a:lnTo>
                <a:lnTo>
                  <a:pt x="715" y="955"/>
                </a:lnTo>
                <a:lnTo>
                  <a:pt x="720" y="973"/>
                </a:lnTo>
                <a:lnTo>
                  <a:pt x="724" y="990"/>
                </a:lnTo>
                <a:lnTo>
                  <a:pt x="730" y="1006"/>
                </a:lnTo>
                <a:lnTo>
                  <a:pt x="734" y="1022"/>
                </a:lnTo>
                <a:lnTo>
                  <a:pt x="737" y="1038"/>
                </a:lnTo>
                <a:lnTo>
                  <a:pt x="741" y="1056"/>
                </a:lnTo>
                <a:lnTo>
                  <a:pt x="745" y="1072"/>
                </a:lnTo>
                <a:lnTo>
                  <a:pt x="747" y="1088"/>
                </a:lnTo>
                <a:lnTo>
                  <a:pt x="749" y="1106"/>
                </a:lnTo>
                <a:lnTo>
                  <a:pt x="753" y="1123"/>
                </a:lnTo>
                <a:lnTo>
                  <a:pt x="753" y="1139"/>
                </a:lnTo>
                <a:lnTo>
                  <a:pt x="755" y="1157"/>
                </a:lnTo>
                <a:lnTo>
                  <a:pt x="756" y="1173"/>
                </a:lnTo>
                <a:lnTo>
                  <a:pt x="756" y="1191"/>
                </a:lnTo>
                <a:lnTo>
                  <a:pt x="758" y="1209"/>
                </a:lnTo>
                <a:lnTo>
                  <a:pt x="758" y="1225"/>
                </a:lnTo>
                <a:lnTo>
                  <a:pt x="758" y="1243"/>
                </a:lnTo>
                <a:lnTo>
                  <a:pt x="758" y="1261"/>
                </a:lnTo>
                <a:lnTo>
                  <a:pt x="758" y="1277"/>
                </a:lnTo>
                <a:lnTo>
                  <a:pt x="756" y="1294"/>
                </a:lnTo>
                <a:lnTo>
                  <a:pt x="755" y="1310"/>
                </a:lnTo>
                <a:lnTo>
                  <a:pt x="755" y="1328"/>
                </a:lnTo>
                <a:lnTo>
                  <a:pt x="753" y="1342"/>
                </a:lnTo>
                <a:lnTo>
                  <a:pt x="751" y="1358"/>
                </a:lnTo>
                <a:lnTo>
                  <a:pt x="747" y="1374"/>
                </a:lnTo>
                <a:lnTo>
                  <a:pt x="745" y="1392"/>
                </a:lnTo>
                <a:lnTo>
                  <a:pt x="743" y="1409"/>
                </a:lnTo>
                <a:lnTo>
                  <a:pt x="739" y="1425"/>
                </a:lnTo>
                <a:lnTo>
                  <a:pt x="737" y="1441"/>
                </a:lnTo>
                <a:lnTo>
                  <a:pt x="734" y="1457"/>
                </a:lnTo>
                <a:lnTo>
                  <a:pt x="732" y="1473"/>
                </a:lnTo>
                <a:lnTo>
                  <a:pt x="728" y="1490"/>
                </a:lnTo>
                <a:lnTo>
                  <a:pt x="724" y="1506"/>
                </a:lnTo>
                <a:lnTo>
                  <a:pt x="720" y="1522"/>
                </a:lnTo>
                <a:lnTo>
                  <a:pt x="718" y="1538"/>
                </a:lnTo>
                <a:lnTo>
                  <a:pt x="715" y="1554"/>
                </a:lnTo>
                <a:lnTo>
                  <a:pt x="711" y="1571"/>
                </a:lnTo>
                <a:lnTo>
                  <a:pt x="707" y="1587"/>
                </a:lnTo>
                <a:lnTo>
                  <a:pt x="703" y="1603"/>
                </a:lnTo>
                <a:lnTo>
                  <a:pt x="699" y="1619"/>
                </a:lnTo>
                <a:lnTo>
                  <a:pt x="696" y="1635"/>
                </a:lnTo>
                <a:lnTo>
                  <a:pt x="692" y="1651"/>
                </a:lnTo>
                <a:lnTo>
                  <a:pt x="690" y="1668"/>
                </a:lnTo>
                <a:lnTo>
                  <a:pt x="686" y="1684"/>
                </a:lnTo>
                <a:lnTo>
                  <a:pt x="682" y="1700"/>
                </a:lnTo>
                <a:lnTo>
                  <a:pt x="680" y="1716"/>
                </a:lnTo>
                <a:lnTo>
                  <a:pt x="677" y="1732"/>
                </a:lnTo>
                <a:lnTo>
                  <a:pt x="675" y="1749"/>
                </a:lnTo>
                <a:lnTo>
                  <a:pt x="671" y="1765"/>
                </a:lnTo>
                <a:lnTo>
                  <a:pt x="669" y="1781"/>
                </a:lnTo>
                <a:lnTo>
                  <a:pt x="667" y="1797"/>
                </a:lnTo>
                <a:lnTo>
                  <a:pt x="665" y="1813"/>
                </a:lnTo>
                <a:lnTo>
                  <a:pt x="661" y="1830"/>
                </a:lnTo>
                <a:lnTo>
                  <a:pt x="661" y="1846"/>
                </a:lnTo>
                <a:lnTo>
                  <a:pt x="660" y="1862"/>
                </a:lnTo>
                <a:lnTo>
                  <a:pt x="660" y="1878"/>
                </a:lnTo>
                <a:lnTo>
                  <a:pt x="658" y="1894"/>
                </a:lnTo>
                <a:lnTo>
                  <a:pt x="658" y="1910"/>
                </a:lnTo>
                <a:lnTo>
                  <a:pt x="658" y="1927"/>
                </a:lnTo>
                <a:lnTo>
                  <a:pt x="658" y="1943"/>
                </a:lnTo>
                <a:lnTo>
                  <a:pt x="658" y="1959"/>
                </a:lnTo>
                <a:lnTo>
                  <a:pt x="658" y="1975"/>
                </a:lnTo>
                <a:lnTo>
                  <a:pt x="660" y="1993"/>
                </a:lnTo>
                <a:lnTo>
                  <a:pt x="661" y="2009"/>
                </a:lnTo>
                <a:lnTo>
                  <a:pt x="661" y="2022"/>
                </a:lnTo>
                <a:lnTo>
                  <a:pt x="665" y="2036"/>
                </a:lnTo>
                <a:lnTo>
                  <a:pt x="667" y="2051"/>
                </a:lnTo>
                <a:lnTo>
                  <a:pt x="671" y="2065"/>
                </a:lnTo>
                <a:lnTo>
                  <a:pt x="675" y="2080"/>
                </a:lnTo>
                <a:lnTo>
                  <a:pt x="679" y="2094"/>
                </a:lnTo>
                <a:lnTo>
                  <a:pt x="682" y="2108"/>
                </a:lnTo>
                <a:lnTo>
                  <a:pt x="688" y="2123"/>
                </a:lnTo>
                <a:lnTo>
                  <a:pt x="692" y="2139"/>
                </a:lnTo>
                <a:lnTo>
                  <a:pt x="698" y="2153"/>
                </a:lnTo>
                <a:lnTo>
                  <a:pt x="701" y="2168"/>
                </a:lnTo>
                <a:lnTo>
                  <a:pt x="707" y="2182"/>
                </a:lnTo>
                <a:lnTo>
                  <a:pt x="711" y="2198"/>
                </a:lnTo>
                <a:lnTo>
                  <a:pt x="717" y="2213"/>
                </a:lnTo>
                <a:lnTo>
                  <a:pt x="720" y="2229"/>
                </a:lnTo>
                <a:lnTo>
                  <a:pt x="726" y="2243"/>
                </a:lnTo>
                <a:lnTo>
                  <a:pt x="732" y="2259"/>
                </a:lnTo>
                <a:lnTo>
                  <a:pt x="736" y="2274"/>
                </a:lnTo>
                <a:lnTo>
                  <a:pt x="739" y="2288"/>
                </a:lnTo>
                <a:lnTo>
                  <a:pt x="743" y="2303"/>
                </a:lnTo>
                <a:lnTo>
                  <a:pt x="745" y="2319"/>
                </a:lnTo>
                <a:lnTo>
                  <a:pt x="747" y="2333"/>
                </a:lnTo>
                <a:lnTo>
                  <a:pt x="751" y="2348"/>
                </a:lnTo>
                <a:lnTo>
                  <a:pt x="753" y="2364"/>
                </a:lnTo>
                <a:lnTo>
                  <a:pt x="753" y="2378"/>
                </a:lnTo>
                <a:lnTo>
                  <a:pt x="753" y="2392"/>
                </a:lnTo>
                <a:lnTo>
                  <a:pt x="753" y="2407"/>
                </a:lnTo>
                <a:lnTo>
                  <a:pt x="751" y="2421"/>
                </a:lnTo>
                <a:lnTo>
                  <a:pt x="747" y="2436"/>
                </a:lnTo>
                <a:lnTo>
                  <a:pt x="745" y="2450"/>
                </a:lnTo>
                <a:lnTo>
                  <a:pt x="741" y="2464"/>
                </a:lnTo>
                <a:lnTo>
                  <a:pt x="736" y="2477"/>
                </a:lnTo>
                <a:lnTo>
                  <a:pt x="730" y="2491"/>
                </a:lnTo>
                <a:lnTo>
                  <a:pt x="722" y="2504"/>
                </a:lnTo>
                <a:lnTo>
                  <a:pt x="715" y="2517"/>
                </a:lnTo>
                <a:lnTo>
                  <a:pt x="705" y="2529"/>
                </a:lnTo>
                <a:lnTo>
                  <a:pt x="694" y="2542"/>
                </a:lnTo>
                <a:lnTo>
                  <a:pt x="694" y="2562"/>
                </a:lnTo>
                <a:lnTo>
                  <a:pt x="694" y="2581"/>
                </a:lnTo>
                <a:lnTo>
                  <a:pt x="692" y="2599"/>
                </a:lnTo>
                <a:lnTo>
                  <a:pt x="690" y="2619"/>
                </a:lnTo>
                <a:lnTo>
                  <a:pt x="690" y="2635"/>
                </a:lnTo>
                <a:lnTo>
                  <a:pt x="688" y="2653"/>
                </a:lnTo>
                <a:lnTo>
                  <a:pt x="686" y="2673"/>
                </a:lnTo>
                <a:lnTo>
                  <a:pt x="682" y="2689"/>
                </a:lnTo>
                <a:lnTo>
                  <a:pt x="682" y="2707"/>
                </a:lnTo>
                <a:lnTo>
                  <a:pt x="680" y="2727"/>
                </a:lnTo>
                <a:lnTo>
                  <a:pt x="680" y="2745"/>
                </a:lnTo>
                <a:lnTo>
                  <a:pt x="679" y="2765"/>
                </a:lnTo>
                <a:lnTo>
                  <a:pt x="679" y="2785"/>
                </a:lnTo>
                <a:lnTo>
                  <a:pt x="679" y="2804"/>
                </a:lnTo>
                <a:lnTo>
                  <a:pt x="679" y="2824"/>
                </a:lnTo>
                <a:lnTo>
                  <a:pt x="679" y="2842"/>
                </a:lnTo>
                <a:lnTo>
                  <a:pt x="679" y="2858"/>
                </a:lnTo>
                <a:lnTo>
                  <a:pt x="679" y="2876"/>
                </a:lnTo>
                <a:lnTo>
                  <a:pt x="679" y="2893"/>
                </a:lnTo>
                <a:lnTo>
                  <a:pt x="679" y="2910"/>
                </a:lnTo>
                <a:lnTo>
                  <a:pt x="679" y="2928"/>
                </a:lnTo>
                <a:lnTo>
                  <a:pt x="677" y="2945"/>
                </a:lnTo>
                <a:lnTo>
                  <a:pt x="677" y="2963"/>
                </a:lnTo>
                <a:lnTo>
                  <a:pt x="677" y="2981"/>
                </a:lnTo>
                <a:lnTo>
                  <a:pt x="677" y="2999"/>
                </a:lnTo>
                <a:lnTo>
                  <a:pt x="675" y="3017"/>
                </a:lnTo>
                <a:lnTo>
                  <a:pt x="675" y="3033"/>
                </a:lnTo>
                <a:lnTo>
                  <a:pt x="673" y="3051"/>
                </a:lnTo>
                <a:lnTo>
                  <a:pt x="671" y="3067"/>
                </a:lnTo>
                <a:lnTo>
                  <a:pt x="669" y="3083"/>
                </a:lnTo>
                <a:lnTo>
                  <a:pt x="669" y="3101"/>
                </a:lnTo>
                <a:lnTo>
                  <a:pt x="667" y="3121"/>
                </a:lnTo>
                <a:lnTo>
                  <a:pt x="667" y="3137"/>
                </a:lnTo>
                <a:lnTo>
                  <a:pt x="665" y="3157"/>
                </a:lnTo>
                <a:lnTo>
                  <a:pt x="661" y="3177"/>
                </a:lnTo>
                <a:lnTo>
                  <a:pt x="661" y="3195"/>
                </a:lnTo>
                <a:lnTo>
                  <a:pt x="661" y="3214"/>
                </a:lnTo>
                <a:lnTo>
                  <a:pt x="661" y="3232"/>
                </a:lnTo>
                <a:lnTo>
                  <a:pt x="663" y="3250"/>
                </a:lnTo>
                <a:lnTo>
                  <a:pt x="667" y="3270"/>
                </a:lnTo>
                <a:lnTo>
                  <a:pt x="669" y="3290"/>
                </a:lnTo>
                <a:lnTo>
                  <a:pt x="669" y="3306"/>
                </a:lnTo>
                <a:lnTo>
                  <a:pt x="669" y="3322"/>
                </a:lnTo>
                <a:lnTo>
                  <a:pt x="671" y="3340"/>
                </a:lnTo>
                <a:lnTo>
                  <a:pt x="671" y="3358"/>
                </a:lnTo>
                <a:lnTo>
                  <a:pt x="671" y="3375"/>
                </a:lnTo>
                <a:lnTo>
                  <a:pt x="673" y="3393"/>
                </a:lnTo>
                <a:lnTo>
                  <a:pt x="677" y="3411"/>
                </a:lnTo>
                <a:lnTo>
                  <a:pt x="679" y="3428"/>
                </a:lnTo>
                <a:lnTo>
                  <a:pt x="682" y="3446"/>
                </a:lnTo>
                <a:lnTo>
                  <a:pt x="688" y="3464"/>
                </a:lnTo>
                <a:lnTo>
                  <a:pt x="690" y="3481"/>
                </a:lnTo>
                <a:lnTo>
                  <a:pt x="698" y="3495"/>
                </a:lnTo>
                <a:lnTo>
                  <a:pt x="705" y="3511"/>
                </a:lnTo>
                <a:lnTo>
                  <a:pt x="711" y="3529"/>
                </a:lnTo>
                <a:lnTo>
                  <a:pt x="715" y="3547"/>
                </a:lnTo>
                <a:lnTo>
                  <a:pt x="718" y="3563"/>
                </a:lnTo>
                <a:lnTo>
                  <a:pt x="722" y="3581"/>
                </a:lnTo>
                <a:lnTo>
                  <a:pt x="724" y="3599"/>
                </a:lnTo>
                <a:lnTo>
                  <a:pt x="726" y="3616"/>
                </a:lnTo>
                <a:lnTo>
                  <a:pt x="726" y="3634"/>
                </a:lnTo>
                <a:lnTo>
                  <a:pt x="726" y="3652"/>
                </a:lnTo>
                <a:lnTo>
                  <a:pt x="724" y="3668"/>
                </a:lnTo>
                <a:lnTo>
                  <a:pt x="722" y="3686"/>
                </a:lnTo>
                <a:lnTo>
                  <a:pt x="720" y="3704"/>
                </a:lnTo>
                <a:lnTo>
                  <a:pt x="718" y="3722"/>
                </a:lnTo>
                <a:lnTo>
                  <a:pt x="715" y="3740"/>
                </a:lnTo>
                <a:lnTo>
                  <a:pt x="713" y="3756"/>
                </a:lnTo>
                <a:lnTo>
                  <a:pt x="711" y="3774"/>
                </a:lnTo>
                <a:lnTo>
                  <a:pt x="709" y="3792"/>
                </a:lnTo>
                <a:lnTo>
                  <a:pt x="707" y="3808"/>
                </a:lnTo>
                <a:lnTo>
                  <a:pt x="703" y="3826"/>
                </a:lnTo>
                <a:lnTo>
                  <a:pt x="701" y="3842"/>
                </a:lnTo>
                <a:lnTo>
                  <a:pt x="699" y="3860"/>
                </a:lnTo>
                <a:lnTo>
                  <a:pt x="698" y="3876"/>
                </a:lnTo>
                <a:lnTo>
                  <a:pt x="696" y="3893"/>
                </a:lnTo>
                <a:lnTo>
                  <a:pt x="694" y="3911"/>
                </a:lnTo>
                <a:lnTo>
                  <a:pt x="692" y="3927"/>
                </a:lnTo>
                <a:lnTo>
                  <a:pt x="690" y="3945"/>
                </a:lnTo>
                <a:lnTo>
                  <a:pt x="688" y="3961"/>
                </a:lnTo>
                <a:lnTo>
                  <a:pt x="686" y="3977"/>
                </a:lnTo>
                <a:lnTo>
                  <a:pt x="684" y="3993"/>
                </a:lnTo>
                <a:lnTo>
                  <a:pt x="682" y="4011"/>
                </a:lnTo>
                <a:lnTo>
                  <a:pt x="680" y="4027"/>
                </a:lnTo>
                <a:lnTo>
                  <a:pt x="680" y="4044"/>
                </a:lnTo>
                <a:lnTo>
                  <a:pt x="679" y="4060"/>
                </a:lnTo>
                <a:lnTo>
                  <a:pt x="679" y="4078"/>
                </a:lnTo>
                <a:lnTo>
                  <a:pt x="679" y="4098"/>
                </a:lnTo>
                <a:lnTo>
                  <a:pt x="677" y="4114"/>
                </a:lnTo>
                <a:lnTo>
                  <a:pt x="677" y="4132"/>
                </a:lnTo>
                <a:lnTo>
                  <a:pt x="677" y="4152"/>
                </a:lnTo>
                <a:lnTo>
                  <a:pt x="677" y="4168"/>
                </a:lnTo>
                <a:lnTo>
                  <a:pt x="677" y="4186"/>
                </a:lnTo>
                <a:lnTo>
                  <a:pt x="677" y="4204"/>
                </a:lnTo>
                <a:lnTo>
                  <a:pt x="677" y="4222"/>
                </a:lnTo>
                <a:lnTo>
                  <a:pt x="679" y="4240"/>
                </a:lnTo>
                <a:lnTo>
                  <a:pt x="679" y="4258"/>
                </a:lnTo>
                <a:lnTo>
                  <a:pt x="680" y="4276"/>
                </a:lnTo>
                <a:lnTo>
                  <a:pt x="684" y="4294"/>
                </a:lnTo>
                <a:lnTo>
                  <a:pt x="688" y="4312"/>
                </a:lnTo>
                <a:lnTo>
                  <a:pt x="688" y="4331"/>
                </a:lnTo>
                <a:lnTo>
                  <a:pt x="688" y="4351"/>
                </a:lnTo>
                <a:lnTo>
                  <a:pt x="690" y="4373"/>
                </a:lnTo>
                <a:lnTo>
                  <a:pt x="692" y="4393"/>
                </a:lnTo>
                <a:lnTo>
                  <a:pt x="696" y="4412"/>
                </a:lnTo>
                <a:lnTo>
                  <a:pt x="699" y="4423"/>
                </a:lnTo>
                <a:lnTo>
                  <a:pt x="703" y="4445"/>
                </a:lnTo>
                <a:lnTo>
                  <a:pt x="705" y="4457"/>
                </a:lnTo>
                <a:lnTo>
                  <a:pt x="715" y="4473"/>
                </a:lnTo>
                <a:lnTo>
                  <a:pt x="722" y="4491"/>
                </a:lnTo>
                <a:lnTo>
                  <a:pt x="730" y="4511"/>
                </a:lnTo>
                <a:lnTo>
                  <a:pt x="736" y="4527"/>
                </a:lnTo>
                <a:lnTo>
                  <a:pt x="737" y="4542"/>
                </a:lnTo>
                <a:lnTo>
                  <a:pt x="734" y="4554"/>
                </a:lnTo>
                <a:lnTo>
                  <a:pt x="722" y="4563"/>
                </a:lnTo>
                <a:lnTo>
                  <a:pt x="701" y="4572"/>
                </a:lnTo>
                <a:lnTo>
                  <a:pt x="680" y="4578"/>
                </a:lnTo>
                <a:lnTo>
                  <a:pt x="660" y="4580"/>
                </a:lnTo>
                <a:lnTo>
                  <a:pt x="637" y="4581"/>
                </a:lnTo>
                <a:lnTo>
                  <a:pt x="612" y="4583"/>
                </a:lnTo>
                <a:lnTo>
                  <a:pt x="589" y="4583"/>
                </a:lnTo>
                <a:lnTo>
                  <a:pt x="563" y="4583"/>
                </a:lnTo>
                <a:lnTo>
                  <a:pt x="540" y="4583"/>
                </a:lnTo>
                <a:lnTo>
                  <a:pt x="519" y="4585"/>
                </a:lnTo>
                <a:lnTo>
                  <a:pt x="498" y="4585"/>
                </a:lnTo>
                <a:lnTo>
                  <a:pt x="477" y="4587"/>
                </a:lnTo>
                <a:lnTo>
                  <a:pt x="456" y="4587"/>
                </a:lnTo>
                <a:lnTo>
                  <a:pt x="433" y="4587"/>
                </a:lnTo>
                <a:lnTo>
                  <a:pt x="413" y="4587"/>
                </a:lnTo>
                <a:lnTo>
                  <a:pt x="390" y="4587"/>
                </a:lnTo>
                <a:lnTo>
                  <a:pt x="369" y="4587"/>
                </a:lnTo>
                <a:lnTo>
                  <a:pt x="348" y="4587"/>
                </a:lnTo>
                <a:lnTo>
                  <a:pt x="329" y="4587"/>
                </a:lnTo>
                <a:lnTo>
                  <a:pt x="308" y="4587"/>
                </a:lnTo>
                <a:lnTo>
                  <a:pt x="287" y="4587"/>
                </a:lnTo>
                <a:lnTo>
                  <a:pt x="266" y="4587"/>
                </a:lnTo>
                <a:lnTo>
                  <a:pt x="245" y="4587"/>
                </a:lnTo>
                <a:lnTo>
                  <a:pt x="226" y="4585"/>
                </a:lnTo>
                <a:lnTo>
                  <a:pt x="205" y="4585"/>
                </a:lnTo>
                <a:lnTo>
                  <a:pt x="185" y="4585"/>
                </a:lnTo>
                <a:lnTo>
                  <a:pt x="164" y="4585"/>
                </a:lnTo>
                <a:lnTo>
                  <a:pt x="145" y="4585"/>
                </a:lnTo>
                <a:lnTo>
                  <a:pt x="124" y="4583"/>
                </a:lnTo>
                <a:lnTo>
                  <a:pt x="103" y="4583"/>
                </a:lnTo>
                <a:lnTo>
                  <a:pt x="82" y="4583"/>
                </a:lnTo>
                <a:lnTo>
                  <a:pt x="61" y="4583"/>
                </a:lnTo>
                <a:lnTo>
                  <a:pt x="42" y="4583"/>
                </a:lnTo>
                <a:lnTo>
                  <a:pt x="21" y="4581"/>
                </a:lnTo>
                <a:lnTo>
                  <a:pt x="0" y="4581"/>
                </a:lnTo>
                <a:lnTo>
                  <a:pt x="10" y="4569"/>
                </a:lnTo>
                <a:lnTo>
                  <a:pt x="21" y="4556"/>
                </a:lnTo>
                <a:lnTo>
                  <a:pt x="33" y="4545"/>
                </a:lnTo>
                <a:lnTo>
                  <a:pt x="44" y="4536"/>
                </a:lnTo>
                <a:lnTo>
                  <a:pt x="59" y="4527"/>
                </a:lnTo>
                <a:lnTo>
                  <a:pt x="72" y="4520"/>
                </a:lnTo>
                <a:lnTo>
                  <a:pt x="88" y="4513"/>
                </a:lnTo>
                <a:lnTo>
                  <a:pt x="103" y="4508"/>
                </a:lnTo>
                <a:lnTo>
                  <a:pt x="120" y="4502"/>
                </a:lnTo>
                <a:lnTo>
                  <a:pt x="137" y="4497"/>
                </a:lnTo>
                <a:lnTo>
                  <a:pt x="154" y="4491"/>
                </a:lnTo>
                <a:lnTo>
                  <a:pt x="171" y="4488"/>
                </a:lnTo>
                <a:lnTo>
                  <a:pt x="188" y="4482"/>
                </a:lnTo>
                <a:lnTo>
                  <a:pt x="205" y="4479"/>
                </a:lnTo>
                <a:lnTo>
                  <a:pt x="223" y="4473"/>
                </a:lnTo>
                <a:lnTo>
                  <a:pt x="240" y="4468"/>
                </a:lnTo>
                <a:lnTo>
                  <a:pt x="259" y="4461"/>
                </a:lnTo>
                <a:lnTo>
                  <a:pt x="276" y="4454"/>
                </a:lnTo>
                <a:lnTo>
                  <a:pt x="291" y="4447"/>
                </a:lnTo>
                <a:lnTo>
                  <a:pt x="308" y="4438"/>
                </a:lnTo>
                <a:lnTo>
                  <a:pt x="323" y="4427"/>
                </a:lnTo>
                <a:lnTo>
                  <a:pt x="340" y="4418"/>
                </a:lnTo>
                <a:lnTo>
                  <a:pt x="357" y="4409"/>
                </a:lnTo>
                <a:lnTo>
                  <a:pt x="376" y="4400"/>
                </a:lnTo>
                <a:lnTo>
                  <a:pt x="394" y="4389"/>
                </a:lnTo>
                <a:lnTo>
                  <a:pt x="409" y="4378"/>
                </a:lnTo>
                <a:lnTo>
                  <a:pt x="420" y="4366"/>
                </a:lnTo>
                <a:lnTo>
                  <a:pt x="426" y="4351"/>
                </a:lnTo>
                <a:lnTo>
                  <a:pt x="435" y="4326"/>
                </a:lnTo>
                <a:lnTo>
                  <a:pt x="443" y="4301"/>
                </a:lnTo>
                <a:lnTo>
                  <a:pt x="447" y="4281"/>
                </a:lnTo>
                <a:lnTo>
                  <a:pt x="449" y="4265"/>
                </a:lnTo>
                <a:lnTo>
                  <a:pt x="449" y="4247"/>
                </a:lnTo>
                <a:lnTo>
                  <a:pt x="449" y="4231"/>
                </a:lnTo>
                <a:lnTo>
                  <a:pt x="449" y="4213"/>
                </a:lnTo>
                <a:lnTo>
                  <a:pt x="449" y="4196"/>
                </a:lnTo>
                <a:lnTo>
                  <a:pt x="447" y="4179"/>
                </a:lnTo>
                <a:lnTo>
                  <a:pt x="445" y="4162"/>
                </a:lnTo>
                <a:lnTo>
                  <a:pt x="443" y="4144"/>
                </a:lnTo>
                <a:lnTo>
                  <a:pt x="441" y="4126"/>
                </a:lnTo>
                <a:lnTo>
                  <a:pt x="439" y="4110"/>
                </a:lnTo>
                <a:lnTo>
                  <a:pt x="437" y="4092"/>
                </a:lnTo>
                <a:lnTo>
                  <a:pt x="433" y="4076"/>
                </a:lnTo>
                <a:lnTo>
                  <a:pt x="432" y="4058"/>
                </a:lnTo>
                <a:lnTo>
                  <a:pt x="428" y="4042"/>
                </a:lnTo>
                <a:lnTo>
                  <a:pt x="426" y="4024"/>
                </a:lnTo>
                <a:lnTo>
                  <a:pt x="422" y="4008"/>
                </a:lnTo>
                <a:lnTo>
                  <a:pt x="420" y="3990"/>
                </a:lnTo>
                <a:lnTo>
                  <a:pt x="418" y="3973"/>
                </a:lnTo>
                <a:lnTo>
                  <a:pt x="414" y="3955"/>
                </a:lnTo>
                <a:lnTo>
                  <a:pt x="413" y="3937"/>
                </a:lnTo>
                <a:lnTo>
                  <a:pt x="411" y="3921"/>
                </a:lnTo>
                <a:lnTo>
                  <a:pt x="409" y="3903"/>
                </a:lnTo>
                <a:lnTo>
                  <a:pt x="409" y="3887"/>
                </a:lnTo>
                <a:lnTo>
                  <a:pt x="407" y="3869"/>
                </a:lnTo>
                <a:lnTo>
                  <a:pt x="405" y="3853"/>
                </a:lnTo>
                <a:lnTo>
                  <a:pt x="403" y="3837"/>
                </a:lnTo>
                <a:lnTo>
                  <a:pt x="401" y="3821"/>
                </a:lnTo>
                <a:lnTo>
                  <a:pt x="401" y="3803"/>
                </a:lnTo>
                <a:lnTo>
                  <a:pt x="397" y="3788"/>
                </a:lnTo>
                <a:lnTo>
                  <a:pt x="395" y="3772"/>
                </a:lnTo>
                <a:lnTo>
                  <a:pt x="394" y="3756"/>
                </a:lnTo>
                <a:lnTo>
                  <a:pt x="392" y="3738"/>
                </a:lnTo>
                <a:lnTo>
                  <a:pt x="390" y="3722"/>
                </a:lnTo>
                <a:lnTo>
                  <a:pt x="386" y="3705"/>
                </a:lnTo>
                <a:lnTo>
                  <a:pt x="382" y="3689"/>
                </a:lnTo>
                <a:lnTo>
                  <a:pt x="378" y="3673"/>
                </a:lnTo>
                <a:lnTo>
                  <a:pt x="376" y="3655"/>
                </a:lnTo>
                <a:lnTo>
                  <a:pt x="373" y="3639"/>
                </a:lnTo>
                <a:lnTo>
                  <a:pt x="369" y="3621"/>
                </a:lnTo>
                <a:lnTo>
                  <a:pt x="363" y="3605"/>
                </a:lnTo>
                <a:lnTo>
                  <a:pt x="359" y="3587"/>
                </a:lnTo>
                <a:lnTo>
                  <a:pt x="356" y="3569"/>
                </a:lnTo>
                <a:lnTo>
                  <a:pt x="350" y="3551"/>
                </a:lnTo>
                <a:lnTo>
                  <a:pt x="344" y="3535"/>
                </a:lnTo>
                <a:lnTo>
                  <a:pt x="338" y="3517"/>
                </a:lnTo>
                <a:lnTo>
                  <a:pt x="333" y="3500"/>
                </a:lnTo>
                <a:lnTo>
                  <a:pt x="325" y="3484"/>
                </a:lnTo>
                <a:lnTo>
                  <a:pt x="319" y="3468"/>
                </a:lnTo>
                <a:lnTo>
                  <a:pt x="314" y="3450"/>
                </a:lnTo>
                <a:lnTo>
                  <a:pt x="308" y="3434"/>
                </a:lnTo>
                <a:lnTo>
                  <a:pt x="302" y="3418"/>
                </a:lnTo>
                <a:lnTo>
                  <a:pt x="299" y="3402"/>
                </a:lnTo>
                <a:lnTo>
                  <a:pt x="293" y="3385"/>
                </a:lnTo>
                <a:lnTo>
                  <a:pt x="291" y="3369"/>
                </a:lnTo>
                <a:lnTo>
                  <a:pt x="289" y="3353"/>
                </a:lnTo>
                <a:lnTo>
                  <a:pt x="287" y="3337"/>
                </a:lnTo>
                <a:lnTo>
                  <a:pt x="289" y="3315"/>
                </a:lnTo>
                <a:lnTo>
                  <a:pt x="289" y="3294"/>
                </a:lnTo>
                <a:lnTo>
                  <a:pt x="287" y="3270"/>
                </a:lnTo>
                <a:lnTo>
                  <a:pt x="283" y="3249"/>
                </a:lnTo>
                <a:lnTo>
                  <a:pt x="274" y="3229"/>
                </a:lnTo>
                <a:lnTo>
                  <a:pt x="266" y="3214"/>
                </a:lnTo>
                <a:lnTo>
                  <a:pt x="261" y="3198"/>
                </a:lnTo>
                <a:lnTo>
                  <a:pt x="253" y="3184"/>
                </a:lnTo>
                <a:lnTo>
                  <a:pt x="245" y="3168"/>
                </a:lnTo>
                <a:lnTo>
                  <a:pt x="240" y="3153"/>
                </a:lnTo>
                <a:lnTo>
                  <a:pt x="232" y="3137"/>
                </a:lnTo>
                <a:lnTo>
                  <a:pt x="226" y="3121"/>
                </a:lnTo>
                <a:lnTo>
                  <a:pt x="221" y="3107"/>
                </a:lnTo>
                <a:lnTo>
                  <a:pt x="215" y="3090"/>
                </a:lnTo>
                <a:lnTo>
                  <a:pt x="209" y="3074"/>
                </a:lnTo>
                <a:lnTo>
                  <a:pt x="205" y="3060"/>
                </a:lnTo>
                <a:lnTo>
                  <a:pt x="200" y="3044"/>
                </a:lnTo>
                <a:lnTo>
                  <a:pt x="196" y="3027"/>
                </a:lnTo>
                <a:lnTo>
                  <a:pt x="190" y="3011"/>
                </a:lnTo>
                <a:lnTo>
                  <a:pt x="186" y="2997"/>
                </a:lnTo>
                <a:lnTo>
                  <a:pt x="181" y="2979"/>
                </a:lnTo>
                <a:lnTo>
                  <a:pt x="177" y="2964"/>
                </a:lnTo>
                <a:lnTo>
                  <a:pt x="173" y="2948"/>
                </a:lnTo>
                <a:lnTo>
                  <a:pt x="171" y="2932"/>
                </a:lnTo>
                <a:lnTo>
                  <a:pt x="167" y="2916"/>
                </a:lnTo>
                <a:lnTo>
                  <a:pt x="164" y="2900"/>
                </a:lnTo>
                <a:lnTo>
                  <a:pt x="160" y="2884"/>
                </a:lnTo>
                <a:lnTo>
                  <a:pt x="158" y="2867"/>
                </a:lnTo>
                <a:lnTo>
                  <a:pt x="154" y="2851"/>
                </a:lnTo>
                <a:lnTo>
                  <a:pt x="152" y="2835"/>
                </a:lnTo>
                <a:lnTo>
                  <a:pt x="148" y="2819"/>
                </a:lnTo>
                <a:lnTo>
                  <a:pt x="147" y="2803"/>
                </a:lnTo>
                <a:lnTo>
                  <a:pt x="145" y="2786"/>
                </a:lnTo>
                <a:lnTo>
                  <a:pt x="143" y="2770"/>
                </a:lnTo>
                <a:lnTo>
                  <a:pt x="141" y="2754"/>
                </a:lnTo>
                <a:lnTo>
                  <a:pt x="139" y="2738"/>
                </a:lnTo>
                <a:lnTo>
                  <a:pt x="137" y="2722"/>
                </a:lnTo>
                <a:lnTo>
                  <a:pt x="135" y="2705"/>
                </a:lnTo>
                <a:lnTo>
                  <a:pt x="133" y="2689"/>
                </a:lnTo>
                <a:lnTo>
                  <a:pt x="133" y="2673"/>
                </a:lnTo>
                <a:lnTo>
                  <a:pt x="131" y="2655"/>
                </a:lnTo>
                <a:lnTo>
                  <a:pt x="129" y="2639"/>
                </a:lnTo>
                <a:lnTo>
                  <a:pt x="128" y="2623"/>
                </a:lnTo>
                <a:lnTo>
                  <a:pt x="128" y="2607"/>
                </a:lnTo>
                <a:lnTo>
                  <a:pt x="126" y="2590"/>
                </a:lnTo>
                <a:lnTo>
                  <a:pt x="126" y="2574"/>
                </a:lnTo>
                <a:lnTo>
                  <a:pt x="124" y="2558"/>
                </a:lnTo>
                <a:lnTo>
                  <a:pt x="124" y="2540"/>
                </a:lnTo>
                <a:lnTo>
                  <a:pt x="122" y="2524"/>
                </a:lnTo>
                <a:lnTo>
                  <a:pt x="122" y="2508"/>
                </a:lnTo>
                <a:lnTo>
                  <a:pt x="120" y="2491"/>
                </a:lnTo>
                <a:lnTo>
                  <a:pt x="120" y="2475"/>
                </a:lnTo>
                <a:lnTo>
                  <a:pt x="120" y="2459"/>
                </a:lnTo>
                <a:lnTo>
                  <a:pt x="118" y="2443"/>
                </a:lnTo>
                <a:lnTo>
                  <a:pt x="118" y="2427"/>
                </a:lnTo>
                <a:lnTo>
                  <a:pt x="118" y="2409"/>
                </a:lnTo>
                <a:lnTo>
                  <a:pt x="116" y="2392"/>
                </a:lnTo>
                <a:lnTo>
                  <a:pt x="116" y="2376"/>
                </a:lnTo>
                <a:lnTo>
                  <a:pt x="116" y="2360"/>
                </a:lnTo>
                <a:lnTo>
                  <a:pt x="114" y="2344"/>
                </a:lnTo>
                <a:lnTo>
                  <a:pt x="114" y="2328"/>
                </a:lnTo>
                <a:lnTo>
                  <a:pt x="114" y="2312"/>
                </a:lnTo>
                <a:lnTo>
                  <a:pt x="112" y="2294"/>
                </a:lnTo>
                <a:lnTo>
                  <a:pt x="112" y="2279"/>
                </a:lnTo>
                <a:lnTo>
                  <a:pt x="112" y="2263"/>
                </a:lnTo>
                <a:lnTo>
                  <a:pt x="110" y="2247"/>
                </a:lnTo>
                <a:lnTo>
                  <a:pt x="110" y="2231"/>
                </a:lnTo>
                <a:lnTo>
                  <a:pt x="109" y="2225"/>
                </a:lnTo>
                <a:lnTo>
                  <a:pt x="107" y="2213"/>
                </a:lnTo>
                <a:lnTo>
                  <a:pt x="105" y="2195"/>
                </a:lnTo>
                <a:lnTo>
                  <a:pt x="101" y="2171"/>
                </a:lnTo>
                <a:lnTo>
                  <a:pt x="95" y="2144"/>
                </a:lnTo>
                <a:lnTo>
                  <a:pt x="91" y="2117"/>
                </a:lnTo>
                <a:lnTo>
                  <a:pt x="88" y="2092"/>
                </a:lnTo>
                <a:lnTo>
                  <a:pt x="84" y="2069"/>
                </a:lnTo>
                <a:lnTo>
                  <a:pt x="82" y="2049"/>
                </a:lnTo>
                <a:lnTo>
                  <a:pt x="80" y="2036"/>
                </a:lnTo>
                <a:lnTo>
                  <a:pt x="78" y="2031"/>
                </a:lnTo>
                <a:lnTo>
                  <a:pt x="76" y="2015"/>
                </a:lnTo>
                <a:lnTo>
                  <a:pt x="76" y="1997"/>
                </a:lnTo>
                <a:lnTo>
                  <a:pt x="74" y="1979"/>
                </a:lnTo>
                <a:lnTo>
                  <a:pt x="74" y="1961"/>
                </a:lnTo>
                <a:lnTo>
                  <a:pt x="72" y="1943"/>
                </a:lnTo>
                <a:lnTo>
                  <a:pt x="72" y="1923"/>
                </a:lnTo>
                <a:lnTo>
                  <a:pt x="72" y="1905"/>
                </a:lnTo>
                <a:lnTo>
                  <a:pt x="71" y="1887"/>
                </a:lnTo>
                <a:lnTo>
                  <a:pt x="71" y="1867"/>
                </a:lnTo>
                <a:lnTo>
                  <a:pt x="69" y="1848"/>
                </a:lnTo>
                <a:lnTo>
                  <a:pt x="67" y="1830"/>
                </a:lnTo>
                <a:lnTo>
                  <a:pt x="65" y="1810"/>
                </a:lnTo>
                <a:lnTo>
                  <a:pt x="65" y="1794"/>
                </a:lnTo>
                <a:lnTo>
                  <a:pt x="65" y="1776"/>
                </a:lnTo>
                <a:lnTo>
                  <a:pt x="65" y="1758"/>
                </a:lnTo>
                <a:lnTo>
                  <a:pt x="63" y="1740"/>
                </a:lnTo>
                <a:lnTo>
                  <a:pt x="61" y="1722"/>
                </a:lnTo>
                <a:lnTo>
                  <a:pt x="61" y="1705"/>
                </a:lnTo>
                <a:lnTo>
                  <a:pt x="59" y="1687"/>
                </a:lnTo>
                <a:lnTo>
                  <a:pt x="57" y="1669"/>
                </a:lnTo>
                <a:lnTo>
                  <a:pt x="55" y="1651"/>
                </a:lnTo>
                <a:lnTo>
                  <a:pt x="53" y="1635"/>
                </a:lnTo>
                <a:lnTo>
                  <a:pt x="52" y="1617"/>
                </a:lnTo>
                <a:lnTo>
                  <a:pt x="50" y="1599"/>
                </a:lnTo>
                <a:lnTo>
                  <a:pt x="48" y="1581"/>
                </a:lnTo>
                <a:lnTo>
                  <a:pt x="48" y="1563"/>
                </a:lnTo>
                <a:lnTo>
                  <a:pt x="48" y="1547"/>
                </a:lnTo>
                <a:lnTo>
                  <a:pt x="46" y="1529"/>
                </a:lnTo>
                <a:lnTo>
                  <a:pt x="46" y="1513"/>
                </a:lnTo>
                <a:lnTo>
                  <a:pt x="46" y="1495"/>
                </a:lnTo>
                <a:lnTo>
                  <a:pt x="44" y="1479"/>
                </a:lnTo>
                <a:lnTo>
                  <a:pt x="44" y="1461"/>
                </a:lnTo>
                <a:lnTo>
                  <a:pt x="42" y="1445"/>
                </a:lnTo>
                <a:lnTo>
                  <a:pt x="42" y="1427"/>
                </a:lnTo>
                <a:lnTo>
                  <a:pt x="40" y="1410"/>
                </a:lnTo>
                <a:lnTo>
                  <a:pt x="40" y="1394"/>
                </a:lnTo>
                <a:lnTo>
                  <a:pt x="40" y="1376"/>
                </a:lnTo>
                <a:lnTo>
                  <a:pt x="38" y="1360"/>
                </a:lnTo>
                <a:lnTo>
                  <a:pt x="38" y="1342"/>
                </a:lnTo>
                <a:lnTo>
                  <a:pt x="38" y="1326"/>
                </a:lnTo>
                <a:lnTo>
                  <a:pt x="38" y="1308"/>
                </a:lnTo>
                <a:lnTo>
                  <a:pt x="38" y="1292"/>
                </a:lnTo>
                <a:lnTo>
                  <a:pt x="40" y="1274"/>
                </a:lnTo>
                <a:lnTo>
                  <a:pt x="40" y="1258"/>
                </a:lnTo>
                <a:lnTo>
                  <a:pt x="42" y="1240"/>
                </a:lnTo>
                <a:lnTo>
                  <a:pt x="44" y="1223"/>
                </a:lnTo>
                <a:lnTo>
                  <a:pt x="46" y="1205"/>
                </a:lnTo>
                <a:lnTo>
                  <a:pt x="50" y="1189"/>
                </a:lnTo>
                <a:lnTo>
                  <a:pt x="52" y="1171"/>
                </a:lnTo>
                <a:lnTo>
                  <a:pt x="57" y="1155"/>
                </a:lnTo>
                <a:lnTo>
                  <a:pt x="61" y="1137"/>
                </a:lnTo>
                <a:lnTo>
                  <a:pt x="67" y="1123"/>
                </a:lnTo>
                <a:lnTo>
                  <a:pt x="74" y="1106"/>
                </a:lnTo>
                <a:lnTo>
                  <a:pt x="86" y="1090"/>
                </a:lnTo>
                <a:lnTo>
                  <a:pt x="97" y="1074"/>
                </a:lnTo>
                <a:lnTo>
                  <a:pt x="109" y="1058"/>
                </a:lnTo>
                <a:lnTo>
                  <a:pt x="122" y="1042"/>
                </a:lnTo>
                <a:lnTo>
                  <a:pt x="135" y="1026"/>
                </a:lnTo>
                <a:lnTo>
                  <a:pt x="150" y="1011"/>
                </a:lnTo>
                <a:lnTo>
                  <a:pt x="164" y="993"/>
                </a:lnTo>
                <a:lnTo>
                  <a:pt x="175" y="979"/>
                </a:lnTo>
                <a:lnTo>
                  <a:pt x="186" y="964"/>
                </a:lnTo>
                <a:lnTo>
                  <a:pt x="198" y="948"/>
                </a:lnTo>
                <a:lnTo>
                  <a:pt x="209" y="932"/>
                </a:lnTo>
                <a:lnTo>
                  <a:pt x="223" y="916"/>
                </a:lnTo>
                <a:lnTo>
                  <a:pt x="242" y="901"/>
                </a:lnTo>
                <a:lnTo>
                  <a:pt x="245" y="894"/>
                </a:lnTo>
                <a:lnTo>
                  <a:pt x="255" y="880"/>
                </a:lnTo>
                <a:lnTo>
                  <a:pt x="259" y="873"/>
                </a:lnTo>
                <a:lnTo>
                  <a:pt x="264" y="851"/>
                </a:lnTo>
                <a:lnTo>
                  <a:pt x="270" y="833"/>
                </a:lnTo>
                <a:lnTo>
                  <a:pt x="274" y="815"/>
                </a:lnTo>
                <a:lnTo>
                  <a:pt x="280" y="797"/>
                </a:lnTo>
                <a:lnTo>
                  <a:pt x="283" y="779"/>
                </a:lnTo>
                <a:lnTo>
                  <a:pt x="289" y="761"/>
                </a:lnTo>
                <a:lnTo>
                  <a:pt x="291" y="745"/>
                </a:lnTo>
                <a:lnTo>
                  <a:pt x="295" y="727"/>
                </a:lnTo>
                <a:lnTo>
                  <a:pt x="295" y="707"/>
                </a:lnTo>
                <a:lnTo>
                  <a:pt x="297" y="689"/>
                </a:lnTo>
                <a:lnTo>
                  <a:pt x="299" y="673"/>
                </a:lnTo>
                <a:lnTo>
                  <a:pt x="295" y="659"/>
                </a:lnTo>
                <a:lnTo>
                  <a:pt x="280" y="651"/>
                </a:lnTo>
                <a:lnTo>
                  <a:pt x="255" y="653"/>
                </a:lnTo>
                <a:lnTo>
                  <a:pt x="232" y="653"/>
                </a:lnTo>
                <a:lnTo>
                  <a:pt x="209" y="651"/>
                </a:lnTo>
                <a:lnTo>
                  <a:pt x="186" y="646"/>
                </a:lnTo>
                <a:lnTo>
                  <a:pt x="164" y="639"/>
                </a:lnTo>
                <a:lnTo>
                  <a:pt x="145" y="628"/>
                </a:lnTo>
                <a:lnTo>
                  <a:pt x="129" y="614"/>
                </a:lnTo>
                <a:lnTo>
                  <a:pt x="118" y="597"/>
                </a:lnTo>
                <a:lnTo>
                  <a:pt x="109" y="581"/>
                </a:lnTo>
                <a:lnTo>
                  <a:pt x="105" y="563"/>
                </a:lnTo>
                <a:lnTo>
                  <a:pt x="103" y="544"/>
                </a:lnTo>
                <a:lnTo>
                  <a:pt x="101" y="527"/>
                </a:lnTo>
                <a:lnTo>
                  <a:pt x="101" y="509"/>
                </a:lnTo>
                <a:lnTo>
                  <a:pt x="101" y="500"/>
                </a:lnTo>
                <a:lnTo>
                  <a:pt x="99" y="488"/>
                </a:lnTo>
                <a:lnTo>
                  <a:pt x="99" y="479"/>
                </a:lnTo>
                <a:lnTo>
                  <a:pt x="95" y="457"/>
                </a:lnTo>
                <a:lnTo>
                  <a:pt x="84" y="445"/>
                </a:lnTo>
                <a:lnTo>
                  <a:pt x="63" y="436"/>
                </a:lnTo>
                <a:lnTo>
                  <a:pt x="34" y="432"/>
                </a:lnTo>
                <a:lnTo>
                  <a:pt x="25" y="419"/>
                </a:lnTo>
                <a:lnTo>
                  <a:pt x="25" y="409"/>
                </a:lnTo>
                <a:lnTo>
                  <a:pt x="34" y="396"/>
                </a:lnTo>
                <a:lnTo>
                  <a:pt x="48" y="383"/>
                </a:lnTo>
                <a:lnTo>
                  <a:pt x="63" y="373"/>
                </a:lnTo>
                <a:lnTo>
                  <a:pt x="74" y="360"/>
                </a:lnTo>
                <a:lnTo>
                  <a:pt x="86" y="344"/>
                </a:lnTo>
                <a:lnTo>
                  <a:pt x="95" y="326"/>
                </a:lnTo>
                <a:lnTo>
                  <a:pt x="101" y="306"/>
                </a:lnTo>
                <a:lnTo>
                  <a:pt x="105" y="288"/>
                </a:lnTo>
                <a:lnTo>
                  <a:pt x="109" y="270"/>
                </a:lnTo>
                <a:lnTo>
                  <a:pt x="109" y="252"/>
                </a:lnTo>
                <a:lnTo>
                  <a:pt x="109" y="234"/>
                </a:lnTo>
                <a:lnTo>
                  <a:pt x="110" y="216"/>
                </a:lnTo>
                <a:lnTo>
                  <a:pt x="110" y="196"/>
                </a:lnTo>
                <a:lnTo>
                  <a:pt x="112" y="177"/>
                </a:lnTo>
                <a:lnTo>
                  <a:pt x="116" y="159"/>
                </a:lnTo>
                <a:lnTo>
                  <a:pt x="122" y="142"/>
                </a:lnTo>
                <a:lnTo>
                  <a:pt x="128" y="126"/>
                </a:lnTo>
                <a:lnTo>
                  <a:pt x="137" y="110"/>
                </a:lnTo>
                <a:lnTo>
                  <a:pt x="147" y="96"/>
                </a:lnTo>
                <a:lnTo>
                  <a:pt x="160" y="81"/>
                </a:lnTo>
                <a:lnTo>
                  <a:pt x="173" y="69"/>
                </a:lnTo>
                <a:lnTo>
                  <a:pt x="188" y="54"/>
                </a:lnTo>
                <a:lnTo>
                  <a:pt x="207" y="42"/>
                </a:lnTo>
                <a:lnTo>
                  <a:pt x="221" y="36"/>
                </a:lnTo>
                <a:lnTo>
                  <a:pt x="253" y="26"/>
                </a:lnTo>
                <a:lnTo>
                  <a:pt x="283" y="15"/>
                </a:lnTo>
                <a:lnTo>
                  <a:pt x="297" y="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16000" y="213372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6880" y="215424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000" y="249228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75880" y="2490840"/>
            <a:ext cx="10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Colon/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7640" y="2781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76600" y="2816280"/>
            <a:ext cx="98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ervix ut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7640" y="307188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87640" y="33577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80200" y="338292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ut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7640" y="36482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77320" y="3646440"/>
            <a:ext cx="105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orpus ut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85600" y="3936960"/>
            <a:ext cx="77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Ovari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7640" y="429588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75520" y="428004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entric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458136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Leucemi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19680" y="5084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3280" y="508464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19680" y="5445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5445000"/>
            <a:ext cx="136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Vesica urin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9280" y="5805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89560" y="580536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Limfo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2205000"/>
            <a:ext cx="33811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0760" y="2205000"/>
            <a:ext cx="137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ulmo &amp; bro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6880" y="220968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492280"/>
            <a:ext cx="129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olon/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4560" y="256536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2852640"/>
            <a:ext cx="76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ost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4560" y="285264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0040" y="321300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entric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79640" y="3213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1840" y="386064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3573360"/>
            <a:ext cx="5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He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79640" y="3860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32480" y="4221000"/>
            <a:ext cx="26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Usna šupljina/pharynx/o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79640" y="4221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98600" y="5950080"/>
            <a:ext cx="127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esica urin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79640" y="4508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96800" y="479736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elanoma malig. cu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79640" y="4797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2200" y="5084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u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520" y="5084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0760" y="537372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Leucemi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520" y="53737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79640" y="3573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1120" y="5661000"/>
            <a:ext cx="66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Limfo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520" y="5661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1840" y="450864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Laryn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520" y="59529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2920" y="6237360"/>
            <a:ext cx="33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520" y="62406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97160" y="6453360"/>
            <a:ext cx="15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Druge lokaliza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7640" y="645336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19680" y="39337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7640" y="4581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3880" y="6165720"/>
            <a:ext cx="15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Druge lokaliza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92320" y="616572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47628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 локал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ције у оболевању од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алигних тумор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д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ушкараца и жена -  упоредни при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79480" y="3086280"/>
            <a:ext cx="137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ulmo &amp; bro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4797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He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7440" y="479736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839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Стопа инциденције од малигних тумора 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у Нишавском округу 2012. године 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- по месту становања -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600" y="1700280"/>
          <a:ext cx="9131400" cy="42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1700280"/>
                    <a:ext cx="9131400" cy="4243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odišnja distribucija obolelih od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alignih tumora na teritoriji Nišavskog okr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1192320"/>
          <a:ext cx="9158400" cy="56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2320"/>
                    <a:ext cx="91584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ФАКТОРИ РИЗИКА ЗА НАСТАНАК МАЛИГНИХ БОЛЕСТИ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шење ду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равилна исх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ка неактив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зумирање алкох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терана изложеност сунчевој светлости или вештачким изворима светл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церогени животне и радне среди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приближно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ве трећин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актора ризика који су одговорни за настанак рака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могуће је утица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ењати их или их потпуно елиминис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ВЕНЦИЈА МАЛИГНИХ ТУ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упштина Светске здравствене организације је усвојила 2005. године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езолуцију о превенцији и контроли р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старство здравља Републике Србије израдило је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ационални програм за борбу против ра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вај програм представља део интегрисане акције друштва усмерене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лиминацију фактора риз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венциј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о откривање малигних тум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ље дијагностиковањ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ње и негу оболелих од ра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И ЗА СКРИНИНГ РАКА ГРЛИЋА МАТЕРИЦЕ, РАКА ДОЈКЕ И КОЛОРЕКТАЛНОГ 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крининг рака дојк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иће позиване жене старости од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50 до 6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д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мографски превентивни прегледи предвиђени су да се раде свим женама наведеног узраста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а две годи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ринингом на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арцином грлића материц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ухватиће се жене између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25 и 64 годи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је ће бити позиване на превентивни гинеколошки преглед и Пап тест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једном у три годи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љна група за тестирање на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ак дебелог цре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ухватиће грађане оба пола старости од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50 до 74 годи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ји ће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једном у две годи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ити позивани на тестирање на скривено крварење у сто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2228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АЛИГНИ ТУМОРИ У СВЕ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2012. умрло је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8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милиона људи широм с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раст броја оболелих с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2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милиона у 2008. н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4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милиона људи у 20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2032. године очекује се да ће оболети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25 милио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људи широм света, односно оболевање од рака ће порасти за 70 пос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00600" y="2541600"/>
            <a:ext cx="41148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00640"/>
            <a:ext cx="8076960" cy="54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јвећи пораст и у оболевању и у умирању у следећих двадесет година ће бити у неразвијеним и средње развијеним земљ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еразвијеним земља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 доминира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цином грлића матер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средње развијеним земља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ће и даље  водећи карциноми бити они који се доводе  у везу  са начином живота (пушење, алкохол, физичка неактивност и неправилна исхрана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о што су карцином плућа, дојке, дебелог ц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а више од 80% свих  малигних  болести  могуће  је  утицати  спречавањем почетка болести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АЛИГНИ ТУМОРИ У СРБ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9682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2011. је откривено  скоро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37.5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ових случајева малигних тум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21.0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људи је у 2011. умрло од 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Мушкарц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ак плућа, дебелог црева и прост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Жен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дојка, дебело црево, грлић материце и плу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5780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изик д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ком живота оболи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кo 12,4%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oд </a:t>
            </a: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жeнa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Србији  је 2011.године, оболело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461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умрло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1647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ен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% свих oбoлeлих и 17,5% свих умрлих жeнa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цином  дojкe  сe  нajчeшћe oткривa у oдмaклoj фaз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oпa мoртaлитeтa карцинома дojкe сe oд 1970. гoдинe пoвeћaлa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чeтири пут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сa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a 40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00 жeнa нa у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aмo кoд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жeнa тумoр дojкe сe oткриje дoк je мaњих димeнзиja, дo 2 цм; удeo тумора кojи сe joш увeк нe мoгу нaпипaти, a oткривajу сe мaмoгрaфским снимaњeм je зaнeмaрљи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к дојке у Срб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Portrait of a naked woman posing"/>
          <p:cNvPicPr/>
          <p:nvPr/>
        </p:nvPicPr>
        <p:blipFill>
          <a:blip r:embed="rId1"/>
          <a:stretch/>
        </p:blipFill>
        <p:spPr>
          <a:xfrm>
            <a:off x="6629400" y="1066680"/>
            <a:ext cx="227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вих карцинома чини колоректални карци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2011. оболело је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39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соба (2290 мушкараца и 1610 же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рло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252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соба (1481 мушкарац и 1040 же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ик од настанка карцинома дебелог црева се повећава са старошћу и значајно расте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кон 40 годи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ше од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вих карцинома открије се код   лица старијих од 50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игни тумор дебелог црев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 Србиј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10080" y="1870200"/>
            <a:ext cx="35816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275480"/>
            <a:ext cx="518148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ком 2011.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четвр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 учесталости малигни тумор у оболевању и у умирању жен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лело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122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ена, док су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46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ене умрле од ове врсте малигног ту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ој оболелих је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воструко в</a:t>
            </a: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ећ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оја оболели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 Евро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асна дистрибуција раније је показивала типичан пораст после 30 година, са врхом учесталости у жена старосних група од 45 до 49 и од 70 до 74 год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њих година врх у оболевању од карцинома грлића материце помера се према млађим узрас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8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к грлића материце у Србиј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0056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612800"/>
            <a:ext cx="4648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ећа су малигна локализација и у оболевању и у умирању међу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ушкарци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а дијагнозом р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ћи по учесталости узрок оболевања  и други узрок умирања међу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жена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а дијагнозом р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ком 2011. године  у Србији је оболело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625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соба (4767 мушкараца и 1487 жен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рло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498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соба (3656 мушкараца и 1333 ж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80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игни тумори плућа и бронх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lung cancer affects our lungs a vital organ that supplies oxygen to ..."/>
          <p:cNvPicPr/>
          <p:nvPr/>
        </p:nvPicPr>
        <p:blipFill>
          <a:blip r:embed="rId1"/>
          <a:stretch/>
        </p:blipFill>
        <p:spPr>
          <a:xfrm>
            <a:off x="5105520" y="23623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ff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Рак проста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Трећ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по учесталости малигни процес међу нашим мушкарц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оком 2011. године од рака простате је новооболело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1695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шкараца и умрло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1099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4876560" cy="2386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5880" y="1905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9:59:54Z</dcterms:created>
  <dc:creator>Computer</dc:creator>
  <dc:description/>
  <dc:language>en-US</dc:language>
  <cp:lastModifiedBy>OliveraRadulovic</cp:lastModifiedBy>
  <dcterms:modified xsi:type="dcterms:W3CDTF">2014-03-07T09:20:17Z</dcterms:modified>
  <cp:revision>31</cp:revision>
  <dc:subject/>
  <dc:title>Slide 1</dc:title>
</cp:coreProperties>
</file>