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950-8A26-4806-876B-885484D6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643-646E-4D42-8F43-E35A6D27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C43-F842-44C2-982D-814431F2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B72-E107-49D2-9A27-F0146450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6FE-4705-493B-8EEB-D75EBEAC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56C-1805-4BB5-A066-539B2366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FE97-673A-4564-B771-D5954D40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ADE-0D6A-4AF6-AA8C-03082500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28A-6B92-470C-9727-2B65B853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9B3-59FE-4D07-BD26-E961C20D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809-D8B0-44D5-BBF7-EF56B033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F6C-ED60-404D-BB7D-A6276C8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8340-EE41-47C2-A7AB-732BA8B94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600" spc="-1" strike="noStrike">
                <a:solidFill>
                  <a:srgbClr val="ffff00"/>
                </a:solidFill>
                <a:latin typeface="Times New Roman"/>
              </a:rPr>
              <a:t>ANTHRAX</a:t>
            </a:r>
            <a:br>
              <a:rPr sz="9600"/>
            </a:br>
            <a:r>
              <a:rPr b="1" lang="sr-Latn-CS" sz="9600" spc="-1" strike="noStrike">
                <a:solidFill>
                  <a:srgbClr val="ffff00"/>
                </a:solidFill>
                <a:latin typeface="Times New Roman"/>
              </a:rPr>
              <a:t>Crni priš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Prof dr Branislav Petrovi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33cc"/>
                </a:solidFill>
                <a:latin typeface="Times New Roman"/>
              </a:rPr>
              <a:t>RAŠIRENOST U SVETU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nthrax-map" descr=""/>
          <p:cNvPicPr/>
          <p:nvPr/>
        </p:nvPicPr>
        <p:blipFill>
          <a:blip r:embed="rId1"/>
          <a:stretch/>
        </p:blipFill>
        <p:spPr>
          <a:xfrm>
            <a:off x="314280" y="1657440"/>
            <a:ext cx="8515440" cy="3543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PROFILAK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3124080"/>
            <a:ext cx="5562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Veterinarske mere (lečenje i na bezbedan način uklanjanje uginulih životin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Mere lične zaštite (zaštitna odeća i obuća, rukavice, maske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SUZBIJAN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Prijavlji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Obaveštavanje veterinarske služ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Hospital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Epidemiološko ispiti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Laboratorijska dijagnos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Dezinfek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Defini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Akutna infektivna bolest iz grupe antropozoonoza od koje primarno obolevaju neke domaće životinje (biljožderi), sa kojih se bolest različitim putevima prenosi na čov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ti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Bacillus anthracis – sporogena bakter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Spore su veoma otporne u spoljašnjoj sredini i u njoj mogu dugo da opstan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nthrax_spore" descr=""/>
          <p:cNvPicPr/>
          <p:nvPr/>
        </p:nvPicPr>
        <p:blipFill>
          <a:blip r:embed="rId2"/>
          <a:stretch/>
        </p:blipFill>
        <p:spPr>
          <a:xfrm>
            <a:off x="4800600" y="4038480"/>
            <a:ext cx="3257640" cy="2503440"/>
          </a:xfrm>
          <a:prstGeom prst="rect">
            <a:avLst/>
          </a:prstGeom>
          <a:ln w="0">
            <a:noFill/>
          </a:ln>
        </p:spPr>
      </p:pic>
      <p:pic>
        <p:nvPicPr>
          <p:cNvPr id="48" name="bacilus%20anthracis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289584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Izvor zara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Bolesne životinje (najčešće ovce, goveda, koze i konj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Kod životinja bolest obično protiče kao septikemija i letalno se završ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Životinje se inficiraju na pašnjacima sporama antraksa (“prokleta polja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Ciklus Anthraxa</a:t>
            </a:r>
            <a:br>
              <a:rPr sz="4400"/>
            </a:b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(putevi prenošenj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nthrax%20ciklus" descr=""/>
          <p:cNvPicPr/>
          <p:nvPr/>
        </p:nvPicPr>
        <p:blipFill>
          <a:blip r:embed="rId2"/>
          <a:stretch/>
        </p:blipFill>
        <p:spPr>
          <a:xfrm>
            <a:off x="1523880" y="1501920"/>
            <a:ext cx="6248520" cy="5356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Ulazna vrata: koža, sluzokože respiratornog i digestivnog tra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Osetljivost: opšta (muškarci više obolevaju zbog veće izlože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Otpornost: nema solidnog imuniteta; moguće reinfe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Inkubacija: 2-5-7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Klinička sl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Kožni anthrax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Pustula malig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Na otkrivenim delovima t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Bezbolna crvena mrlja koja svrbi,papula, vezikula,stvaranje novih vezikula oko primarne; sadržaj vezikula postaje m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Temperatura, glavobolja, povraćanje, maligni edemi (na licu koji zahvata grudni ko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Plućni anthr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simptomi od strane respiratornog sistema; obično se letalno završ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Crevni anthr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simptomi od strane digestivnog sistema; obično se letalno završ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Vrste antrak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astroanthrax" descr=""/>
          <p:cNvPicPr/>
          <p:nvPr/>
        </p:nvPicPr>
        <p:blipFill>
          <a:blip r:embed="rId2"/>
          <a:stretch/>
        </p:blipFill>
        <p:spPr>
          <a:xfrm>
            <a:off x="5342040" y="1447920"/>
            <a:ext cx="2990880" cy="3047760"/>
          </a:xfrm>
          <a:prstGeom prst="rect">
            <a:avLst/>
          </a:prstGeom>
          <a:ln w="0">
            <a:noFill/>
          </a:ln>
        </p:spPr>
      </p:pic>
      <p:pic>
        <p:nvPicPr>
          <p:cNvPr id="58" name="inhalation-anthrax" descr=""/>
          <p:cNvPicPr/>
          <p:nvPr/>
        </p:nvPicPr>
        <p:blipFill>
          <a:blip r:embed="rId3"/>
          <a:stretch/>
        </p:blipFill>
        <p:spPr>
          <a:xfrm>
            <a:off x="3657600" y="45720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kutani%20antrax" descr=""/>
          <p:cNvPicPr/>
          <p:nvPr/>
        </p:nvPicPr>
        <p:blipFill>
          <a:blip r:embed="rId4"/>
          <a:stretch/>
        </p:blipFill>
        <p:spPr>
          <a:xfrm>
            <a:off x="533520" y="4267080"/>
            <a:ext cx="2971800" cy="2371680"/>
          </a:xfrm>
          <a:prstGeom prst="rect">
            <a:avLst/>
          </a:prstGeom>
          <a:ln w="0">
            <a:noFill/>
          </a:ln>
        </p:spPr>
      </p:pic>
      <p:pic>
        <p:nvPicPr>
          <p:cNvPr id="60" name="antrax" descr=""/>
          <p:cNvPicPr/>
          <p:nvPr/>
        </p:nvPicPr>
        <p:blipFill>
          <a:blip r:embed="rId5"/>
          <a:stretch/>
        </p:blipFill>
        <p:spPr>
          <a:xfrm>
            <a:off x="380880" y="1523880"/>
            <a:ext cx="3619800" cy="255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Dijagno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Materijal za dijagnostik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Bris sa pustule, njen sadržaj, isečak tk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Sto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Spu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K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Uzročnik se dokazuje mikroskopski, bakteriološki i biološkim ogle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0:33:17Z</dcterms:created>
  <dc:creator>IZJZ</dc:creator>
  <dc:description/>
  <dc:language>en-US</dc:language>
  <cp:lastModifiedBy>IZJZ</cp:lastModifiedBy>
  <dcterms:modified xsi:type="dcterms:W3CDTF">2009-01-12T08:43:51Z</dcterms:modified>
  <cp:revision>2</cp:revision>
  <dc:subject/>
  <dc:title>ANTHRAX Crni prišt</dc:title>
</cp:coreProperties>
</file>