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EB5-8474-4FB1-A7D8-7BFACCC4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1D34-C69C-4954-8B85-0AC32464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245-4643-49A1-8B5A-93219A79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2AC9-F96F-4F4A-A7B5-4CB62E43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4E7D-DA21-45EE-97BD-54C20BF5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1B0E-59E9-43FF-AD37-2FF1F2B6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2CB9-8603-4D0C-8E07-9576FCBB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93CC-F0C4-4A18-A73B-24A1B813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290D-2684-4327-A8F8-9806052E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3249-39D2-44FE-BA9C-1D79CB30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C05B-B54D-48FB-8278-A8B0D4E4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1099-6F3A-48A0-9DEA-D709544D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6146-FDAF-4E92-A7DE-82DBD651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76AA-9E79-444C-BE9F-956882DE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C4B6-644E-470F-BBE7-B4879351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CC21-7BE0-4ED4-8554-FD57E202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051F-D9BD-4F9A-9260-69B42FFA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D7B8-0616-49D5-8AEF-246435CD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1E1-2E4B-4FA1-A3B5-94ABABF5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70B3-DCF5-43D0-B767-48AE4523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97B-E026-4AF8-B944-DC04C737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8B7-6177-4E98-907F-1D6DA664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7C2-4954-4F1C-8CC2-028E478E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85F1-2951-4601-9906-63CDD556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D5B7-8A01-42F3-9015-41BB666BAF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0641-9C9D-4635-B206-2E124367C6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zinsek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stent dr Nataša Ranči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333399"/>
                </a:solidFill>
                <a:latin typeface="Times New Roman"/>
              </a:rPr>
              <a:t>Mere kojima se uskraćuju uslovi za razvoj i održavanja štetnih artropod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gracije iz ruralnih u urbane sredi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Stanovništvo donosi sanitarne i kulturološke navike koje pogoduju razvoju štetnih artropoda (gradnja nehigijenskih naselja, septičkih jama, otvorene kanalizacije, nehigijenske deponije)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U urbanoj sredini uslovi za razvoj štetnih artropoda mogu da nastanu kao posledica: neplanskog zbrinjavanja ispustnih voda, neurešenosti vodotokova, neodržavanja kupališta, grešaka u gradi objekata i infrastruk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Ublažavanjem ili trajnim uklanjanjem ovih nedostataka utiče se na brojnost artropoda, a ako se u dužem vremenu sprovode te mere mogu da se potpuno odstra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99"/>
                </a:solidFill>
                <a:latin typeface="Times New Roman"/>
              </a:rPr>
              <a:t>Mere kojima se uskraćuju uslovi za kontakt sa izvorom hra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Postoje vrste koje se hrane isključivo biljnom hranom (biljne vaši, mužjaci komaraca), vrste koje se hrane biljnim produktima ( moljci, žišci), i biljnim i životinjskim materijama u raspadanju (muve) i vrste koje se hrane krvlju (komarci, buve, vaši, stenice, krpelji, flebotomine, neke vrste muva...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Među skladištnim štetočinama postoje vrste koje su polifagne, za ishranu koriste i žitarice, bilju i životinjsku hranu, u nedostatku i drvo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One koje se hrane krvlju-komarci prema vrsti domaćina-zoofilne i antropofil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ode dezinsekci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hanič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zič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ološ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mijs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hanička sredst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im sredstvima uništava ju se insekti, menja im se sredina za razvoj I održavanje I ne zagđuje se životna sredi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kat ovih sredstava je ogranič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prinose smanjivanju broja artropo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išćenje, pranje, mlatilice, klopke, mreže, češljevi za depedikulacij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dikulacija-uništavanje vaš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zička sredst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jčešće se koriste sledeća fizička sredstva:plamen, iskuvavanje, vodena para i suva toplo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a sredstva imaju prednosti I ma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men: uništavanje bezvrednih predmeta, otpadak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kuvavanje je efikasno 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erijali koji ga mogu podne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erijali od kože, svile, vune, gume ne mogu se iskuvava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dena para je najpoznatije fizičko sredstvo za suzbijanje vektora pegavca (vaši tela) u I I II svetskom rat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ini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redstavlja skup mera i postupaka za uništavanje zglavkara, najčešće insekata, izvora i vektora transmisivnih zaraznih bolesti, kao i drugih štetnih insekata od medicinskog i higijenskog znača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štavanje vašiju I gnjida postiže se vodenom parom na temperaturi od 65 stepeni za 5 minu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većanje vremena ekspozicije I temerature povećava se efekat p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 sme se izlagati odeča i rublje koje je zaprljano krvlj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znato je srpsko ili partizansko b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drveno bure, poklopac, odeća, izbušeno dno bureta, kazan sa vod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 benzinsko bure, drveni poklopac, letvice ili granje za zaštitu odeće od zagrejanog zida bureta, odeća, rešetka, vo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zinsekcija suvom toplotom obavlja se u aparatima koji mogu da izdrže razvoj visoke temerature (pegl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mogu da budu I prostorije/objekti koji mogu da izdrže visoku temeraturu: pekare, komore, sušnice voć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kspozicija-izlaganje suvoj toploti iznosi 30 minu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o komore mogu se upotrebljavati sve zatvorene prostorije u kojima se temperatura vazduha može zagrejati između 80 i 100 stepen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gu da budu pokretne I nepokret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zemne komore-zemljanke. Greju se pomoću peći spol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nas se za dezinsekciju suvom toplotom  najviše koristi peg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 bi se uništile vaši i gnjide (vaš glave, vaš tela) moraju da se peglaju šavovi odeće sa nalič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o mogu da se unište I jaja moljaca I mu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iska tempera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je dala zadovoljavajuće efekte, zato što ih artropode dobro podno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loška sredst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atori, nematode, gljive, bakterije, virusi, alge i više biljk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 predatora najviše se koriste neke vrste riba u suzbijanju komaraca, zato što se hrane larvama komara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rišćene su u eradikaciji malarije u Izraelu, Turskoj, Grčkoj, Maroku, Alžiru, Rusij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 makedoniji nije bilo rezultata, ali bilo je vrlo uspešno u oblasti Istre I Kvarnera. Niske temperature vode, jezera u Makedonij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 preporučuje se istovremena upotreba riba I insektici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mijska sredst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torija razvoja I upotrebe insektici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zdvajaju se četiri perio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vi-primena prirodnih produkat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jduže je trajao ovaj period od 90. godine do 1848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jviše su se upotrebljavale biljke-kukurek biljni produkti: nikotin i terpent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eralna ulj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sen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ugi period-fumiganti, neorganske komponente I naftni deriva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jao je od 1854 do 1932. god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 ovom periodu je sintetizovan DDT (Zeindler, 1874. godin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ali su primenu ugljen disulfid, cijanovodonična kiselina, arsenati, produkti naf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Znača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sr-Latn-CS" sz="3200" spc="-1" strike="noStrike">
                <a:solidFill>
                  <a:srgbClr val="3333cc"/>
                </a:solidFill>
                <a:latin typeface="Times New Roman"/>
              </a:rPr>
              <a:t>prečavanje i suzbijanje transmisivnih zaraznih bolesti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Times New Roman"/>
              </a:rPr>
              <a:t>Borba protiv vektora-prenosilaca uzročnika transmisivnih zaraznih boles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eći period-moderni sintetski insekticid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 1925 do 1962. god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jviše sintetizovano različitih organo hlornih, organo fosfornih jedinjenja. Većina se I danas koris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etvrti period-hormoni I feromoni. Od 1967 I danas traj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dela insekticida prema porekl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ljnog porek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tetski insekticidi neorganskog porek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tetski insekticidi organskog porek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ljni insekticid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kot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retr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baz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ten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ntetski insekticidi neorganskog porek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dinjenja arsena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uo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ž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ntetski insekticidi organskog porek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nas najbrojnij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a hemijskom poreklu dele se n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ohlorna, organofosforna, karbamatska, piretroidna, fumigantska, tiocijanatska, nitrofenolna, organsko-fluor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stance slične insekticidima ili pojačavaju njihovo dejst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vatori, atraktanti, repelenti, nosači insekticida, regulatori rasta, infibitori sinteze hiti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odela prema načinu delovanja odnosno prodora u organizam insek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estivno, respiratorno (inhalaciono) i kontaktno dejstv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estivno dejstvo ispoljava se kada insekticid prodre u organizam hranom ili vodo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mci pripremljeni sa atraktanti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dinjenja fluora, arsena, organofosforna jedinjenja, soli borne kise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 praksi insekticidi imaju kombinovano dejstvo (2) ili sva tri dejst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taktno dejstvo-kontakt tela insekta I podloge na kojoj je aplikovan insektic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ofosforna jedinjenja, organo-hlorna, piretroidska jedinjenja I karbamatska jedinjen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iratorno (inhalaciono) preko disajnih orga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kticidi iz ove grupe predstavljaju najjače otrove I njihova upotreba je ogranič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jan-vodonik, ugljen-dioksid, sumpor-diokdid, naftalin, etilen-oks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Može da bude profilaktička mera i protivepidemijska me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rema našim zakonskim propisima dezinsekcija se vrši pri pojavi: pegavog tifusa, povratne groznice, kuge, malarije, vašiljvosti tela, zaraznog proliva (samo u slučaju pojave epidemije) i salmoneloz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lici insekticid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šiva, rastvori, emulzije, suspenzije, granule, tablete, mamci, paste, aerosoli i štapići za dimljenj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Sprovodi se dezinsekcija ličnih predmeta, stambenih i drugih prostorija i prevoznih sredstav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U slučaju pojave malarije sprovodi se i dezinsekcija naselja i okoline nasel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Zbog razvoja rezistencije artropoda potreban je planski  pristup u rešavanju suzbijanja štetnih artropoda uz korišćenje svih raspoloživ resursa pre primene hemijskih sredsta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Zdravstveno-vaspitni r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Mere kojima se uskraćuju uslovi za razvoj i održavanje štetnih artropoda u prirod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Mere kojima se uskraćuju uslovi za kontakt artropoda sa izvorom hra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99"/>
                </a:solidFill>
                <a:latin typeface="Tahoma"/>
              </a:rPr>
              <a:t>Zdravstveno-vaspitni r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Upoznati stanovništvo sa osnovnim karakteristikama vrste koja se suzbija, štetom koja nastaje njenim prisustvom u poljoprivredi i veterini, sa bolešću koju može širiti na tom prostoru, pa i ši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Da stanovništvo shvati problem i da se aktivno uključi u njegovo rešavanj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Sredstva javnog informisan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Svojim prisustvom čovek doprinosi izmeni staništa velikom broju vrsta. Neke se povlače i adaptiraju na zatvorene prostore, povremeno (skladišta) ili stalno (žuti mravi, bubašvabe, stenice, neke vrste komaraca), ajedan broj ima razvijen i fakultativno-obligatni način življenja (krpelji, vaši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0:12:54Z</dcterms:created>
  <dc:creator>AZURE</dc:creator>
  <dc:description/>
  <dc:language>en-US</dc:language>
  <cp:lastModifiedBy>AMD</cp:lastModifiedBy>
  <dcterms:modified xsi:type="dcterms:W3CDTF">2002-01-26T09:12:35Z</dcterms:modified>
  <cp:revision>17</cp:revision>
  <dc:subject/>
  <dc:title>Dezinsekcija</dc:title>
</cp:coreProperties>
</file>