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76C-8E3E-45F0-B29F-8C47F916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6DB-438F-4F87-A72D-BA114DFA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FF2-A2AA-4AEE-9634-86E7009F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DFA-19D1-4032-B623-466628FF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DEBA-928B-49E8-8E4D-F49AB24F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A229-0486-481A-AA98-2AF86040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8D5B-AA83-4628-8814-E02DE0E5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00D9-2BD4-4CD8-8A4D-78F3B904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D9B0-4793-4B47-B90C-F50CC7F3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17FA-30CB-4983-B4E3-C0011ACE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2DEC-4D9C-4D50-863E-D9D75B5B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7D9-60BF-487F-901C-1F663EFB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BC90-39FD-49D0-BC27-654B282D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D54B-4F1A-4A1A-861B-F3D7862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9588-F4AE-4746-AA2E-46A4BDEB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8E5F-C7B6-4358-8292-AAB696C7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33F7-05C9-46B0-A74E-5B4786DD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8BF2-F44B-4330-9978-5B3D8845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EA6-C38E-4DEA-8177-984BB057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F90-08ED-4345-8A66-83955225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E02-2F6D-4589-A314-C60029A2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26C-CE48-4F74-BC4D-858C2362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2F2-03F6-49EC-BF5A-0CC669B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7CC-9BF4-4EAF-AEE9-37676A3C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C2F2-96C2-486A-BE17-8AB03AF392F9}" type="slidenum"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0E15-293D-4318-8F56-8F0B34D898E9}" type="slidenum"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800px-Anopheles_albimanus_mosquit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0" spc="-1" strike="noStrike">
                <a:solidFill>
                  <a:srgbClr val="0000ff"/>
                </a:solidFill>
                <a:latin typeface="Arial"/>
              </a:rPr>
              <a:t>Malarija</a:t>
            </a:r>
            <a:endParaRPr b="0" lang="en-US" sz="1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28440" y="5943600"/>
            <a:ext cx="610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rof. Dr Branislav Petrović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utevi prenošen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ISKLJUČIVO inficirane ženke komarca iz roda Anophe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Transfuzijom krv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Hirurškim zahvati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Anofeles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2668320" cy="3728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00400" y="2743200"/>
            <a:ext cx="2332080" cy="2533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943600" y="20574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791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cc"/>
                </a:solidFill>
                <a:latin typeface="Times New Roman"/>
              </a:rPr>
              <a:t>A. maculipenni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A.superpic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A. Sacharov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Razlike u položaju na podlozi Culexa i Anopheles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067200" cy="3067200"/>
          </a:xfrm>
          <a:prstGeom prst="rect">
            <a:avLst/>
          </a:prstGeom>
          <a:ln w="0">
            <a:noFill/>
          </a:ln>
        </p:spPr>
      </p:pic>
      <p:pic>
        <p:nvPicPr>
          <p:cNvPr id="125" name="800px-Anopheles_albimanus_mosquito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Cule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Times New Roman"/>
              </a:rPr>
              <a:t>Anophe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Ulazna vrata: otkriveni delovi ko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Osetljivost: opš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Otpornost: imunitet je nesolidan i kratkotrajan, pa su moguće reinfekci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Inkubac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. tercijana – oko 2 nedel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. Tropica – oko 10 da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. Kvartana – oko 30 dan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Klinička sli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Jeza, drhtavica temperatura do 40 stepen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Preznojavanje i pad tempera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Ovakvi simptomi javljaju se (u zavisnosti od tipa malarije) na 48, 72 sata ili svakodnevno (m. Tropika)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Bolest traje 10-15 dan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Ostali simptomi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glavobolj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, umor, povraćanje, su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 kašalj, bolovi u mišićima, povećanje jetre, ili čak nervne disfunkcije i gubitak svijesti. </a:t>
            </a:r>
            <a:r>
              <a:rPr b="0" lang="sr-Latn-CS" sz="20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ajnepovoljnije efekte izaziva </a:t>
            </a:r>
            <a:r>
              <a:rPr b="0" i="1" lang="en-GB" sz="2000" spc="-1" strike="noStrike">
                <a:solidFill>
                  <a:srgbClr val="ffffcc"/>
                </a:solidFill>
                <a:latin typeface="Arial"/>
              </a:rPr>
              <a:t>P. falciparum</a:t>
            </a:r>
            <a:r>
              <a:rPr b="0" lang="en-GB" sz="20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Laboratorijska dijagnosti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Gusta kap i periferni razmaz krvi uzete u vreme napada ili neposredno posle njeg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057400" y="3276720"/>
            <a:ext cx="460044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Raširenostu svetu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še od 40% svjetsk</a:t>
            </a: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populacij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živi u područjima  zahvaćenim malarijom i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mili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oni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ljudi godišnje od nje umire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, uglavnom djece ispod 5 godina i trudnica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vak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og</a:t>
            </a: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inut</a:t>
            </a: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u svetu umire </a:t>
            </a: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dvoje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djece od malarij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ko 90% akutno oboljelih nalazi se u subsaharskoj Afric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Raširenost u sve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9" name="malarija1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2936880" cy="3891240"/>
          </a:xfrm>
          <a:prstGeom prst="rect">
            <a:avLst/>
          </a:prstGeom>
          <a:ln w="0">
            <a:noFill/>
          </a:ln>
        </p:spPr>
      </p:pic>
      <p:pic>
        <p:nvPicPr>
          <p:cNvPr id="140" name="malarija2" descr=""/>
          <p:cNvPicPr/>
          <p:nvPr/>
        </p:nvPicPr>
        <p:blipFill>
          <a:blip r:embed="rId3"/>
          <a:stretch/>
        </p:blipFill>
        <p:spPr>
          <a:xfrm>
            <a:off x="3733920" y="1066680"/>
            <a:ext cx="5105160" cy="389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520" y="512280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U Srbiji javljaju se pojedinačni slučajevi importovane malarij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imes New Roman"/>
              </a:rPr>
              <a:t>Malarija je iskorenjena (eradicirana) u Srbiji 1965. godin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rofilaksa malar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Uništavanje malaričnih komaraca(insekticidima) i njihovih larvi (isušivanjem močvara i bara, insekticidi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Korišćenje repelenata i mehaničkih zaštitnih sredstav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Hemioprofilaksa antimalarici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Vakcina je u fazi ispitivanj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Definic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a je akutna ili hronična OBLIGATNO transmisivna endemo-epidemična protozoalna antroponoza čije uzročnike prenose komarci iz roda anofeles. Rasprostranjena je širom svet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Suzbijanje malar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rijavljivanje oboleli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Hospitalizacija i lečen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Laboratorijsko ispitivanje obolelih, sumnjivih i parazitonoš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Dezinsekcij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49760"/>
            <a:ext cx="2578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Etiologi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914040"/>
            <a:ext cx="820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vivax – uzroičnik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e tercij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falciparum – uzročnik malarije tropik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malariae – uzročnik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e kvarta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lasmodium ovale – uzročnik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malarije slične tercijan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pl%20vivax" descr=""/>
          <p:cNvPicPr/>
          <p:nvPr/>
        </p:nvPicPr>
        <p:blipFill>
          <a:blip r:embed="rId2"/>
          <a:stretch/>
        </p:blipFill>
        <p:spPr>
          <a:xfrm>
            <a:off x="6705720" y="609480"/>
            <a:ext cx="190476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plasm%20falciparum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1217880" cy="1517760"/>
          </a:xfrm>
          <a:prstGeom prst="rect">
            <a:avLst/>
          </a:prstGeom>
          <a:ln w="0">
            <a:noFill/>
          </a:ln>
        </p:spPr>
      </p:pic>
      <p:pic>
        <p:nvPicPr>
          <p:cNvPr id="97" name="pl%20ovale" descr=""/>
          <p:cNvPicPr/>
          <p:nvPr/>
        </p:nvPicPr>
        <p:blipFill>
          <a:blip r:embed="rId4"/>
          <a:stretch/>
        </p:blipFill>
        <p:spPr>
          <a:xfrm>
            <a:off x="7162920" y="5181480"/>
            <a:ext cx="1371600" cy="1365480"/>
          </a:xfrm>
          <a:prstGeom prst="rect">
            <a:avLst/>
          </a:prstGeom>
          <a:ln w="0">
            <a:noFill/>
          </a:ln>
        </p:spPr>
      </p:pic>
      <p:pic>
        <p:nvPicPr>
          <p:cNvPr id="98" name="Plasmodium_malariae_01" descr=""/>
          <p:cNvPicPr/>
          <p:nvPr/>
        </p:nvPicPr>
        <p:blipFill>
          <a:blip r:embed="rId5"/>
          <a:stretch/>
        </p:blipFill>
        <p:spPr>
          <a:xfrm>
            <a:off x="6781680" y="3632040"/>
            <a:ext cx="21337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6160" y="2260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Uzročnici malar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6483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cc"/>
                </a:solidFill>
                <a:latin typeface="Arial"/>
              </a:rPr>
              <a:t>Plasmodium vivax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47920" y="1752480"/>
            <a:ext cx="5000400" cy="5105520"/>
            <a:chOff x="1447920" y="1752480"/>
            <a:chExt cx="5000400" cy="510552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447920" y="1752480"/>
              <a:ext cx="50004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 txBox="1"/>
            <p:nvPr/>
          </p:nvSpPr>
          <p:spPr>
            <a:xfrm>
              <a:off x="1447920" y="1752480"/>
              <a:ext cx="5000400" cy="510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ccff33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lasmodium falcipau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462600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lasmodium ova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841400" y="1371600"/>
            <a:ext cx="522288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Plasmodium malaria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492264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680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Razvojni ciklusi plazmodija u komarcu i čoveku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586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00"/>
                </a:solidFill>
                <a:latin typeface="Arial"/>
              </a:rPr>
              <a:t>Izvor zaraz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Čovek je jedini izvor zaraze (bolestan čovek ili parazitonoš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Psihičke i fizičke traume mogu da provociraju kod kliconoša recidive malari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cc"/>
                </a:solidFill>
                <a:latin typeface="Arial"/>
              </a:rPr>
              <a:t>Dužina nosilaštva parazit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d tercijane – do 3 god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d tropike – do 1 god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cc"/>
                </a:solidFill>
                <a:latin typeface="Arial"/>
              </a:rPr>
              <a:t>Kod kvartane – od 5-20 godin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0:18:31Z</dcterms:created>
  <dc:creator>IZJZ</dc:creator>
  <dc:description/>
  <dc:language>en-US</dc:language>
  <cp:lastModifiedBy>IZJZ</cp:lastModifiedBy>
  <dcterms:modified xsi:type="dcterms:W3CDTF">2009-01-14T07:37:29Z</dcterms:modified>
  <cp:revision>5</cp:revision>
  <dc:subject/>
  <dc:title>Malarija</dc:title>
</cp:coreProperties>
</file>