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B82B-8DEC-4F57-BFBD-87C77C285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0BFF-4C7A-49D4-BA7C-1279627AE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BC41-AF99-463E-ADF6-2B96E6B58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58B2-71AF-42D6-B714-BA378D0A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42D0-C9FF-498A-9F31-91149DB0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703D-2ECF-4E4A-9553-E3D236D05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F7D5-4512-476F-9650-4A6A87A51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4768-A9C4-4821-9EDF-BF7E9306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01BC-7706-4272-852E-614EFF96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AE18-F199-4FB8-A2D0-A9C30D20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28DF-A4F9-4654-8F23-2DFEC94D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419B-CBDD-4768-861F-E3A40BB8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29EC-C887-4314-8EBE-80E8DD60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C522-1F9B-49C4-B372-6B50BD9A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F1D8-350A-48B7-B9F4-67D0D2D4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E833-06FA-4888-9D29-47DA717C2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6832" dir="1603641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OLNIČKE INFEKCIJE I MERE PREVEN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4952520"/>
            <a:ext cx="9144000" cy="1752840"/>
          </a:xfrm>
          <a:prstGeom prst="rect">
            <a:avLst/>
          </a:prstGeom>
          <a:noFill/>
          <a:ln w="0">
            <a:noFill/>
          </a:ln>
          <a:effectLst>
            <a:outerShdw dist="25560" dir="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ahoma"/>
              </a:rPr>
              <a:t>Medicinski fakultet Niš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ahoma"/>
              </a:rPr>
              <a:t>Institut za javno zdravlje Ni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Srb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  <a:ea typeface="Times New Roman"/>
              </a:rPr>
              <a:t>Ulazna mesta</a:t>
            </a:r>
            <a:r>
              <a:rPr b="0" lang="en-US" sz="4000" spc="-1" strike="noStrike">
                <a:solidFill>
                  <a:srgbClr val="ff3300"/>
                </a:solidFill>
                <a:latin typeface="YUBitsCharter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0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operativno mesto (rez ili incizija)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prostor operativnog mesta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1,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sluzokoža urogenitalnog trakta (infekcije mokraćnih puteva najzastupljenije sa 25%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infekcije respiratornog i digestivnog trakta (1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infekcije krvi  (klinički manifestna sepsa - 3.5%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povređena kož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sluzokoža polnih orga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infekcije drugih organa ili siste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312480"/>
            <a:ext cx="8155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600" spc="-1" strike="noStrike">
                <a:solidFill>
                  <a:srgbClr val="ffffff"/>
                </a:solidFill>
                <a:latin typeface="Arial"/>
              </a:rPr>
              <a:t>Epidemiološka klasifikacija 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826920" y="2492280"/>
            <a:ext cx="18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1600" spc="-1" strike="noStrike">
                <a:solidFill>
                  <a:srgbClr val="ffff00"/>
                </a:solidFill>
                <a:latin typeface="YUBitsCharterK"/>
              </a:rPr>
              <a:t>Ambulant</a:t>
            </a:r>
            <a:r>
              <a:rPr b="0" lang="en-US" sz="1600" spc="-1" strike="noStrike">
                <a:solidFill>
                  <a:srgbClr val="ffff00"/>
                </a:solidFill>
                <a:latin typeface="YUBitsCharterK"/>
              </a:rPr>
              <a:t>n</a:t>
            </a:r>
            <a:r>
              <a:rPr b="0" lang="sr-Latn-BA" sz="1600" spc="-1" strike="noStrike">
                <a:solidFill>
                  <a:srgbClr val="ffff00"/>
                </a:solidFill>
                <a:latin typeface="YUBitsCharterK"/>
              </a:rPr>
              <a:t>e infekc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3492360" y="23493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000" spc="-1" strike="noStrike">
                <a:solidFill>
                  <a:srgbClr val="ffff00"/>
                </a:solidFill>
                <a:latin typeface="YUBitsCharterK"/>
              </a:rPr>
              <a:t>Hospitalne infek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084720" y="2276640"/>
            <a:ext cx="18003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1600" spc="-1" strike="noStrike">
                <a:solidFill>
                  <a:srgbClr val="ffff00"/>
                </a:solidFill>
                <a:latin typeface="YUBitsCharterK"/>
              </a:rPr>
              <a:t>Infekcije tokom prof.aktivn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539640" y="3357720"/>
            <a:ext cx="1152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1400" spc="-1" strike="noStrike">
                <a:solidFill>
                  <a:srgbClr val="ffff00"/>
                </a:solidFill>
                <a:latin typeface="YUBitsCharterK"/>
              </a:rPr>
              <a:t>infekcije  pacijen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 flipH="1">
            <a:off x="1331640" y="2997360"/>
            <a:ext cx="360360" cy="215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9"/>
          <p:cNvSpPr/>
          <p:nvPr/>
        </p:nvSpPr>
        <p:spPr>
          <a:xfrm>
            <a:off x="1692360" y="2997360"/>
            <a:ext cx="431640" cy="215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1835280" y="3357720"/>
            <a:ext cx="15174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1400" spc="-1" strike="noStrike">
                <a:solidFill>
                  <a:srgbClr val="ffff00"/>
                </a:solidFill>
                <a:latin typeface="YUBitsCharterK"/>
              </a:rPr>
              <a:t>profesionalne infekci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1"/>
          <p:cNvSpPr/>
          <p:nvPr/>
        </p:nvSpPr>
        <p:spPr>
          <a:xfrm flipH="1">
            <a:off x="6443280" y="3068640"/>
            <a:ext cx="360360" cy="360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5724360" y="3500280"/>
            <a:ext cx="1152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1400" spc="-1" strike="noStrike">
                <a:solidFill>
                  <a:srgbClr val="ffff00"/>
                </a:solidFill>
                <a:latin typeface="YUBitsCharterK"/>
              </a:rPr>
              <a:t>masovni pregle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3"/>
          <p:cNvSpPr/>
          <p:nvPr/>
        </p:nvSpPr>
        <p:spPr>
          <a:xfrm>
            <a:off x="6804000" y="3068640"/>
            <a:ext cx="360360" cy="360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6804000" y="3500280"/>
            <a:ext cx="1873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1400" spc="-1" strike="noStrike">
                <a:solidFill>
                  <a:srgbClr val="ffff00"/>
                </a:solidFill>
                <a:latin typeface="YUBitsCharterK"/>
              </a:rPr>
              <a:t>Vakcinacija,sero i hemioprofilaksa</a:t>
            </a:r>
            <a:r>
              <a:rPr b="0" lang="sr-Latn-BA" sz="1200" spc="-1" strike="noStrike">
                <a:solidFill>
                  <a:srgbClr val="ffff00"/>
                </a:solidFill>
                <a:latin typeface="YUBitsCharter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5"/>
          <p:cNvSpPr/>
          <p:nvPr/>
        </p:nvSpPr>
        <p:spPr>
          <a:xfrm flipH="1">
            <a:off x="1908000" y="3068640"/>
            <a:ext cx="2592720" cy="1584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6"/>
          <p:cNvSpPr/>
          <p:nvPr/>
        </p:nvSpPr>
        <p:spPr>
          <a:xfrm>
            <a:off x="4500720" y="3068640"/>
            <a:ext cx="0" cy="1512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7"/>
          <p:cNvSpPr/>
          <p:nvPr/>
        </p:nvSpPr>
        <p:spPr>
          <a:xfrm>
            <a:off x="4500720" y="3068640"/>
            <a:ext cx="2592360" cy="1584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755640" y="4869000"/>
            <a:ext cx="1584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1042920" y="4869000"/>
            <a:ext cx="1584360" cy="22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1600" spc="-1" strike="noStrike">
                <a:solidFill>
                  <a:srgbClr val="ffff00"/>
                </a:solidFill>
                <a:latin typeface="YUBitsCharterK"/>
              </a:rPr>
              <a:t>DIREKT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1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Latn-BA" sz="1600" spc="-1" strike="noStrike">
                <a:solidFill>
                  <a:srgbClr val="ffff00"/>
                </a:solidFill>
                <a:latin typeface="Times New Roman"/>
              </a:rPr>
              <a:t>obič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Latn-BA" sz="1600" spc="-1" strike="noStrike">
                <a:solidFill>
                  <a:srgbClr val="ffff00"/>
                </a:solidFill>
                <a:latin typeface="Times New Roman"/>
              </a:rPr>
              <a:t>superinfekc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Latn-BA" sz="1600" spc="-1" strike="noStrike">
                <a:solidFill>
                  <a:srgbClr val="ffff00"/>
                </a:solidFill>
                <a:latin typeface="Times New Roman"/>
              </a:rPr>
              <a:t>reinfekc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Latn-BA" sz="1600" spc="-1" strike="noStrike">
                <a:solidFill>
                  <a:srgbClr val="ffff00"/>
                </a:solidFill>
                <a:latin typeface="Times New Roman"/>
              </a:rPr>
              <a:t>autoinfekc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0"/>
          <p:cNvSpPr/>
          <p:nvPr/>
        </p:nvSpPr>
        <p:spPr>
          <a:xfrm>
            <a:off x="3419640" y="4869000"/>
            <a:ext cx="22320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1600" spc="-1" strike="noStrike">
                <a:solidFill>
                  <a:srgbClr val="ffff00"/>
                </a:solidFill>
                <a:latin typeface="YUBitsCharterK"/>
              </a:rPr>
              <a:t>PACIJENT ILI PERS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1600" spc="-1" strike="noStrike">
                <a:solidFill>
                  <a:srgbClr val="ffff00"/>
                </a:solidFill>
                <a:latin typeface="YUBitsCharterK"/>
              </a:rPr>
              <a:t>( </a:t>
            </a:r>
            <a:r>
              <a:rPr b="0" lang="sr-Latn-BA" sz="1600" spc="-1" strike="noStrike">
                <a:solidFill>
                  <a:srgbClr val="ffff00"/>
                </a:solidFill>
                <a:latin typeface="Times New Roman"/>
              </a:rPr>
              <a:t>tipični oblici oboljenja ili klionoše )</a:t>
            </a:r>
            <a:r>
              <a:rPr b="0" lang="sr-Latn-BA" sz="1400" spc="-1" strike="noStrike">
                <a:solidFill>
                  <a:srgbClr val="ffff00"/>
                </a:solidFill>
                <a:latin typeface="YUBitsCharter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1"/>
          <p:cNvSpPr/>
          <p:nvPr/>
        </p:nvSpPr>
        <p:spPr>
          <a:xfrm>
            <a:off x="6300720" y="4869000"/>
            <a:ext cx="215892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1600" spc="-1" strike="noStrike">
                <a:solidFill>
                  <a:srgbClr val="ffff00"/>
                </a:solidFill>
                <a:latin typeface="YUBitsCharterK"/>
              </a:rPr>
              <a:t>INDIREKT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1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Latn-BA" sz="1600" spc="-1" strike="noStrike">
                <a:solidFill>
                  <a:srgbClr val="ffff00"/>
                </a:solidFill>
                <a:latin typeface="Times New Roman"/>
              </a:rPr>
              <a:t>prenesene iz drugi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sr-Latn-BA" sz="1600" spc="-1" strike="noStrike">
                <a:solidFill>
                  <a:srgbClr val="ffff00"/>
                </a:solidFill>
                <a:latin typeface="Times New Roman"/>
              </a:rPr>
              <a:t>bolničkih ustano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Latn-BA" sz="1600" spc="-1" strike="noStrike">
                <a:solidFill>
                  <a:srgbClr val="ffff00"/>
                </a:solidFill>
                <a:latin typeface="Times New Roman"/>
              </a:rPr>
              <a:t>iznesene prilik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sr-Latn-BA" sz="1600" spc="-1" strike="noStrike">
                <a:solidFill>
                  <a:srgbClr val="ffff00"/>
                </a:solidFill>
                <a:latin typeface="Times New Roman"/>
              </a:rPr>
              <a:t>otpu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2"/>
          <p:cNvSpPr/>
          <p:nvPr/>
        </p:nvSpPr>
        <p:spPr>
          <a:xfrm flipH="1">
            <a:off x="971640" y="2924280"/>
            <a:ext cx="1512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3"/>
          <p:cNvSpPr/>
          <p:nvPr/>
        </p:nvSpPr>
        <p:spPr>
          <a:xfrm flipV="1">
            <a:off x="971640" y="2421000"/>
            <a:ext cx="0" cy="503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4"/>
          <p:cNvSpPr/>
          <p:nvPr/>
        </p:nvSpPr>
        <p:spPr>
          <a:xfrm flipH="1">
            <a:off x="971640" y="2421000"/>
            <a:ext cx="1512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5"/>
          <p:cNvSpPr/>
          <p:nvPr/>
        </p:nvSpPr>
        <p:spPr>
          <a:xfrm flipV="1">
            <a:off x="2484360" y="2421000"/>
            <a:ext cx="0" cy="503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6"/>
          <p:cNvSpPr/>
          <p:nvPr/>
        </p:nvSpPr>
        <p:spPr>
          <a:xfrm>
            <a:off x="3708360" y="2349360"/>
            <a:ext cx="0" cy="5781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7"/>
          <p:cNvSpPr/>
          <p:nvPr/>
        </p:nvSpPr>
        <p:spPr>
          <a:xfrm>
            <a:off x="3708360" y="2349360"/>
            <a:ext cx="16574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8"/>
          <p:cNvSpPr/>
          <p:nvPr/>
        </p:nvSpPr>
        <p:spPr>
          <a:xfrm>
            <a:off x="3708360" y="2924280"/>
            <a:ext cx="16556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9"/>
          <p:cNvSpPr/>
          <p:nvPr/>
        </p:nvSpPr>
        <p:spPr>
          <a:xfrm flipV="1">
            <a:off x="5364000" y="2349000"/>
            <a:ext cx="0" cy="5763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0"/>
          <p:cNvSpPr/>
          <p:nvPr/>
        </p:nvSpPr>
        <p:spPr>
          <a:xfrm>
            <a:off x="6084720" y="2276640"/>
            <a:ext cx="0" cy="647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1"/>
          <p:cNvSpPr/>
          <p:nvPr/>
        </p:nvSpPr>
        <p:spPr>
          <a:xfrm>
            <a:off x="6084720" y="2276640"/>
            <a:ext cx="18720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2"/>
          <p:cNvSpPr/>
          <p:nvPr/>
        </p:nvSpPr>
        <p:spPr>
          <a:xfrm>
            <a:off x="6084720" y="2924280"/>
            <a:ext cx="18720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3"/>
          <p:cNvSpPr/>
          <p:nvPr/>
        </p:nvSpPr>
        <p:spPr>
          <a:xfrm>
            <a:off x="7956720" y="2276640"/>
            <a:ext cx="0" cy="647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4"/>
          <p:cNvSpPr/>
          <p:nvPr/>
        </p:nvSpPr>
        <p:spPr>
          <a:xfrm>
            <a:off x="971640" y="4797360"/>
            <a:ext cx="0" cy="1656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5"/>
          <p:cNvSpPr/>
          <p:nvPr/>
        </p:nvSpPr>
        <p:spPr>
          <a:xfrm>
            <a:off x="2700360" y="4797360"/>
            <a:ext cx="0" cy="1656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6"/>
          <p:cNvSpPr/>
          <p:nvPr/>
        </p:nvSpPr>
        <p:spPr>
          <a:xfrm>
            <a:off x="971640" y="6453360"/>
            <a:ext cx="1728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7"/>
          <p:cNvSpPr/>
          <p:nvPr/>
        </p:nvSpPr>
        <p:spPr>
          <a:xfrm>
            <a:off x="971640" y="4797360"/>
            <a:ext cx="1728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8"/>
          <p:cNvSpPr/>
          <p:nvPr/>
        </p:nvSpPr>
        <p:spPr>
          <a:xfrm>
            <a:off x="3276720" y="4797360"/>
            <a:ext cx="26654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9"/>
          <p:cNvSpPr/>
          <p:nvPr/>
        </p:nvSpPr>
        <p:spPr>
          <a:xfrm>
            <a:off x="3276720" y="6165720"/>
            <a:ext cx="26654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0"/>
          <p:cNvSpPr/>
          <p:nvPr/>
        </p:nvSpPr>
        <p:spPr>
          <a:xfrm>
            <a:off x="3276720" y="4797360"/>
            <a:ext cx="0" cy="13683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1"/>
          <p:cNvSpPr/>
          <p:nvPr/>
        </p:nvSpPr>
        <p:spPr>
          <a:xfrm>
            <a:off x="5940360" y="4797360"/>
            <a:ext cx="0" cy="13683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2"/>
          <p:cNvSpPr/>
          <p:nvPr/>
        </p:nvSpPr>
        <p:spPr>
          <a:xfrm>
            <a:off x="6300720" y="4797360"/>
            <a:ext cx="0" cy="1656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3"/>
          <p:cNvSpPr/>
          <p:nvPr/>
        </p:nvSpPr>
        <p:spPr>
          <a:xfrm>
            <a:off x="6300720" y="4797360"/>
            <a:ext cx="20876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4"/>
          <p:cNvSpPr/>
          <p:nvPr/>
        </p:nvSpPr>
        <p:spPr>
          <a:xfrm>
            <a:off x="6300720" y="6453360"/>
            <a:ext cx="20876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5"/>
          <p:cNvSpPr/>
          <p:nvPr/>
        </p:nvSpPr>
        <p:spPr>
          <a:xfrm>
            <a:off x="8388360" y="4797360"/>
            <a:ext cx="0" cy="1656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01"/>
          <p:cNvPicPr/>
          <p:nvPr/>
        </p:nvPicPr>
        <p:blipFill>
          <a:blip r:embed="rId1"/>
          <a:stretch/>
        </p:blipFill>
        <p:spPr>
          <a:xfrm>
            <a:off x="1065240" y="514440"/>
            <a:ext cx="7012080" cy="58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EPIDEMIOLOGIJA HOSPITALNIH INFEK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ahoma"/>
              </a:rPr>
              <a:t>(Prevention of hospital-acquired infections, 2nd edition,WHO,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) Infekcija operativnog r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cc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ilo kakav purulentni sekret, absces ili celulitis koji se </a:t>
            </a:r>
            <a:r>
              <a:rPr b="1" lang="sl-SI" sz="2400" spc="-1" strike="noStrike">
                <a:solidFill>
                  <a:srgbClr val="ffffff"/>
                </a:solidFill>
                <a:latin typeface="Tahoma"/>
              </a:rPr>
              <a:t>š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ri na mestu hirur</a:t>
            </a:r>
            <a:r>
              <a:rPr b="1" lang="sl-SI" sz="2400" spc="-1" strike="noStrike">
                <a:solidFill>
                  <a:srgbClr val="ffffff"/>
                </a:solidFill>
                <a:latin typeface="Tahoma"/>
              </a:rPr>
              <a:t>š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og reza u periodu od mesec dana nakon oper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B) Urinarne infek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cc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ozitivan rezultat mikrobiolo</a:t>
            </a:r>
            <a:r>
              <a:rPr b="1" lang="sl-SI" sz="2400" spc="-1" strike="noStrike">
                <a:solidFill>
                  <a:srgbClr val="ffffff"/>
                </a:solidFill>
                <a:latin typeface="Tahoma"/>
              </a:rPr>
              <a:t>šk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 analize urina (1-2 soja), sa najmanje 105 bakterija/ml, sa ili bez kliničkih simpt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304560"/>
            <a:ext cx="8569440" cy="61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C) Respiratorna infek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99cc00"/>
                </a:solidFill>
                <a:latin typeface="Tahoma"/>
              </a:rPr>
              <a:t>    </a:t>
            </a:r>
            <a:r>
              <a:rPr b="1" lang="sl-SI" sz="24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spiratorni simptomi sa barem 2 od slede</a:t>
            </a:r>
            <a:r>
              <a:rPr b="1" lang="sl-SI" sz="2400" spc="-1" strike="noStrike">
                <a:solidFill>
                  <a:srgbClr val="ffffff"/>
                </a:solidFill>
                <a:latin typeface="Tahoma"/>
              </a:rPr>
              <a:t>ć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h znakova tokom perioda hospitalizacije: ka</a:t>
            </a:r>
            <a:r>
              <a:rPr b="1" lang="sl-SI" sz="2400" spc="-1" strike="noStrike">
                <a:solidFill>
                  <a:srgbClr val="ffffff"/>
                </a:solidFill>
                <a:latin typeface="Tahoma"/>
              </a:rPr>
              <a:t>ša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j, purulentni sputum, novi infiltrat manifestan na radiogramu plu</a:t>
            </a:r>
            <a:r>
              <a:rPr b="1" lang="sl-SI" sz="2400" spc="-1" strike="noStrike">
                <a:solidFill>
                  <a:srgbClr val="ffffff"/>
                </a:solidFill>
                <a:latin typeface="Tahoma"/>
              </a:rPr>
              <a:t>ć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 a koji odgovara infektivnom proce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D) Infekcija na mestu ulaska vaskularnog katet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99cc00"/>
                </a:solidFill>
                <a:latin typeface="Tahoma"/>
              </a:rPr>
              <a:t>    </a:t>
            </a:r>
            <a:r>
              <a:rPr b="1" lang="sl-SI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flamacija, limfangitis ili purulentni sekret na mestu ulaska vaskularnog katetera u t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E) Septikem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99cc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roznica/povi</a:t>
            </a:r>
            <a:r>
              <a:rPr b="1" lang="sl-SI" sz="2400" spc="-1" strike="noStrike">
                <a:solidFill>
                  <a:srgbClr val="ffffff"/>
                </a:solidFill>
                <a:latin typeface="Tahoma"/>
              </a:rPr>
              <a:t>š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na tel.temp. i bar jedan pozitivan rezultat mikrobiol</a:t>
            </a:r>
            <a:r>
              <a:rPr b="1" lang="sl-SI" sz="2400" spc="-1" strike="noStrike">
                <a:solidFill>
                  <a:srgbClr val="ffffff"/>
                </a:solidFill>
                <a:latin typeface="Tahoma"/>
              </a:rPr>
              <a:t>ošk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nalize krvne k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45820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ILJ NADZORA NAD BOLNI</a:t>
            </a:r>
            <a:r>
              <a:rPr b="1" lang="hr-HR" sz="28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IM INFEKCIJ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00000" y="761760"/>
            <a:ext cx="72532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smanjenje ucestalosti bolni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ih infek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utvrdjivanje endemskih stopa bolni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ih infek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otkrivanje epidem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 utvrdjivanje i eliminacija antibiorezisten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. evaluacija efikasnosti mera za spre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anje i suzbijanje hosp.in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. stimulisanje osoblja zdrav.ust.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 propisno i stalno sprovodi mere prevencije i suzbijanja bolni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ih infek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. ispunjenje zakonskih obav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. odbrana od zlonamernih optu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!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METOD 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836280"/>
            <a:ext cx="77738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)</a:t>
            </a: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ospektivni, sveobuhvatni, prospektivna stud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)</a:t>
            </a: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esek stanja-cilj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) </a:t>
            </a: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veobuhvatni, prospektivni aktivan nadzor za ocenu posledica-tradicionalni</a:t>
            </a: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metod CD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) </a:t>
            </a: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graničeni nadz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- aktivan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pidemiolo</a:t>
            </a: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š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i nadz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- pasivan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a osnovu prijava klini</a:t>
            </a: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ih i labor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.d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od presek stanja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100% senzitivnosti i specifi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sti-hirur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š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e g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sveobuhvatni prospektivni aktivni nadzor za ocenu posledica,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adicionalni-56% senzitivnosti;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8% specificnosti-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ekonomi</a:t>
            </a:r>
            <a:r>
              <a:rPr b="0" i="1" lang="hr-HR" sz="1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niji-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od ostal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KTIV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1280" y="475920"/>
            <a:ext cx="777240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)  Nadz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epidemiolo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š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sanitarnohigijens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nadzor nad radom zdravstvene ustan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)</a:t>
            </a:r>
            <a:r>
              <a:rPr b="1" lang="hr-HR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pre</a:t>
            </a:r>
            <a:r>
              <a:rPr b="1" lang="hr-HR" sz="2400" spc="-1" strike="noStrike">
                <a:solidFill>
                  <a:srgbClr val="ffff00"/>
                </a:solidFill>
                <a:latin typeface="Times New Roman"/>
              </a:rPr>
              <a:t>č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vanje i suzbijanje bolni</a:t>
            </a:r>
            <a:r>
              <a:rPr b="1" lang="hr-HR" sz="2400" spc="-1" strike="noStrike">
                <a:solidFill>
                  <a:srgbClr val="ffff00"/>
                </a:solidFill>
                <a:latin typeface="Times New Roman"/>
              </a:rPr>
              <a:t>č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kih infekci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op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š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 m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mere po klini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im i epidemiolo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š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im indikacij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mere u postupku dijagnostike,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ge i le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)</a:t>
            </a:r>
            <a:r>
              <a:rPr b="1" lang="hr-HR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prečavanje i suzbijanje boln.infekcija i epidemi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obave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š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vanje o epidemijama i infekcij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aktivno epidemiolo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š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o ispiti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laboratorijsko ispiti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mere izolacije,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DD,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emioprofilakse,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unizacije i d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838080" y="476280"/>
            <a:ext cx="7467840" cy="56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) </a:t>
            </a:r>
            <a:r>
              <a:rPr b="1" lang="hr-HR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obezbedjenje promtnog dostavljanja laboratorijskih podataka sa predlogom m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E) </a:t>
            </a:r>
            <a:r>
              <a:rPr b="1" lang="hr-HR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ijagnostika rezistetnih sojeva i njihova registracuja i eliminaci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F) </a:t>
            </a:r>
            <a:r>
              <a:rPr b="1" lang="hr-HR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formiranje registra boln.infekc.i epidem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G) </a:t>
            </a:r>
            <a:r>
              <a:rPr b="1" lang="hr-HR" sz="2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edlaganje programa m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H)</a:t>
            </a:r>
            <a:r>
              <a:rPr b="1" lang="hr-HR" sz="2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edukacija zdravstvenog osob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I) </a:t>
            </a:r>
            <a:r>
              <a:rPr b="1" lang="hr-HR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kontrola steril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J)</a:t>
            </a:r>
            <a:r>
              <a:rPr b="1" lang="hr-HR" sz="2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ispitivanje dezinfekcionih sredstava-najpovoljnije i ekonomi</a:t>
            </a:r>
            <a:r>
              <a:rPr b="1" lang="hr-HR" sz="2000" spc="-1" strike="noStrike">
                <a:solidFill>
                  <a:srgbClr val="ffff00"/>
                </a:solidFill>
                <a:latin typeface="Tahoma"/>
              </a:rPr>
              <a:t>č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K) </a:t>
            </a:r>
            <a:r>
              <a:rPr b="1" lang="hr-HR" sz="2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izra</a:t>
            </a:r>
            <a:r>
              <a:rPr b="1" lang="hr-HR" sz="2000" spc="-1" strike="noStrike">
                <a:solidFill>
                  <a:srgbClr val="ffff00"/>
                </a:solidFill>
                <a:latin typeface="Tahoma"/>
              </a:rPr>
              <a:t>č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unavanje i uporedjivanje stopa incidencije i prevalencije sa tuma</a:t>
            </a:r>
            <a:r>
              <a:rPr b="1" lang="hr-HR" sz="2000" spc="-1" strike="noStrike">
                <a:solidFill>
                  <a:srgbClr val="ffff00"/>
                </a:solidFill>
                <a:latin typeface="Tahoma"/>
              </a:rPr>
              <a:t>č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enjem rezult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08"/>
          <p:cNvPicPr/>
          <p:nvPr/>
        </p:nvPicPr>
        <p:blipFill>
          <a:blip r:embed="rId1"/>
          <a:stretch/>
        </p:blipFill>
        <p:spPr>
          <a:xfrm>
            <a:off x="885960" y="636480"/>
            <a:ext cx="7800840" cy="558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EFINICIJA BOLNI</a:t>
            </a:r>
            <a:r>
              <a:rPr b="0" lang="hr-HR" sz="3200" spc="-1" strike="noStrike">
                <a:solidFill>
                  <a:srgbClr val="ffff00"/>
                </a:solidFill>
                <a:latin typeface="Tahoma"/>
              </a:rPr>
              <a:t>Č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KE INFEKCIJE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po Uputstvu  za spre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anje i suzbijanje B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EDNA INFEKCIJA SMATRA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Ć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 SE BOLNI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OM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HOSPITALNOM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ako je nastala u bolnici i postala evidentn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24 sati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tipican inkubacioni period za većinu bakterijskih bolničkih  infekcija)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99cc00"/>
                </a:solidFill>
                <a:latin typeface="Tahoma"/>
              </a:rPr>
              <a:t>posle prijem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cijenta u bolnici,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li kasn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ako se utvrdi da je povezana sa hirur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š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om intervencijom,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a ispolji se u toku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30 dana</a:t>
            </a:r>
            <a:r>
              <a:rPr b="0" lang="en-US" sz="2000" spc="-1" strike="noStrike">
                <a:solidFill>
                  <a:srgbClr val="99cc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s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irur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š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e intervencije u slu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ju da implantant nije ugradjen,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l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u toku jedne godi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ko je ugradj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 ako se ispoljila posle otpusta pacijenta iz bolnice,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epidemiolo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š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i podaci pokazuju da je nastala u bolni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. ako je nastala u novorodjen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ta kao rezultat prolaza kroz porodjajni kanal maj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481040" y="1014480"/>
            <a:ext cx="618192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395360" y="981000"/>
            <a:ext cx="63532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1433520" y="1042920"/>
            <a:ext cx="627696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1390680" y="981000"/>
            <a:ext cx="63626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300320" y="947880"/>
            <a:ext cx="654336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1461960" y="985680"/>
            <a:ext cx="62200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238400" y="880920"/>
            <a:ext cx="666720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471680" y="1057320"/>
            <a:ext cx="62006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1366920" y="1062000"/>
            <a:ext cx="641016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438200" y="1057320"/>
            <a:ext cx="626760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FEKCIJE I STANJA KOJA SE NE SMATRAJU BOLNI</a:t>
            </a:r>
            <a:r>
              <a:rPr b="1" lang="hr-HR" sz="28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OM INFEKCIJ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omplikacije rani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stale infekcije i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du</a:t>
            </a:r>
            <a:r>
              <a:rPr b="1" lang="hr-HR" sz="2400" spc="-1" strike="noStrike">
                <a:solidFill>
                  <a:srgbClr val="ffff00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nje infekci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sutne pri prijemu, osim ako promena uzro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ika ili znakova  i simptoma ne ukazuju jasno na nastan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ove infekcij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olonizacij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j.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sustvo mikroorganizama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na ko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,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luznicama,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 otvorenim ranama ili u ekskretima i sekretima)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koj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e prouzrokuj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lini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 znake i simpt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1405080" y="1009800"/>
            <a:ext cx="6333840" cy="48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461960" y="1038240"/>
            <a:ext cx="6220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343160" y="1033560"/>
            <a:ext cx="64576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1495440" y="952560"/>
            <a:ext cx="61531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1200240" y="876240"/>
            <a:ext cx="6743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1457280" y="1114560"/>
            <a:ext cx="622944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1400040" y="985680"/>
            <a:ext cx="634392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395360" y="1028880"/>
            <a:ext cx="6353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1471680" y="1042920"/>
            <a:ext cx="620064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471680" y="1019160"/>
            <a:ext cx="620064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03"/>
          <p:cNvPicPr/>
          <p:nvPr/>
        </p:nvPicPr>
        <p:blipFill>
          <a:blip r:embed="rId1"/>
          <a:stretch/>
        </p:blipFill>
        <p:spPr>
          <a:xfrm>
            <a:off x="866880" y="690480"/>
            <a:ext cx="7408800" cy="54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1319040" y="919080"/>
            <a:ext cx="650592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467000" y="1066680"/>
            <a:ext cx="6210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1376280" y="771480"/>
            <a:ext cx="639144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1476360" y="1028880"/>
            <a:ext cx="6191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357200" y="938160"/>
            <a:ext cx="642960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433520" y="1052640"/>
            <a:ext cx="62769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319040" y="1014480"/>
            <a:ext cx="650592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495440" y="1028880"/>
            <a:ext cx="615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1338120" y="1038240"/>
            <a:ext cx="646776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1467000" y="861840"/>
            <a:ext cx="621000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50560" y="836280"/>
            <a:ext cx="8569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800" spc="-1" strike="noStrike">
                <a:solidFill>
                  <a:srgbClr val="ffffff"/>
                </a:solidFill>
                <a:latin typeface="Tahoma"/>
              </a:rPr>
              <a:t>Osnovni uzroci nastanka hospitalni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BA" sz="2800" spc="-1" strike="noStrike">
                <a:solidFill>
                  <a:srgbClr val="ffffff"/>
                </a:solidFill>
                <a:latin typeface="Tahoma"/>
              </a:rPr>
              <a:t>infekcija s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sr-Latn-BA" sz="2400" spc="-1" strike="noStrike">
                <a:solidFill>
                  <a:srgbClr val="ffff00"/>
                </a:solidFill>
                <a:latin typeface="Tahoma"/>
              </a:rPr>
              <a:t>- </a:t>
            </a:r>
            <a:r>
              <a:rPr b="1" lang="sr-Latn-BA" sz="2400" spc="-1" strike="noStrike">
                <a:solidFill>
                  <a:srgbClr val="ffff00"/>
                </a:solidFill>
                <a:latin typeface="Tahoma"/>
              </a:rPr>
              <a:t>veliki broj izvora zaraze pod jednim krovom                (bolesnici, kliconoše, osobl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lang="sr-Latn-BA" sz="2400" spc="-1" strike="noStrike">
                <a:solidFill>
                  <a:srgbClr val="ffff00"/>
                </a:solidFill>
                <a:latin typeface="Tahoma"/>
              </a:rPr>
              <a:t>- povećana dispozicija bolesnika zbog primarn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1" lang="sr-Latn-BA" sz="2400" spc="-1" strike="noStrike">
                <a:solidFill>
                  <a:srgbClr val="ffff00"/>
                </a:solidFill>
                <a:latin typeface="Tahoma"/>
              </a:rPr>
              <a:t>obolj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lang="sr-Latn-BA" sz="2400" spc="-1" strike="noStrike">
                <a:solidFill>
                  <a:srgbClr val="ffff00"/>
                </a:solidFill>
                <a:latin typeface="Tahoma"/>
              </a:rPr>
              <a:t>- produžena ekspozicija bolesnika prema infekc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lang="sr-Latn-BA" sz="2400" spc="-1" strike="noStrike">
                <a:solidFill>
                  <a:srgbClr val="ffff00"/>
                </a:solidFill>
                <a:latin typeface="Tahoma"/>
              </a:rPr>
              <a:t>- loša arhitektonska rešenja u bolnici, nedostatak takozvane prostorne i personalne separacije</a:t>
            </a:r>
            <a:r>
              <a:rPr b="1" lang="sr-Latn-BA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1424160" y="985680"/>
            <a:ext cx="62956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1471680" y="1004760"/>
            <a:ext cx="620064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395360" y="1004760"/>
            <a:ext cx="635328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1400040" y="1062000"/>
            <a:ext cx="634392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1366920" y="1081080"/>
            <a:ext cx="641016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452600" y="1038240"/>
            <a:ext cx="623880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1409760" y="1066680"/>
            <a:ext cx="63244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4000" spc="-1" strike="noStrike">
                <a:solidFill>
                  <a:srgbClr val="ffffff"/>
                </a:solidFill>
                <a:latin typeface="Tahoma"/>
              </a:rPr>
              <a:t>Doprinoseći faktori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7724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Latn-BA" sz="2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sr-Latn-BA" sz="2400" spc="-1" strike="noStrike">
                <a:solidFill>
                  <a:srgbClr val="ffff00"/>
                </a:solidFill>
                <a:latin typeface="Tahoma"/>
              </a:rPr>
              <a:t>nesprovođenje odgovarajućeg režima, naročito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sr-Latn-BA" sz="2400" spc="-1" strike="noStrike">
                <a:solidFill>
                  <a:srgbClr val="ffff00"/>
                </a:solidFill>
                <a:latin typeface="Tahoma"/>
              </a:rPr>
              <a:t>zanemarivanje mera stalne dezinfekcije i steriliz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1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sr-Latn-BA" sz="2400" spc="-1" strike="noStrike">
                <a:solidFill>
                  <a:srgbClr val="ffff00"/>
                </a:solidFill>
                <a:latin typeface="Tahoma"/>
              </a:rPr>
              <a:t>- neracionalna upotreba antibiotika, što je dovelo do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sr-Latn-BA" sz="2400" spc="-1" strike="noStrike">
                <a:solidFill>
                  <a:srgbClr val="ffff00"/>
                </a:solidFill>
                <a:latin typeface="Tahoma"/>
              </a:rPr>
              <a:t>pojave rezistentnih sojeva bakter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1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sr-Latn-BA" sz="2400" spc="-1" strike="noStrike">
                <a:solidFill>
                  <a:srgbClr val="ffff00"/>
                </a:solidFill>
                <a:latin typeface="Tahoma"/>
              </a:rPr>
              <a:t>- sve veća primena postojećih i stalno uvođenje novih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sr-Latn-BA" sz="2400" spc="-1" strike="noStrike">
                <a:solidFill>
                  <a:srgbClr val="ffff00"/>
                </a:solidFill>
                <a:latin typeface="Tahoma"/>
              </a:rPr>
              <a:t>metoda dijagnostike i terapije složenom aparaturom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sr-Latn-BA" sz="2400" spc="-1" strike="noStrike">
                <a:solidFill>
                  <a:srgbClr val="ffff00"/>
                </a:solidFill>
                <a:latin typeface="Tahoma"/>
              </a:rPr>
              <a:t>koja se teško može dezinfikova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sr-Latn-BA" sz="2400" spc="-1" strike="noStrike">
                <a:solidFill>
                  <a:srgbClr val="ffff00"/>
                </a:solidFill>
                <a:latin typeface="Tahoma"/>
              </a:rPr>
              <a:t>ili sterilis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sr-Latn-BA" sz="2400" spc="-1" strike="noStrike">
                <a:solidFill>
                  <a:srgbClr val="ffff00"/>
                </a:solidFill>
                <a:latin typeface="Tahoma"/>
              </a:rPr>
              <a:t>- implantacija protetičkog materij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1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sr-Latn-BA" sz="2400" spc="-1" strike="noStrike">
                <a:solidFill>
                  <a:srgbClr val="ffff00"/>
                </a:solidFill>
                <a:latin typeface="Tahoma"/>
              </a:rPr>
              <a:t>- presađivanje organa i imunosupresij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24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Times New Roman"/>
              </a:rPr>
              <a:t>Etiologija hospitalnih infek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066680"/>
            <a:ext cx="381132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konvencionalni uzro</a:t>
            </a:r>
            <a:r>
              <a:rPr b="1" lang="sr-Latn-BA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č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uslovno patogeni uzro</a:t>
            </a:r>
            <a:r>
              <a:rPr b="1" lang="sr-Latn-BA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č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oportunisti</a:t>
            </a:r>
            <a:r>
              <a:rPr b="1" lang="sr-Latn-BA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č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ki uzro</a:t>
            </a:r>
            <a:r>
              <a:rPr b="1" lang="sr-Latn-BA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č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ici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2920" y="837720"/>
            <a:ext cx="38149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atogene bakter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Uslovno patogene” bakteri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lučajno patogene” bakter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Viru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rugi uzročnici parazitarne etiologije</a:t>
            </a:r>
            <a:r>
              <a:rPr b="0" lang="en-US" sz="2400" spc="-1" strike="noStrike">
                <a:solidFill>
                  <a:srgbClr val="ffffff"/>
                </a:solidFill>
                <a:latin typeface="Korinna YU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Izvori zaraze</a:t>
            </a:r>
            <a:r>
              <a:rPr b="0" lang="en-US" sz="4000" spc="-1" strike="noStrike">
                <a:solidFill>
                  <a:srgbClr val="ff3300"/>
                </a:solidFill>
                <a:latin typeface="YUBitsCharter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25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oboleli ili kliconoše među bolničkim personalo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ovoprimljeni bolesnici koji su kliconoše ili su primljeni sa nedijagnostifikovanom infekcijom, odnosno atipičnim oboljenj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bolesnici u stadijumu rekonvalescencij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ajke porodilje su čest izvor infekcije za novoro|enu dec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50920" y="4869000"/>
            <a:ext cx="835344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Times New Roman"/>
              </a:rPr>
              <a:t>Uloga medicinskog osoblja kao izvora zaraze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Medicinsko osoblje je uglavnom nosilac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“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uslovno patogenih” mikroorganizam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0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YUBitsCharterK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YUBitsCharterK"/>
                <a:ea typeface="Times New Roman"/>
              </a:rPr>
              <a:t>Putevi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  <a:ea typeface="Times New Roman"/>
              </a:rPr>
              <a:t>preno</a:t>
            </a:r>
            <a:r>
              <a:rPr b="1" lang="sr-Latn-BA" sz="4000" spc="-1" strike="noStrike">
                <a:solidFill>
                  <a:srgbClr val="ffff00"/>
                </a:solidFill>
                <a:latin typeface="Tahoma"/>
                <a:ea typeface="Times New Roman"/>
              </a:rPr>
              <a:t>š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  <a:ea typeface="Times New Roman"/>
              </a:rPr>
              <a:t>enja</a:t>
            </a:r>
            <a:r>
              <a:rPr b="0" lang="en-US" sz="4000" spc="-1" strike="noStrike">
                <a:solidFill>
                  <a:srgbClr val="ff3300"/>
                </a:solidFill>
                <a:latin typeface="YUBitsCharter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04760" y="1341000"/>
            <a:ext cx="647676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imes New Roman"/>
              </a:rPr>
              <a:t>Indirektni kontakt (feko-oral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imes New Roman"/>
              </a:rPr>
              <a:t>kontakt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imes New Roman"/>
              </a:rPr>
              <a:t>vazdušno-kapljičn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6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imes New Roman"/>
              </a:rPr>
              <a:t>vazdušno-krvno-kapljični</a:t>
            </a:r>
            <a:r>
              <a:rPr b="0" lang="en-US" sz="2000" spc="-1" strike="noStrike">
                <a:solidFill>
                  <a:srgbClr val="ffff00"/>
                </a:solidFill>
                <a:latin typeface="Korinna YU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2590920" y="33577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Igle i špricevi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0" y="2708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YUBitsCharterK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1547640" y="4869000"/>
            <a:ext cx="64090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imes New Roman"/>
              </a:rPr>
              <a:t>Feko-oralni mehanizam</a:t>
            </a:r>
            <a:r>
              <a:rPr b="0" lang="en-US" sz="2800" spc="-1" strike="noStrike">
                <a:solidFill>
                  <a:srgbClr val="ff9933"/>
                </a:solidFill>
                <a:latin typeface="Tahoma"/>
                <a:ea typeface="Times New Roman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uloga ruku medicinskog osoblja</a:t>
            </a:r>
            <a:r>
              <a:rPr b="0" lang="en-US" sz="2000" spc="-1" strike="noStrike">
                <a:solidFill>
                  <a:srgbClr val="ffffff"/>
                </a:solidFill>
                <a:latin typeface="Korinna YU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2590920" y="3860640"/>
            <a:ext cx="4572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Stalni katet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7T09:17:11Z</dcterms:created>
  <dc:creator>zoran velickovic</dc:creator>
  <dc:description/>
  <dc:language>en-US</dc:language>
  <cp:lastModifiedBy>Korisnik</cp:lastModifiedBy>
  <dcterms:modified xsi:type="dcterms:W3CDTF">2018-11-27T12:02:41Z</dcterms:modified>
  <cp:revision>50</cp:revision>
  <dc:subject/>
  <dc:title>Slide 1</dc:title>
</cp:coreProperties>
</file>