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B2A-FA6F-47D5-885F-680195E0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B9F-552C-4E67-89E7-71E0CC89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D7D-28D6-4C8A-AB44-4DEC09D2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F88-C22D-4CCE-B7B3-CBE3F1B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2C807-B0AA-41A1-9334-7ECB5606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7E7AE-59F6-4E2B-8953-AD793A4A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129A-DA82-4CE4-9D58-DEC3DDE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1272-C771-489E-A906-42ACF67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59EEC-3359-42B2-B97D-44A3402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227DD-01B1-4CB7-B630-91192C2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645D7-22AB-4813-9BDA-30FE3B0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15F-3BBE-438D-AAB2-96B1CDBB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CAE8-933B-4F9F-8296-B936CFA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F08E1-218A-479A-820F-5E768DB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E995-43D9-4BA5-A5E2-C237AAF2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CDD3E-13D4-451B-8E24-2B6D6D95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5E4A4-5262-49A0-82C9-213FEA0C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947-2316-4D17-8CB8-3E540BE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28A-07C4-463A-BB96-4A7F1A4E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D27-CF14-41BC-9547-EF0968A2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3BA-3E0F-4F05-9500-324223B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EEA-7F66-48CA-BE9E-52C5676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38A-1E62-425E-AFB2-357E514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517-EAC4-44D4-B760-2C8F883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1E34-45EB-4682-95D5-3E1CF21F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426D-0852-41C3-85D1-1FA938993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MEĐUNARODNI ZDRAVSTVENI PRAVILN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Zavod boja"/>
          <p:cNvPicPr/>
          <p:nvPr/>
        </p:nvPicPr>
        <p:blipFill>
          <a:blip r:embed="rId1"/>
          <a:stretch/>
        </p:blipFill>
        <p:spPr>
          <a:xfrm>
            <a:off x="4500720" y="152280"/>
            <a:ext cx="3958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 zaštiti stanovništva od zaraznih bolesti koje ugrožavaju celu zeml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onet je 1974. godine. Odnosio se na celu teritoriju SFRJ (24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oj republici i pokrajini ostavljeno je pravo da donese svoje zakonske propise kojima može da proširi listu zaraznih bolesti koje se obavezno prijavlju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imao je više dopuna i promena i to 1984, 1990, 1992 i 1996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uelni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donet je 2016. godine (Službeni glasnik RS, 25.2.2016. Br. 15/2016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Ovim zakonom uređuju se zaštita stanovništva od zaraznih bole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eđuju se zarazne bolesti koje se obavezno prijavlju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u se mere zaštite od zaraznih bol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e se sprovođenje epidemiološkog nadz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emija zarazne bolesti je obolevanje od zarazne bolesti neuobičajeno po broju slučajeva, vremenu, mestu i zahvaćenoj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cij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i neuobičajeno povećanje broja obolelih sa komplikacijama ili smrtnim ishod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dva ili više međusobno povezanih slučajeva zarazne bolesti koja se nikada ili više godina nije pojavljivala na jednom područ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većeg broja oboljenja čiji je uzročnik nepoznat, a prati ih febrilno stanj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emija zarazne bolesti je obolevanje od zarazne bolesti koja prelazi državne granice i širi se na veći deo sveta ili svet u celini, ugrožavajući ljude u svim zahvaćenim područjim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zne bolesti po kategorijam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mogu sprečiti imunizacij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terija (Diphtheri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2) Infekcije uzrokovane hemofiluso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grupe B (Haemophilus influenzae B cut causa morborum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luenca/Grip uključujući influencu A(H1N1) (Influenzae/Influenzae A (H1N1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Morbili/Male boginje (Morbilli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Parotitis/Zauške (Parotit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 Pertusis/Veliki kašalj (Pertuss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Poliomijelitis/Dečja paraliza (Poliomyelitis anterior acut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Rubela/Crvenka (Rubell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Variola vera/Velike boginje (Variola ver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Tetanus (Tetanu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no prenosiv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Infekcije hlamidijom (Infectio chlamydia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Gonokokne infekcije (Infectio gonococcic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ekcija uzrokovana virusom humane imunodeficijencije (HIV-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Sifilis (Syphill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fi-F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usni hepatitisi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1) Hepatitis A (Hepatitis 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2) Hepatitis B (Hepatitis B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3) Hepatitis C (Hepatitis C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hranom i vodom i bolesti uzrokovane okruženjem (životnom sredino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ntraks (Anthrax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Botulizam (Botulismu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Kampilobakterioza (Campylobac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Kriptosporidioza (Cryptosporid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Lambliaza (Đardioza) (Labliasis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a uzrokovana enterohemoragijskom E. Koli (Infectio intestinalis per E. Coli enterohaemorrhagica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Leptospiroza (Leptospir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Listerioza (Lis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Salmoneloza (Salmon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Šigeloza (Shig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1) Toksoplazmoza (Toxoplasm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) Trihineloza (Trichine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) Jersinioza (Yersinosis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tale bole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esti koje se prenose nekonvencionalnim uzročnic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Zarazne spongioformne encefalopatije, varijanta Krojcfeldt-Jakobsov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vetu je došlo do pojave novih ali i do ponovnog javljanja star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veliki rizici od bioloških i radioaktivnih agen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četkom 21. veka pojavila se realna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reb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evizijom Međunarodnog zdravstvenog pravilni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azduh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egioneloza (Legion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kokna bolest (invazivna bolest) (Morbus Meningococcic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neumokokne infekcije (invazivna bolest) (Infectio Pneumococcal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berkuloza (Tubercu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ežak akutni respiratorni sindrom (SARS) (SARS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oonoz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oza (Bruc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hinokokoza (Echinococc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esnilo (Rabie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 groznica (Q-febr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laremija (Tularaem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jarna influenca kod ljudi (Avian influenza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fekcija uzrokovana virusom Zapadnog Nila (Febris West Nil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emoragijska groznica sa bubrežnim sindromom (Febris haemorrhagica cum syndroma renali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Ozbiljne uvezen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era (Choler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arija (Malari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uga (Pest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ne hemoragične groznice (Viral haemorrhagic fever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ektor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rpeljski encefalitis (Encephalitis viralis ixodib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a zdravstvena pitanj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Bolničke infekcije (infekcije povezane sa zdravstvenom zaštit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ntimikrobna rezistenc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E ZA SPREČAVANJE I SUZBIJANJE ZARAZ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SE U OBJEKTIMA KOJE PODLEŽU SANITARNOM NADZ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IH ZDRAVSTVENI RAD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čavanje i suzbij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čavanje pojave zarazne bolesti jeste skup mera koje se stalno sprovode u cilju predupređivanja pojave infekcije ili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bijanje zarazne bolesti jeste skup mera koje se sprovode protiv već prisutne zarazne bolesti, u cilju smanjenja nj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čestalo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ispravne vode za piće (dezinfekcija vode u vodovodima, hlorisanje), obezbeđenje ispravne vode za sanitarno-higijenske i rekreativne potrebe (bazeni) i zaštita izvoriš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hrane (od proizvodnje, districubucije, usluživanja) i sanitarno-higijenskih uslova objekata u kojima se proizvodi 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kupališnih, bazenskih voda, javnih česmi i iz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higijene na javnim površinama-parkovi, u javnim objektima (pozorišta, bioskopi), javnom pre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ijensko otklanjanje otpadnih materija , leševa životinja,higijena na grobl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đenje preventivne dezinfekcije, dezinsekcije i deratizacije u naseljenim mestima, na javnim površinama, u objektima u kojima se obavlja društvena dela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 sprovode javno komunalna preduzeć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kst revizije prihvatila je Svetska zdravstvena skupština, maja 2005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 Pravilnik je stupio na snagu 2 godine od usvajanja,  maja 2007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ANO OTKRIVANJE IZVORA I REZERVOARA ZARAZE I PUTEVA PRENOŠ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ŠKO ISPITIVANJE I ISTRAŽ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JSKO ISPITIVANJE RADI UTVRĐIVANJE UZROČNIK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AVLJANJE DIJAGNO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OZ, IZOLACIJA I LEČ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NADZOR I KARAN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I HEMOPROFILAK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ZINFEKCIJA, DEZINSEKCIJA I DERATIZACIJA PO EPIDEMIOLOŠKIM INDIKACIJ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PREGLEDI LICA ODREĐENIH KATEGORIJA ZAPOSLENIH  RADI UTVRĐIVANJA KLICONO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O VASPITANJE I OBRAZOVANJE ODREĐENIH KATEGORIJA ZAPOSLEN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ISANJE ZDRAVSTVENIH RADNIKA I STANOVNI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čajne nov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mesto određenog broja karantinskih bolesti, predmet novog pravilnika su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događaj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ji mogu da predstavljaju opasnost za narodno zdravlje u međunarodnim razmer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java makar i jednog obolelog od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likih boginja, poliomijelitisa i teškog respiratornog sindroma (SARS) zahteva obaveznu prijav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a neke od sledećih bolesti: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lera, plućna kuga, plućni antraks i žuta groznic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zavisi od lokalnih okolnosti i donosi se na osnovu posebne liste (algoritm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cilju efikasnog sprovođenja Pravilnika, svaka zemlja članica mora da osnuje Nacionalni cent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Pravilniku je predviđena </a:t>
            </a:r>
            <a:r>
              <a:rPr b="0" lang="sr-Latn-CS" sz="3200" spc="-1" strike="noStrike">
                <a:solidFill>
                  <a:srgbClr val="ffc000"/>
                </a:solidFill>
                <a:latin typeface="Times New Roman"/>
              </a:rPr>
              <a:t>obavezna vakcinacija i preventivna zaštita lekovima (hemioprofilaksa) za putnike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uta groznic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jedina bolest koja se u tom konteksu posebno pominje. Ostavljena je i mogućnost da se u posebnim uslovima ustanovi karant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ZAKONSKA REGULATIVA KOD 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Zavod boja"/>
          <p:cNvPicPr/>
          <p:nvPr/>
        </p:nvPicPr>
        <p:blipFill>
          <a:blip r:embed="rId1"/>
          <a:stretch/>
        </p:blipFill>
        <p:spPr>
          <a:xfrm>
            <a:off x="2556000" y="152280"/>
            <a:ext cx="5400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ša zemlja ima veoma razvijeno sanitarno zakonodavs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etskog rata, 1948. godine donet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zakon o sprečavanju i suzbijanju zarazn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obavezno prijavljivanje za 24 zarazne bolest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je sa izmenama i dopunama, 1964. godine pretvoren u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snovni zakon 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rečavanju i suzbijanju zaraznih 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42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Korisnik</cp:lastModifiedBy>
  <dcterms:modified xsi:type="dcterms:W3CDTF">2019-05-23T07:39:40Z</dcterms:modified>
  <cp:revision>64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