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76A-0803-40B5-B277-480698D0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89F-DEC3-4E16-8E01-8500C31A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204-1239-4F8A-92AE-0EC23426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DEA-DE6A-4703-9E58-87DD014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4A1-E0DF-4EEB-BFBE-A02EAC64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5DD-A362-4774-9A4A-1C40383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D395-516C-4D99-9653-64A206A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DBC5-BF7D-4C60-92AB-C50C90A9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15CE-F86F-44ED-B6AA-7003263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82E-288F-42FA-A75B-DB76D71C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837A-74B3-44AD-A3F8-0E6DE1C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E91-EBDD-4187-84A1-F084C2BF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10CE-ACD1-48C4-AC74-92372A1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A0AE-A517-4A1A-AF20-7CBB918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967D-35CD-4708-8718-314E3744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8930-C0C4-46BA-ABAB-53CC36F9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49E6-F818-455E-AD3F-7D4DB15A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C33-1A81-44A6-87CB-381328E8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5C8-2088-4363-BA2B-28ED84FB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850-5A18-49FC-8025-7A1ABFDD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B5E-D6AE-46E4-BF82-15DCD31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B46-5A07-4745-9B44-505BC73B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E78-6089-4755-A0DE-42FA415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97D-2FB0-4467-96D9-FABE25D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9748-9B1D-498C-9BCB-5BA06D2059C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78A-CEDF-4B25-BE9D-1502636625E0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01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Infekcija i zarazna bole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doc. dr Nataša Ranči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  <a:ea typeface="Tahoma"/>
              </a:rPr>
              <a:t>ČOVEK KAO IZVOR ZARAZE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: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1. kao bolesnik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2. kao kliconoš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29288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ff00"/>
                </a:solidFill>
                <a:latin typeface="Tahoma"/>
                <a:ea typeface="Tahoma"/>
              </a:rPr>
              <a:t>kao bolesnik</a:t>
            </a:r>
            <a:br>
              <a:rPr sz="6000"/>
            </a:b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a) inkubacij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b) prodromalni period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c) razvijena faza bolest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- tipič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- atipič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- lak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- teška  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d) rekonvalescen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5819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ff00"/>
                </a:solidFill>
                <a:latin typeface="Tahoma"/>
                <a:ea typeface="Tahoma"/>
              </a:rPr>
              <a:t>kao kliconoša</a:t>
            </a:r>
            <a:br>
              <a:rPr sz="4800"/>
            </a:b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a) zdravo (asimptomatsko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privremeno (tranzitorno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hronično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b) inkubatorno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c) rekonvalescent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ZLAZNO MESTO</a:t>
            </a:r>
            <a:br>
              <a:rPr sz="3200"/>
            </a:br>
            <a:br>
              <a:rPr sz="10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Iz organizma domaćina infektivni agens različitim sekretom (pljuvačka, suze, mleko) ili ekskretom (stolica, mokraća, gnoj) dospeva u spoljnu sredinu.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Ovo je uslovljeno organom ili sistemom organa koji su zahvaćeni infektivnim proces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Tahoma"/>
              </a:rPr>
              <a:t>LUZNICA</a:t>
            </a: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a) respiratorna (respiratorne z.b.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b) digestivna (crevne z.b.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c) genitalna (polne b.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d) urinarna (infekcija mokraćnih organa)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e) konjuktive (očne z.b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K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Tahoma"/>
              </a:rPr>
              <a:t>OŽ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a) intaktna (kožne i druge infekcije)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b) povređena (vektorske b., ubod igle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hirurška intervencija, transfuzij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PUTEVI  PRENOŠENJA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- direkta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  <a:ea typeface="Tahoma"/>
              </a:rPr>
              <a:t>- indirekt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DIREKTAN</a:t>
            </a:r>
            <a:br>
              <a:rPr sz="4000"/>
            </a:br>
            <a:br>
              <a:rPr sz="1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direktni kontakt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(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dodir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br>
              <a:rPr sz="2800"/>
            </a:br>
            <a:br>
              <a:rPr sz="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rukovanje – crevne, respiratorne i kožne z.b.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oljubac – inf. mononukleoza, osipne groznice i dr.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olni odnos – polno prnosive infekcije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porođaj – prolaz kroz porođajni kanal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ujed ili lizanje besne životinje)</a:t>
            </a:r>
            <a:br>
              <a:rPr sz="2400"/>
            </a:br>
            <a:br>
              <a:rPr sz="1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kapljice nazofaringealnog sekre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kontakt sa zemljište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transplacetar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sifilis, kongenitalna  rubeola, CMV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toksoplazmoza, HBV, HCV, HIV i dr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25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INDIREKTAN</a:t>
            </a:r>
            <a:br>
              <a:rPr sz="2800"/>
            </a:br>
            <a:br>
              <a:rPr sz="16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predmeti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indirektni dodir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 maramice, peškiri, odeća, igračke, pribor za jelo,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medicinski instrumenti, posteljina, kvake, novac, baterije za vodu, knjige, novine i sl.)</a:t>
            </a:r>
            <a:br>
              <a:rPr sz="2400"/>
            </a:br>
            <a:br>
              <a:rPr sz="16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biološki produkt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(krv, transpl. organa – sifilis, HIV, HBV, HCV, malarija, CJ bolest)</a:t>
            </a:r>
            <a:br>
              <a:rPr sz="2400"/>
            </a:br>
            <a:br>
              <a:rPr sz="16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hra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od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azduh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vektor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Koža:</a:t>
            </a:r>
            <a:br>
              <a:rPr sz="28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Raznih vektorskih bolesti, koje ubodom ili kontaminacijom prenose zglavkari (malarija, pegavi tifus, lajmska bolest, razne hemoragijske groznice itd.),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Bolesti koje se prenose zemljištem (tetanus, gasna gangrena, rudarska glista),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Bolesti koje se prenose vodom (leptospiroza, neki paraziti) i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Bolesti koje se prenose kontaktom (gljivične i druge infekcije kož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84360" y="42372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ULAZNO MES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Model lanca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-Vogralikov la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4427640" y="1987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987640" y="313992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63528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292720" y="4940280"/>
            <a:ext cx="433440" cy="4320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5940360" y="3211560"/>
            <a:ext cx="433440" cy="43164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211640" y="25639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 flipH="1">
            <a:off x="3347640" y="2301840"/>
            <a:ext cx="1079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3254400" y="3584520"/>
            <a:ext cx="50472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4067280" y="5156280"/>
            <a:ext cx="1225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5592600" y="3642840"/>
            <a:ext cx="50508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 flipH="1" flipV="1">
            <a:off x="4859280" y="2276640"/>
            <a:ext cx="115272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2797200" y="1357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zerv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6389640" y="3122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ut šire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5580000" y="4869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869080" y="50022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lazna i izlazna v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684360" y="50022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ličina i virulencija k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65200" y="287496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ispozicija i imunit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Sluzokoža:</a:t>
            </a:r>
            <a:br>
              <a:rPr sz="3600"/>
            </a:br>
            <a:br>
              <a:rPr sz="16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respiratornog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trakt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digestivnog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trakt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genitourinarnog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sistema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Sluzokoža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konjuk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84360" y="111564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ahoma"/>
                <a:ea typeface="Tahoma"/>
              </a:rPr>
              <a:t>EPIDEMIOLOŠKA KLASIFIKACI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ahoma"/>
                <a:ea typeface="Tahoma"/>
              </a:rPr>
              <a:t>ZARAZNIH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Na osnovu glavnog ulaznog mes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respiratorne zaraz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crevne zaraz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vektorske, kožne i infekcije 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oč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urinogenitalne bole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611280" y="97200"/>
            <a:ext cx="7221600" cy="64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ahoma"/>
                <a:ea typeface="Tahoma"/>
              </a:rPr>
              <a:t>OSETLJIV DOMAĆ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Na verovatnoću zaražavanja utič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1. faktori dispozicija i ekspozicij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-  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uz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rasna, etnička i verska pripa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socijalno-ekonomski polo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ish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psihičke i fizičke tra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-  druge bolesti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  <a:ea typeface="Tahoma"/>
              </a:rPr>
              <a:t>2. nivo kolektivnog imuniteta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08488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ahoma"/>
                <a:ea typeface="Tahoma"/>
              </a:rPr>
              <a:t>Prirodni (hronološki) tok zarazne bolesti:</a:t>
            </a:r>
            <a:br>
              <a:rPr sz="3200"/>
            </a:br>
            <a:br>
              <a:rPr sz="2800"/>
            </a:b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inkubacio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prodromal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inkrement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period 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acmis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 ili 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akme</a:t>
            </a:r>
            <a:br>
              <a:rPr sz="2800"/>
            </a:b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i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dekrementni</a:t>
            </a:r>
            <a:br>
              <a:rPr sz="2800"/>
            </a:b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- period rekonvalescenc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Spektar bolesti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je raspon njenog mogućeg ispoljavanja, od najblažih do najtežih oblika. Taj spektar se zove i </a:t>
            </a: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gradijent infekcije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, a definiše se kao odgovor domaćina na infekciju, koji se kreće od inaparentne do fatalne bolesti (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raspon kliničkih manifestacija bolesti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)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ahoma"/>
                <a:ea typeface="Tahoma"/>
              </a:rPr>
              <a:t>Na težinu kliničkog ispoljavanja utiču i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virulencija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soj odnosno biotip uzročnik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klasični tip v. kolere izaziva teži klinički oblik kolere)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uzras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obolelih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risustvo nekog drugog poremećaja zdravl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grip teže podnose osobe sa neki hroničnim obolenj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Za podrobnije razumevanje gradijenta infekcije treba definisati infekciju.</a:t>
            </a:r>
            <a:br>
              <a:rPr sz="3200"/>
            </a:br>
            <a:br>
              <a:rPr sz="32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nfekcija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edstavlja prodiranje, održavanje i razmnožavanje infektivnog agensa u organizmu čoveka ili životinje. </a:t>
            </a:r>
            <a:br>
              <a:rPr sz="24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Ona nije što i infektivna bolest. </a:t>
            </a:r>
            <a:br>
              <a:rPr sz="2400"/>
            </a:br>
            <a:br>
              <a:rPr sz="8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Infekcija može biti inaparentna i manifest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Inaparen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se odlikuje odsustvom subjektivnih (simptomi) i objektivnih (znaci) manifestacija bolesti. To su stanja poznata kao latentne, bezsimptomne, zbrisane, skrivene, neprimetne, neme ili supkliničke infekcije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Mada </a:t>
            </a:r>
            <a:r>
              <a:rPr b="1" i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rividno zdrav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takve osobe predstavljaju veliku epidemiološku opasnost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Manifestna infek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predstavlja uočljiv,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tj. klinički manje ili više jasno izražen oblik bolesti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Jedna ista bolest može imati različite kliničke manifestacije bolesti.</a:t>
            </a:r>
            <a:br>
              <a:rPr sz="2400"/>
            </a:br>
            <a:br>
              <a:rPr sz="10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Oni se obeležavaju kao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blag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lak),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umere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umereno težak),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težak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i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fatalan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11280" y="33336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Fenomen ledenog brega</a:t>
            </a:r>
            <a:br>
              <a:rPr sz="2400"/>
            </a:br>
            <a:br>
              <a:rPr sz="2400"/>
            </a:br>
            <a:br>
              <a:rPr sz="12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Fenomen ledenog breg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označava odnos ukupnog obolevanja koji otkriva i ne otkriva zdravstvena služ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Iceberg"/>
          <p:cNvPicPr/>
          <p:nvPr/>
        </p:nvPicPr>
        <p:blipFill>
          <a:blip r:embed="rId1"/>
          <a:stretch/>
        </p:blipFill>
        <p:spPr>
          <a:xfrm>
            <a:off x="179280" y="907920"/>
            <a:ext cx="396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patogenost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-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(sposobnost agensa da izazove manifestnu bolest)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br>
              <a:rPr sz="32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klinički oboleli (O) /agensu izloženi osetljivi (I) = O/I</a:t>
            </a:r>
            <a:br>
              <a:rPr sz="2800"/>
            </a:br>
            <a:br>
              <a:rPr sz="2800"/>
            </a:br>
            <a:br>
              <a:rPr sz="12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infektivnost </a:t>
            </a:r>
            <a:r>
              <a:rPr b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(sposobnost prodiranja, održavanja i raznmožavanja) - lakoća kojom se bolest prenosi - 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  <a:ea typeface="Tahoma"/>
              </a:rPr>
              <a:t>kontagioznost</a:t>
            </a:r>
            <a:br>
              <a:rPr sz="2800"/>
            </a:br>
            <a:br>
              <a:rPr sz="10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zaraženi (Z) / izloženi osetljivi (I) = Z/I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Naziva se i 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ajkulino pera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i “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  <a:ea typeface="Tahoma"/>
              </a:rPr>
              <a:t>uvo nilskog konja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1332000" y="386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395280" y="4365720"/>
            <a:ext cx="388944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14"/>
          <p:cNvSpPr/>
          <p:nvPr/>
        </p:nvSpPr>
        <p:spPr>
          <a:xfrm>
            <a:off x="611280" y="4581360"/>
            <a:ext cx="3240000" cy="5432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4526" h="312">
                <a:moveTo>
                  <a:pt x="0" y="189"/>
                </a:moveTo>
                <a:cubicBezTo>
                  <a:pt x="119" y="180"/>
                  <a:pt x="186" y="182"/>
                  <a:pt x="288" y="147"/>
                </a:cubicBezTo>
                <a:cubicBezTo>
                  <a:pt x="997" y="175"/>
                  <a:pt x="1674" y="195"/>
                  <a:pt x="2400" y="202"/>
                </a:cubicBezTo>
                <a:cubicBezTo>
                  <a:pt x="2505" y="198"/>
                  <a:pt x="2611" y="197"/>
                  <a:pt x="2716" y="189"/>
                </a:cubicBezTo>
                <a:cubicBezTo>
                  <a:pt x="2858" y="178"/>
                  <a:pt x="2635" y="166"/>
                  <a:pt x="2812" y="161"/>
                </a:cubicBezTo>
                <a:cubicBezTo>
                  <a:pt x="3109" y="152"/>
                  <a:pt x="3406" y="152"/>
                  <a:pt x="3703" y="147"/>
                </a:cubicBezTo>
                <a:cubicBezTo>
                  <a:pt x="3712" y="138"/>
                  <a:pt x="3726" y="132"/>
                  <a:pt x="3731" y="120"/>
                </a:cubicBezTo>
                <a:cubicBezTo>
                  <a:pt x="3776" y="0"/>
                  <a:pt x="3678" y="31"/>
                  <a:pt x="3868" y="51"/>
                </a:cubicBezTo>
                <a:cubicBezTo>
                  <a:pt x="3920" y="64"/>
                  <a:pt x="3954" y="92"/>
                  <a:pt x="4005" y="106"/>
                </a:cubicBezTo>
                <a:cubicBezTo>
                  <a:pt x="4042" y="116"/>
                  <a:pt x="4115" y="134"/>
                  <a:pt x="4115" y="134"/>
                </a:cubicBezTo>
                <a:cubicBezTo>
                  <a:pt x="4133" y="148"/>
                  <a:pt x="4149" y="164"/>
                  <a:pt x="4169" y="175"/>
                </a:cubicBezTo>
                <a:cubicBezTo>
                  <a:pt x="4182" y="182"/>
                  <a:pt x="4200" y="180"/>
                  <a:pt x="4211" y="189"/>
                </a:cubicBezTo>
                <a:cubicBezTo>
                  <a:pt x="4228" y="203"/>
                  <a:pt x="4237" y="226"/>
                  <a:pt x="4252" y="243"/>
                </a:cubicBezTo>
                <a:cubicBezTo>
                  <a:pt x="4289" y="287"/>
                  <a:pt x="4289" y="282"/>
                  <a:pt x="4334" y="312"/>
                </a:cubicBezTo>
                <a:cubicBezTo>
                  <a:pt x="4371" y="303"/>
                  <a:pt x="4407" y="294"/>
                  <a:pt x="4444" y="285"/>
                </a:cubicBezTo>
                <a:cubicBezTo>
                  <a:pt x="4476" y="277"/>
                  <a:pt x="4481" y="230"/>
                  <a:pt x="4499" y="202"/>
                </a:cubicBezTo>
                <a:cubicBezTo>
                  <a:pt x="4506" y="191"/>
                  <a:pt x="4517" y="184"/>
                  <a:pt x="4526" y="1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1042920" y="5013360"/>
            <a:ext cx="3457800" cy="465120"/>
          </a:xfrm>
          <a:custGeom>
            <a:avLst/>
            <a:gdLst>
              <a:gd name="textAreaLeft" fmla="*/ 0 w 3457800"/>
              <a:gd name="textAreaRight" fmla="*/ 3458160 w 345780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4526" h="293">
                <a:moveTo>
                  <a:pt x="0" y="192"/>
                </a:moveTo>
                <a:cubicBezTo>
                  <a:pt x="28" y="183"/>
                  <a:pt x="55" y="174"/>
                  <a:pt x="83" y="165"/>
                </a:cubicBezTo>
                <a:cubicBezTo>
                  <a:pt x="95" y="161"/>
                  <a:pt x="99" y="144"/>
                  <a:pt x="110" y="137"/>
                </a:cubicBezTo>
                <a:cubicBezTo>
                  <a:pt x="122" y="130"/>
                  <a:pt x="137" y="128"/>
                  <a:pt x="151" y="124"/>
                </a:cubicBezTo>
                <a:cubicBezTo>
                  <a:pt x="277" y="132"/>
                  <a:pt x="365" y="136"/>
                  <a:pt x="480" y="165"/>
                </a:cubicBezTo>
                <a:cubicBezTo>
                  <a:pt x="677" y="156"/>
                  <a:pt x="776" y="147"/>
                  <a:pt x="947" y="124"/>
                </a:cubicBezTo>
                <a:cubicBezTo>
                  <a:pt x="1061" y="128"/>
                  <a:pt x="1176" y="120"/>
                  <a:pt x="1289" y="137"/>
                </a:cubicBezTo>
                <a:cubicBezTo>
                  <a:pt x="1304" y="139"/>
                  <a:pt x="1288" y="178"/>
                  <a:pt x="1303" y="179"/>
                </a:cubicBezTo>
                <a:cubicBezTo>
                  <a:pt x="1550" y="188"/>
                  <a:pt x="1797" y="170"/>
                  <a:pt x="2044" y="165"/>
                </a:cubicBezTo>
                <a:cubicBezTo>
                  <a:pt x="2058" y="160"/>
                  <a:pt x="2072" y="157"/>
                  <a:pt x="2085" y="151"/>
                </a:cubicBezTo>
                <a:cubicBezTo>
                  <a:pt x="2100" y="144"/>
                  <a:pt x="2111" y="130"/>
                  <a:pt x="2126" y="124"/>
                </a:cubicBezTo>
                <a:cubicBezTo>
                  <a:pt x="2193" y="100"/>
                  <a:pt x="2265" y="92"/>
                  <a:pt x="2332" y="69"/>
                </a:cubicBezTo>
                <a:cubicBezTo>
                  <a:pt x="2554" y="78"/>
                  <a:pt x="2904" y="126"/>
                  <a:pt x="3113" y="55"/>
                </a:cubicBezTo>
                <a:cubicBezTo>
                  <a:pt x="3122" y="46"/>
                  <a:pt x="3129" y="34"/>
                  <a:pt x="3141" y="28"/>
                </a:cubicBezTo>
                <a:cubicBezTo>
                  <a:pt x="3167" y="15"/>
                  <a:pt x="3223" y="0"/>
                  <a:pt x="3223" y="0"/>
                </a:cubicBezTo>
                <a:cubicBezTo>
                  <a:pt x="3273" y="5"/>
                  <a:pt x="3324" y="9"/>
                  <a:pt x="3374" y="14"/>
                </a:cubicBezTo>
                <a:cubicBezTo>
                  <a:pt x="3456" y="22"/>
                  <a:pt x="3621" y="41"/>
                  <a:pt x="3621" y="41"/>
                </a:cubicBezTo>
                <a:cubicBezTo>
                  <a:pt x="3639" y="46"/>
                  <a:pt x="3657" y="54"/>
                  <a:pt x="3676" y="55"/>
                </a:cubicBezTo>
                <a:cubicBezTo>
                  <a:pt x="3804" y="63"/>
                  <a:pt x="3933" y="52"/>
                  <a:pt x="4060" y="69"/>
                </a:cubicBezTo>
                <a:cubicBezTo>
                  <a:pt x="4080" y="72"/>
                  <a:pt x="4095" y="139"/>
                  <a:pt x="4101" y="151"/>
                </a:cubicBezTo>
                <a:cubicBezTo>
                  <a:pt x="4125" y="198"/>
                  <a:pt x="4149" y="218"/>
                  <a:pt x="4197" y="233"/>
                </a:cubicBezTo>
                <a:cubicBezTo>
                  <a:pt x="4285" y="293"/>
                  <a:pt x="4302" y="273"/>
                  <a:pt x="4430" y="261"/>
                </a:cubicBezTo>
                <a:cubicBezTo>
                  <a:pt x="4507" y="235"/>
                  <a:pt x="4493" y="216"/>
                  <a:pt x="4526" y="15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6"/>
          <p:cNvSpPr/>
          <p:nvPr/>
        </p:nvSpPr>
        <p:spPr>
          <a:xfrm>
            <a:off x="468360" y="4797360"/>
            <a:ext cx="2879640" cy="66060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4431" h="416">
                <a:moveTo>
                  <a:pt x="15" y="279"/>
                </a:moveTo>
                <a:cubicBezTo>
                  <a:pt x="76" y="216"/>
                  <a:pt x="0" y="285"/>
                  <a:pt x="97" y="237"/>
                </a:cubicBezTo>
                <a:cubicBezTo>
                  <a:pt x="109" y="231"/>
                  <a:pt x="114" y="217"/>
                  <a:pt x="125" y="210"/>
                </a:cubicBezTo>
                <a:cubicBezTo>
                  <a:pt x="137" y="203"/>
                  <a:pt x="153" y="202"/>
                  <a:pt x="166" y="196"/>
                </a:cubicBezTo>
                <a:cubicBezTo>
                  <a:pt x="203" y="178"/>
                  <a:pt x="208" y="168"/>
                  <a:pt x="234" y="141"/>
                </a:cubicBezTo>
                <a:cubicBezTo>
                  <a:pt x="792" y="161"/>
                  <a:pt x="488" y="124"/>
                  <a:pt x="714" y="196"/>
                </a:cubicBezTo>
                <a:cubicBezTo>
                  <a:pt x="747" y="295"/>
                  <a:pt x="718" y="263"/>
                  <a:pt x="783" y="306"/>
                </a:cubicBezTo>
                <a:cubicBezTo>
                  <a:pt x="788" y="320"/>
                  <a:pt x="786" y="338"/>
                  <a:pt x="797" y="347"/>
                </a:cubicBezTo>
                <a:cubicBezTo>
                  <a:pt x="823" y="368"/>
                  <a:pt x="861" y="364"/>
                  <a:pt x="893" y="375"/>
                </a:cubicBezTo>
                <a:cubicBezTo>
                  <a:pt x="999" y="370"/>
                  <a:pt x="1142" y="416"/>
                  <a:pt x="1208" y="333"/>
                </a:cubicBezTo>
                <a:cubicBezTo>
                  <a:pt x="1217" y="322"/>
                  <a:pt x="1214" y="304"/>
                  <a:pt x="1222" y="292"/>
                </a:cubicBezTo>
                <a:cubicBezTo>
                  <a:pt x="1233" y="276"/>
                  <a:pt x="1249" y="265"/>
                  <a:pt x="1263" y="251"/>
                </a:cubicBezTo>
                <a:cubicBezTo>
                  <a:pt x="1268" y="237"/>
                  <a:pt x="1267" y="220"/>
                  <a:pt x="1277" y="210"/>
                </a:cubicBezTo>
                <a:cubicBezTo>
                  <a:pt x="1300" y="187"/>
                  <a:pt x="1359" y="155"/>
                  <a:pt x="1359" y="155"/>
                </a:cubicBezTo>
                <a:cubicBezTo>
                  <a:pt x="1535" y="175"/>
                  <a:pt x="1701" y="188"/>
                  <a:pt x="1880" y="196"/>
                </a:cubicBezTo>
                <a:cubicBezTo>
                  <a:pt x="1972" y="190"/>
                  <a:pt x="2070" y="206"/>
                  <a:pt x="2154" y="169"/>
                </a:cubicBezTo>
                <a:cubicBezTo>
                  <a:pt x="2166" y="164"/>
                  <a:pt x="2171" y="149"/>
                  <a:pt x="2182" y="141"/>
                </a:cubicBezTo>
                <a:cubicBezTo>
                  <a:pt x="2208" y="121"/>
                  <a:pt x="2264" y="87"/>
                  <a:pt x="2264" y="87"/>
                </a:cubicBezTo>
                <a:cubicBezTo>
                  <a:pt x="2351" y="91"/>
                  <a:pt x="2438" y="93"/>
                  <a:pt x="2525" y="100"/>
                </a:cubicBezTo>
                <a:cubicBezTo>
                  <a:pt x="2593" y="106"/>
                  <a:pt x="2662" y="141"/>
                  <a:pt x="2730" y="155"/>
                </a:cubicBezTo>
                <a:cubicBezTo>
                  <a:pt x="2780" y="150"/>
                  <a:pt x="2832" y="152"/>
                  <a:pt x="2881" y="141"/>
                </a:cubicBezTo>
                <a:cubicBezTo>
                  <a:pt x="2897" y="138"/>
                  <a:pt x="2906" y="115"/>
                  <a:pt x="2922" y="114"/>
                </a:cubicBezTo>
                <a:cubicBezTo>
                  <a:pt x="3014" y="110"/>
                  <a:pt x="3105" y="123"/>
                  <a:pt x="3197" y="128"/>
                </a:cubicBezTo>
                <a:cubicBezTo>
                  <a:pt x="3244" y="151"/>
                  <a:pt x="3284" y="180"/>
                  <a:pt x="3334" y="196"/>
                </a:cubicBezTo>
                <a:cubicBezTo>
                  <a:pt x="3545" y="186"/>
                  <a:pt x="3750" y="192"/>
                  <a:pt x="3951" y="128"/>
                </a:cubicBezTo>
                <a:cubicBezTo>
                  <a:pt x="3964" y="119"/>
                  <a:pt x="4113" y="5"/>
                  <a:pt x="4143" y="4"/>
                </a:cubicBezTo>
                <a:cubicBezTo>
                  <a:pt x="4239" y="0"/>
                  <a:pt x="4335" y="4"/>
                  <a:pt x="4431" y="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7"/>
          <p:cNvSpPr/>
          <p:nvPr/>
        </p:nvSpPr>
        <p:spPr>
          <a:xfrm>
            <a:off x="755640" y="5589720"/>
            <a:ext cx="3672000" cy="68868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688680"/>
              <a:gd name="textAreaBottom" fmla="*/ 689040 h 688680"/>
            </a:gdLst>
            <a:ahLst/>
            <a:rect l="textAreaLeft" t="textAreaTop" r="textAreaRight" b="textAreaBottom"/>
            <a:pathLst>
              <a:path w="4594" h="434">
                <a:moveTo>
                  <a:pt x="0" y="272"/>
                </a:moveTo>
                <a:cubicBezTo>
                  <a:pt x="18" y="263"/>
                  <a:pt x="36" y="252"/>
                  <a:pt x="55" y="245"/>
                </a:cubicBezTo>
                <a:cubicBezTo>
                  <a:pt x="73" y="238"/>
                  <a:pt x="93" y="238"/>
                  <a:pt x="110" y="231"/>
                </a:cubicBezTo>
                <a:cubicBezTo>
                  <a:pt x="125" y="225"/>
                  <a:pt x="136" y="210"/>
                  <a:pt x="151" y="204"/>
                </a:cubicBezTo>
                <a:cubicBezTo>
                  <a:pt x="186" y="191"/>
                  <a:pt x="260" y="176"/>
                  <a:pt x="260" y="176"/>
                </a:cubicBezTo>
                <a:cubicBezTo>
                  <a:pt x="393" y="195"/>
                  <a:pt x="505" y="209"/>
                  <a:pt x="644" y="217"/>
                </a:cubicBezTo>
                <a:cubicBezTo>
                  <a:pt x="861" y="434"/>
                  <a:pt x="632" y="218"/>
                  <a:pt x="1467" y="231"/>
                </a:cubicBezTo>
                <a:cubicBezTo>
                  <a:pt x="1477" y="231"/>
                  <a:pt x="1555" y="269"/>
                  <a:pt x="1577" y="272"/>
                </a:cubicBezTo>
                <a:cubicBezTo>
                  <a:pt x="1627" y="279"/>
                  <a:pt x="1678" y="281"/>
                  <a:pt x="1728" y="286"/>
                </a:cubicBezTo>
                <a:cubicBezTo>
                  <a:pt x="1810" y="281"/>
                  <a:pt x="1893" y="280"/>
                  <a:pt x="1975" y="272"/>
                </a:cubicBezTo>
                <a:cubicBezTo>
                  <a:pt x="2054" y="265"/>
                  <a:pt x="2018" y="243"/>
                  <a:pt x="2112" y="231"/>
                </a:cubicBezTo>
                <a:cubicBezTo>
                  <a:pt x="2149" y="226"/>
                  <a:pt x="2185" y="222"/>
                  <a:pt x="2222" y="217"/>
                </a:cubicBezTo>
                <a:cubicBezTo>
                  <a:pt x="2546" y="114"/>
                  <a:pt x="2162" y="232"/>
                  <a:pt x="3140" y="176"/>
                </a:cubicBezTo>
                <a:cubicBezTo>
                  <a:pt x="3169" y="174"/>
                  <a:pt x="3223" y="149"/>
                  <a:pt x="3223" y="149"/>
                </a:cubicBezTo>
                <a:cubicBezTo>
                  <a:pt x="3341" y="68"/>
                  <a:pt x="3191" y="165"/>
                  <a:pt x="3305" y="108"/>
                </a:cubicBezTo>
                <a:cubicBezTo>
                  <a:pt x="3435" y="43"/>
                  <a:pt x="3323" y="82"/>
                  <a:pt x="3415" y="53"/>
                </a:cubicBezTo>
                <a:cubicBezTo>
                  <a:pt x="4109" y="72"/>
                  <a:pt x="3717" y="0"/>
                  <a:pt x="3963" y="121"/>
                </a:cubicBezTo>
                <a:cubicBezTo>
                  <a:pt x="4040" y="198"/>
                  <a:pt x="4193" y="124"/>
                  <a:pt x="4292" y="108"/>
                </a:cubicBezTo>
                <a:cubicBezTo>
                  <a:pt x="4320" y="99"/>
                  <a:pt x="4347" y="89"/>
                  <a:pt x="4375" y="80"/>
                </a:cubicBezTo>
                <a:cubicBezTo>
                  <a:pt x="4406" y="70"/>
                  <a:pt x="4439" y="92"/>
                  <a:pt x="4471" y="94"/>
                </a:cubicBezTo>
                <a:cubicBezTo>
                  <a:pt x="4512" y="97"/>
                  <a:pt x="4553" y="94"/>
                  <a:pt x="4594" y="9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8"/>
          <p:cNvSpPr/>
          <p:nvPr/>
        </p:nvSpPr>
        <p:spPr>
          <a:xfrm>
            <a:off x="539640" y="5589720"/>
            <a:ext cx="3961080" cy="595080"/>
          </a:xfrm>
          <a:custGeom>
            <a:avLst/>
            <a:gdLst>
              <a:gd name="textAreaLeft" fmla="*/ 0 w 3961080"/>
              <a:gd name="textAreaRight" fmla="*/ 3961440 w 396108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5006" h="375">
                <a:moveTo>
                  <a:pt x="0" y="178"/>
                </a:moveTo>
                <a:cubicBezTo>
                  <a:pt x="151" y="168"/>
                  <a:pt x="269" y="152"/>
                  <a:pt x="412" y="123"/>
                </a:cubicBezTo>
                <a:cubicBezTo>
                  <a:pt x="536" y="375"/>
                  <a:pt x="1248" y="219"/>
                  <a:pt x="1248" y="219"/>
                </a:cubicBezTo>
                <a:cubicBezTo>
                  <a:pt x="1399" y="198"/>
                  <a:pt x="1539" y="175"/>
                  <a:pt x="1687" y="150"/>
                </a:cubicBezTo>
                <a:cubicBezTo>
                  <a:pt x="1822" y="196"/>
                  <a:pt x="1756" y="178"/>
                  <a:pt x="2044" y="178"/>
                </a:cubicBezTo>
                <a:cubicBezTo>
                  <a:pt x="2396" y="178"/>
                  <a:pt x="2748" y="169"/>
                  <a:pt x="3100" y="164"/>
                </a:cubicBezTo>
                <a:cubicBezTo>
                  <a:pt x="3162" y="143"/>
                  <a:pt x="3206" y="131"/>
                  <a:pt x="3264" y="96"/>
                </a:cubicBezTo>
                <a:cubicBezTo>
                  <a:pt x="3255" y="87"/>
                  <a:pt x="3228" y="77"/>
                  <a:pt x="3237" y="68"/>
                </a:cubicBezTo>
                <a:cubicBezTo>
                  <a:pt x="3257" y="48"/>
                  <a:pt x="3293" y="54"/>
                  <a:pt x="3319" y="41"/>
                </a:cubicBezTo>
                <a:cubicBezTo>
                  <a:pt x="3331" y="35"/>
                  <a:pt x="3334" y="19"/>
                  <a:pt x="3346" y="13"/>
                </a:cubicBezTo>
                <a:cubicBezTo>
                  <a:pt x="3363" y="5"/>
                  <a:pt x="3383" y="4"/>
                  <a:pt x="3401" y="0"/>
                </a:cubicBezTo>
                <a:cubicBezTo>
                  <a:pt x="3602" y="4"/>
                  <a:pt x="3804" y="5"/>
                  <a:pt x="4005" y="13"/>
                </a:cubicBezTo>
                <a:cubicBezTo>
                  <a:pt x="4069" y="16"/>
                  <a:pt x="4133" y="47"/>
                  <a:pt x="4197" y="54"/>
                </a:cubicBezTo>
                <a:cubicBezTo>
                  <a:pt x="4256" y="60"/>
                  <a:pt x="4316" y="63"/>
                  <a:pt x="4375" y="68"/>
                </a:cubicBezTo>
                <a:cubicBezTo>
                  <a:pt x="4573" y="118"/>
                  <a:pt x="5006" y="260"/>
                  <a:pt x="5006" y="1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468360" y="4581360"/>
            <a:ext cx="3672000" cy="6321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632160"/>
              <a:gd name="textAreaBottom" fmla="*/ 632520 h 632160"/>
            </a:gdLst>
            <a:ahLst/>
            <a:rect l="textAreaLeft" t="textAreaTop" r="textAreaRight" b="textAreaBottom"/>
            <a:pathLst>
              <a:path w="4224" h="398">
                <a:moveTo>
                  <a:pt x="0" y="247"/>
                </a:moveTo>
                <a:cubicBezTo>
                  <a:pt x="334" y="233"/>
                  <a:pt x="453" y="221"/>
                  <a:pt x="823" y="247"/>
                </a:cubicBezTo>
                <a:cubicBezTo>
                  <a:pt x="852" y="249"/>
                  <a:pt x="882" y="259"/>
                  <a:pt x="906" y="275"/>
                </a:cubicBezTo>
                <a:cubicBezTo>
                  <a:pt x="965" y="314"/>
                  <a:pt x="1012" y="360"/>
                  <a:pt x="1070" y="398"/>
                </a:cubicBezTo>
                <a:cubicBezTo>
                  <a:pt x="1185" y="375"/>
                  <a:pt x="1300" y="366"/>
                  <a:pt x="1413" y="330"/>
                </a:cubicBezTo>
                <a:cubicBezTo>
                  <a:pt x="1484" y="259"/>
                  <a:pt x="1472" y="285"/>
                  <a:pt x="1550" y="234"/>
                </a:cubicBezTo>
                <a:cubicBezTo>
                  <a:pt x="1678" y="238"/>
                  <a:pt x="1806" y="254"/>
                  <a:pt x="1934" y="247"/>
                </a:cubicBezTo>
                <a:cubicBezTo>
                  <a:pt x="2013" y="243"/>
                  <a:pt x="2100" y="167"/>
                  <a:pt x="2181" y="165"/>
                </a:cubicBezTo>
                <a:cubicBezTo>
                  <a:pt x="2423" y="160"/>
                  <a:pt x="2666" y="156"/>
                  <a:pt x="2908" y="151"/>
                </a:cubicBezTo>
                <a:cubicBezTo>
                  <a:pt x="2954" y="137"/>
                  <a:pt x="3000" y="125"/>
                  <a:pt x="3045" y="110"/>
                </a:cubicBezTo>
                <a:cubicBezTo>
                  <a:pt x="3229" y="122"/>
                  <a:pt x="3410" y="141"/>
                  <a:pt x="3594" y="151"/>
                </a:cubicBezTo>
                <a:cubicBezTo>
                  <a:pt x="3711" y="142"/>
                  <a:pt x="3755" y="135"/>
                  <a:pt x="3854" y="110"/>
                </a:cubicBezTo>
                <a:cubicBezTo>
                  <a:pt x="3956" y="43"/>
                  <a:pt x="4053" y="63"/>
                  <a:pt x="4183" y="55"/>
                </a:cubicBezTo>
                <a:cubicBezTo>
                  <a:pt x="4218" y="21"/>
                  <a:pt x="4206" y="40"/>
                  <a:pt x="42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21"/>
          <p:cNvSpPr/>
          <p:nvPr/>
        </p:nvSpPr>
        <p:spPr>
          <a:xfrm>
            <a:off x="684360" y="4508640"/>
            <a:ext cx="3671640" cy="260280"/>
          </a:xfrm>
          <a:custGeom>
            <a:avLst/>
            <a:gdLst>
              <a:gd name="textAreaLeft" fmla="*/ 0 w 3671640"/>
              <a:gd name="textAreaRight" fmla="*/ 3672000 w 36716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4690" h="300">
                <a:moveTo>
                  <a:pt x="0" y="177"/>
                </a:moveTo>
                <a:cubicBezTo>
                  <a:pt x="108" y="211"/>
                  <a:pt x="68" y="204"/>
                  <a:pt x="274" y="177"/>
                </a:cubicBezTo>
                <a:cubicBezTo>
                  <a:pt x="303" y="173"/>
                  <a:pt x="329" y="158"/>
                  <a:pt x="357" y="149"/>
                </a:cubicBezTo>
                <a:cubicBezTo>
                  <a:pt x="371" y="144"/>
                  <a:pt x="398" y="136"/>
                  <a:pt x="398" y="136"/>
                </a:cubicBezTo>
                <a:cubicBezTo>
                  <a:pt x="691" y="140"/>
                  <a:pt x="983" y="140"/>
                  <a:pt x="1276" y="149"/>
                </a:cubicBezTo>
                <a:cubicBezTo>
                  <a:pt x="1413" y="153"/>
                  <a:pt x="1687" y="177"/>
                  <a:pt x="1687" y="177"/>
                </a:cubicBezTo>
                <a:cubicBezTo>
                  <a:pt x="1769" y="203"/>
                  <a:pt x="1732" y="216"/>
                  <a:pt x="1783" y="259"/>
                </a:cubicBezTo>
                <a:cubicBezTo>
                  <a:pt x="1804" y="276"/>
                  <a:pt x="1852" y="291"/>
                  <a:pt x="1879" y="300"/>
                </a:cubicBezTo>
                <a:cubicBezTo>
                  <a:pt x="2176" y="281"/>
                  <a:pt x="2019" y="300"/>
                  <a:pt x="2181" y="245"/>
                </a:cubicBezTo>
                <a:cubicBezTo>
                  <a:pt x="2384" y="257"/>
                  <a:pt x="2563" y="276"/>
                  <a:pt x="2770" y="245"/>
                </a:cubicBezTo>
                <a:cubicBezTo>
                  <a:pt x="3010" y="209"/>
                  <a:pt x="2813" y="210"/>
                  <a:pt x="2908" y="163"/>
                </a:cubicBezTo>
                <a:cubicBezTo>
                  <a:pt x="2971" y="131"/>
                  <a:pt x="3058" y="120"/>
                  <a:pt x="3127" y="108"/>
                </a:cubicBezTo>
                <a:cubicBezTo>
                  <a:pt x="3182" y="81"/>
                  <a:pt x="3235" y="72"/>
                  <a:pt x="3292" y="53"/>
                </a:cubicBezTo>
                <a:cubicBezTo>
                  <a:pt x="3530" y="300"/>
                  <a:pt x="3962" y="0"/>
                  <a:pt x="4279" y="108"/>
                </a:cubicBezTo>
                <a:cubicBezTo>
                  <a:pt x="4384" y="103"/>
                  <a:pt x="4489" y="94"/>
                  <a:pt x="4594" y="94"/>
                </a:cubicBezTo>
                <a:cubicBezTo>
                  <a:pt x="4626" y="94"/>
                  <a:pt x="4690" y="108"/>
                  <a:pt x="4690" y="1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22"/>
          <p:cNvSpPr/>
          <p:nvPr/>
        </p:nvSpPr>
        <p:spPr>
          <a:xfrm>
            <a:off x="900000" y="5013360"/>
            <a:ext cx="3024360" cy="78588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4512" h="495">
                <a:moveTo>
                  <a:pt x="0" y="399"/>
                </a:moveTo>
                <a:cubicBezTo>
                  <a:pt x="177" y="384"/>
                  <a:pt x="341" y="367"/>
                  <a:pt x="521" y="358"/>
                </a:cubicBezTo>
                <a:cubicBezTo>
                  <a:pt x="654" y="362"/>
                  <a:pt x="787" y="360"/>
                  <a:pt x="919" y="371"/>
                </a:cubicBezTo>
                <a:cubicBezTo>
                  <a:pt x="948" y="373"/>
                  <a:pt x="1001" y="399"/>
                  <a:pt x="1001" y="399"/>
                </a:cubicBezTo>
                <a:cubicBezTo>
                  <a:pt x="1001" y="400"/>
                  <a:pt x="1008" y="495"/>
                  <a:pt x="1042" y="495"/>
                </a:cubicBezTo>
                <a:cubicBezTo>
                  <a:pt x="1189" y="495"/>
                  <a:pt x="1481" y="467"/>
                  <a:pt x="1481" y="467"/>
                </a:cubicBezTo>
                <a:cubicBezTo>
                  <a:pt x="1568" y="451"/>
                  <a:pt x="1620" y="426"/>
                  <a:pt x="1701" y="399"/>
                </a:cubicBezTo>
                <a:cubicBezTo>
                  <a:pt x="2100" y="0"/>
                  <a:pt x="3541" y="275"/>
                  <a:pt x="3566" y="275"/>
                </a:cubicBezTo>
                <a:cubicBezTo>
                  <a:pt x="3706" y="254"/>
                  <a:pt x="3838" y="217"/>
                  <a:pt x="3977" y="193"/>
                </a:cubicBezTo>
                <a:cubicBezTo>
                  <a:pt x="3986" y="184"/>
                  <a:pt x="3998" y="177"/>
                  <a:pt x="4005" y="166"/>
                </a:cubicBezTo>
                <a:cubicBezTo>
                  <a:pt x="4012" y="154"/>
                  <a:pt x="4008" y="135"/>
                  <a:pt x="4018" y="125"/>
                </a:cubicBezTo>
                <a:cubicBezTo>
                  <a:pt x="4028" y="115"/>
                  <a:pt x="4045" y="116"/>
                  <a:pt x="4059" y="111"/>
                </a:cubicBezTo>
                <a:cubicBezTo>
                  <a:pt x="4411" y="127"/>
                  <a:pt x="4260" y="125"/>
                  <a:pt x="4512" y="1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23"/>
          <p:cNvSpPr/>
          <p:nvPr/>
        </p:nvSpPr>
        <p:spPr>
          <a:xfrm>
            <a:off x="826920" y="5300640"/>
            <a:ext cx="3673800" cy="495360"/>
          </a:xfrm>
          <a:custGeom>
            <a:avLst/>
            <a:gdLst>
              <a:gd name="textAreaLeft" fmla="*/ 0 w 3673800"/>
              <a:gd name="textAreaRight" fmla="*/ 3674160 w 36738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4767" h="312">
                <a:moveTo>
                  <a:pt x="8" y="144"/>
                </a:moveTo>
                <a:cubicBezTo>
                  <a:pt x="266" y="224"/>
                  <a:pt x="0" y="146"/>
                  <a:pt x="722" y="185"/>
                </a:cubicBezTo>
                <a:cubicBezTo>
                  <a:pt x="831" y="191"/>
                  <a:pt x="943" y="208"/>
                  <a:pt x="1051" y="226"/>
                </a:cubicBezTo>
                <a:cubicBezTo>
                  <a:pt x="1146" y="288"/>
                  <a:pt x="1139" y="249"/>
                  <a:pt x="1243" y="240"/>
                </a:cubicBezTo>
                <a:cubicBezTo>
                  <a:pt x="1320" y="233"/>
                  <a:pt x="1398" y="231"/>
                  <a:pt x="1476" y="226"/>
                </a:cubicBezTo>
                <a:cubicBezTo>
                  <a:pt x="1733" y="138"/>
                  <a:pt x="2601" y="312"/>
                  <a:pt x="2216" y="240"/>
                </a:cubicBezTo>
                <a:cubicBezTo>
                  <a:pt x="2225" y="231"/>
                  <a:pt x="2244" y="225"/>
                  <a:pt x="2244" y="212"/>
                </a:cubicBezTo>
                <a:cubicBezTo>
                  <a:pt x="2244" y="195"/>
                  <a:pt x="2205" y="159"/>
                  <a:pt x="2216" y="171"/>
                </a:cubicBezTo>
                <a:cubicBezTo>
                  <a:pt x="2236" y="192"/>
                  <a:pt x="2253" y="217"/>
                  <a:pt x="2271" y="240"/>
                </a:cubicBezTo>
                <a:cubicBezTo>
                  <a:pt x="2398" y="197"/>
                  <a:pt x="2215" y="255"/>
                  <a:pt x="2532" y="212"/>
                </a:cubicBezTo>
                <a:cubicBezTo>
                  <a:pt x="2561" y="208"/>
                  <a:pt x="2585" y="189"/>
                  <a:pt x="2614" y="185"/>
                </a:cubicBezTo>
                <a:cubicBezTo>
                  <a:pt x="2651" y="180"/>
                  <a:pt x="2687" y="176"/>
                  <a:pt x="2724" y="171"/>
                </a:cubicBezTo>
                <a:cubicBezTo>
                  <a:pt x="2954" y="95"/>
                  <a:pt x="3139" y="98"/>
                  <a:pt x="3396" y="89"/>
                </a:cubicBezTo>
                <a:cubicBezTo>
                  <a:pt x="3423" y="80"/>
                  <a:pt x="3450" y="68"/>
                  <a:pt x="3478" y="61"/>
                </a:cubicBezTo>
                <a:cubicBezTo>
                  <a:pt x="3496" y="57"/>
                  <a:pt x="3515" y="53"/>
                  <a:pt x="3533" y="48"/>
                </a:cubicBezTo>
                <a:cubicBezTo>
                  <a:pt x="3561" y="40"/>
                  <a:pt x="3615" y="20"/>
                  <a:pt x="3615" y="20"/>
                </a:cubicBezTo>
                <a:cubicBezTo>
                  <a:pt x="4008" y="55"/>
                  <a:pt x="3825" y="42"/>
                  <a:pt x="4164" y="61"/>
                </a:cubicBezTo>
                <a:cubicBezTo>
                  <a:pt x="4265" y="52"/>
                  <a:pt x="4366" y="46"/>
                  <a:pt x="4466" y="34"/>
                </a:cubicBezTo>
                <a:cubicBezTo>
                  <a:pt x="4529" y="26"/>
                  <a:pt x="4488" y="0"/>
                  <a:pt x="4534" y="48"/>
                </a:cubicBezTo>
                <a:cubicBezTo>
                  <a:pt x="4539" y="66"/>
                  <a:pt x="4537" y="88"/>
                  <a:pt x="4548" y="103"/>
                </a:cubicBezTo>
                <a:cubicBezTo>
                  <a:pt x="4615" y="199"/>
                  <a:pt x="4660" y="199"/>
                  <a:pt x="4767" y="19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5" descr="Hippopotamus-1"/>
          <p:cNvPicPr/>
          <p:nvPr/>
        </p:nvPicPr>
        <p:blipFill>
          <a:blip r:embed="rId1"/>
          <a:stretch/>
        </p:blipFill>
        <p:spPr>
          <a:xfrm>
            <a:off x="4788000" y="3573360"/>
            <a:ext cx="4066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Najveći broj obolelih ne biva evidentiran.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Najveći deo “podvodnog dela ledenog brega”:</a:t>
            </a:r>
            <a:br>
              <a:rPr sz="2800"/>
            </a:br>
            <a:br>
              <a:rPr sz="1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slučajevi koji nisu dospeli do lekara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 (osobe sa lakšom kl. slikom ili blagom simptomatologijom koje nisu tražile pomoć)</a:t>
            </a:r>
            <a:br>
              <a:rPr sz="2800"/>
            </a:br>
            <a:br>
              <a:rPr sz="12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pregledani bolesnici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, ali im tačna dijagnoza nije postavljena ili nije zabeleže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virulencij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stepen patogenosti odnosno sposobnost agensa da izazove manifestnu bolest u inficiranom domaćinu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klinički oboleli (O) / ukupni broj zaraženih (Z) = O/Z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ahoma"/>
                <a:ea typeface="Tahoma"/>
              </a:rPr>
              <a:t>Faktori virulencije</a:t>
            </a:r>
            <a:br>
              <a:rPr sz="4000"/>
            </a:br>
            <a:br>
              <a:rPr sz="2800"/>
            </a:br>
            <a:br>
              <a:rPr sz="1400"/>
            </a:br>
            <a:r>
              <a:rPr b="1" lang="sr-Latn-CS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invazivnos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oni koji agensu omogućuju adherenciju (prijanjanja) na tkiva, prodiranja u njih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azmnožavanje i širenje 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toksičnos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- izazivaju oštećenja tkiva domaćina pod dejstvom toksin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nfektivna doza ili inokulu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1600200"/>
          <a:ext cx="8147160" cy="4513320"/>
        </p:xfrm>
        <a:graphic>
          <a:graphicData uri="http://schemas.openxmlformats.org/drawingml/2006/table">
            <a:tbl>
              <a:tblPr/>
              <a:tblGrid>
                <a:gridCol w="403236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Bol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cc00"/>
                          </a:solidFill>
                          <a:latin typeface="Tahoma"/>
                          <a:ea typeface="Tahoma"/>
                        </a:rPr>
                        <a:t>Minimalan broj k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Trbušni tif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almonelozno trovanje hran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 – 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acilarna dizenter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≤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riptosporidij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-2 ci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9423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REZERVOAR I IZVOR ZARAZE</a:t>
            </a:r>
            <a:br>
              <a:rPr sz="3200"/>
            </a:br>
            <a:br>
              <a:rPr sz="28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REZERVOAR  mesto gde živi i razmnožava se,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može se definisati i kao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prirodno stanište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Ljudi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morbili, pertusis, rubeola)</a:t>
            </a:r>
            <a:br>
              <a:rPr sz="2400"/>
            </a:br>
            <a:r>
              <a:rPr b="0" lang="sr-Latn-CS" sz="2400" spc="-1" strike="noStrike">
                <a:solidFill>
                  <a:srgbClr val="ffff00"/>
                </a:solidFill>
                <a:latin typeface="Tahoma"/>
                <a:ea typeface="Tahoma"/>
              </a:rPr>
              <a:t>Životin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tetanus, antraks, besnilo)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Ljudi i životinje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(salmonele) pacovi, miševi, živina i sl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Neživa prirod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(zemljište, bare, reke i dr.)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i="1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Rudarska glista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cc00"/>
                </a:solidFill>
                <a:latin typeface="Tahoma"/>
                <a:ea typeface="Tahoma"/>
              </a:rPr>
              <a:t>Poznavanje staništa – preventivne mere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Tahoma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dezinfekcija vode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  <a:ea typeface="Tahoma"/>
              </a:rPr>
              <a:t>- vakcinacija životi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218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REZERVOAR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sr-CS" sz="2400" spc="-1" strike="noStrike">
                <a:solidFill>
                  <a:srgbClr val="ffcc00"/>
                </a:solidFill>
                <a:latin typeface="Tahoma"/>
                <a:ea typeface="Tahoma"/>
              </a:rPr>
              <a:t>”</a:t>
            </a:r>
            <a:r>
              <a:rPr b="1" lang="sr-Latn-CS" sz="2400" spc="-1" strike="noStrike">
                <a:solidFill>
                  <a:srgbClr val="ffcc00"/>
                </a:solidFill>
                <a:latin typeface="Tahoma"/>
                <a:ea typeface="Tahoma"/>
              </a:rPr>
              <a:t>IZVOR</a:t>
            </a:r>
            <a:r>
              <a:rPr b="1" lang="sr-CS" sz="2400" spc="-1" strike="noStrike">
                <a:solidFill>
                  <a:srgbClr val="ffcc00"/>
                </a:solidFill>
                <a:latin typeface="Tahoma"/>
                <a:ea typeface="Tahoma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infektivnog agensa je konkretan pojam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Poznavanje izvora zaraze ima veći značaj u praktičnom radu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Čovek kao izvor: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1. kao bolesnik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ahoma"/>
              </a:rPr>
              <a:t>2. kao kliconoš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6:17:37Z</dcterms:created>
  <dc:creator>Z V</dc:creator>
  <dc:description/>
  <dc:language>en-US</dc:language>
  <cp:lastModifiedBy>Korisnik</cp:lastModifiedBy>
  <dcterms:modified xsi:type="dcterms:W3CDTF">2019-05-17T10:00:28Z</dcterms:modified>
  <cp:revision>168</cp:revision>
  <dc:subject/>
  <dc:title>EPIDEMIOLOGIJA ZARAZNIH BOLESTI</dc:title>
</cp:coreProperties>
</file>