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2F3-B673-407B-8D89-6C585EF9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12A-8908-4341-B2F5-7130FE79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A43-7030-4516-AFAA-6C080FB5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4C2-E582-4D59-8FD1-CDE79E5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ACCA2-07F5-47AA-9BC5-D56DF229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1AD2A-A940-4BC7-BE14-FB122264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4D617-E635-4328-AF05-FE862D21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623FF-FA98-4F23-A3CC-EF87B26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C2EAA-77C8-40D9-A36A-D066BC1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A2ED-C57B-4807-856F-43A7B1A6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4BDBB-87AA-4076-BE14-DA94989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72B-DD28-4478-9CD1-6E7F701A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65565-6750-49DB-B1B6-0DDF091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ED9A5-1F27-4198-8FA7-8D95B23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73DF-6503-46ED-A88B-B9E986A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A9361-2526-4C22-8782-7AFBD55F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ABF7-E0C0-4330-90A3-E79D5475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B8A-EB5E-48A5-8D05-764A08DB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8D3-A4F1-41B0-8E90-6B60B588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1DE-31BE-4819-BA37-6911DD7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A8D-65EC-447E-B32D-085FDA0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51E-44D4-46AB-B833-E2F7EAF6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EB3-472D-4628-8F7F-72040D4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EC7-55CE-4C97-B807-C0D88C89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3FAE-5EC4-462C-BBFB-224667D5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36E-E509-4DC8-85F5-149ADA90A8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Organizacija obaveznih vakcinacija lica određenog uzrast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rodna otpornost (rezistencija)-nesposobnost jedne biološke vrste da oboli od pojedinih zaraznih bolesti druge biološke vrste (svinjska kuga, štenećak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načinu sticanja imunitet se može podeliti na nekoliko gru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munitet: prirodni  i  veštač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ema načinu nastanka imunitet može biti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AKTIVAN i  PAS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rodan: akt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eštački: aktiv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Prirodni aktivni imunite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u vrstu imuniteta stvara sam organiz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staje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posle prirodnog kontakt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maćina sa uzročnikom zarazne bolesti, posle preležane bolesti koja je izražena u punoj kliničkoj formi, kao i  posle atipičnih, subkliničkih i inaparentnih kliničkih slika zarazn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vara se i posle većeg broja infekcija sa minimalnim količinama patogenih uzročnika koji nisu u stanju da izazovu nikakve kliničke manifestacije bolesti ("latentno prokuživanje"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Pririodni aktivni imunitet može bi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oživotan imunite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posle preležane bolesti može da se stvori trajan,doživotan imunitet: male boginje, velike boginje, žuta groz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olid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d kojih se stvara dugotrajan imunitet koji nije doživotan, odnosno, postoji mogućnost ponovnog obolevanja (trbušni tifus, pegavac, pertusis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ratkotraj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je ostavljaju kratkotrajan imunitet i od kojih može da se oboli više puta u životu (kole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ratkotrajan, tip specifičan imunite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postoji kratkotrajan imunitet samo prema određenom tipu uzročnika (gri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posle kojih se uopšt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e stva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imunitet: sifilis, gonoreja, povratna groznica, malar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ko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većavaju sklonost k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bolevan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crveni vetar, streptokokne angine, her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Latentno stečen imunit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 je prirodni aktivni imun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vara se posle atipičnih formi zaraznih bolesti: poliomojelitis, šarlah, difte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vara se i posle latentnog prokuživanja: parotitis, poliomijelitis, difterij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Prirodni pas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lacentarn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ijaplacentarno) prenošenje antitela sa majke na plo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om intrauterinog razvoja ploda, antitela majke prelaze u krvotok ploda i štite plod od infekcija i posle rođen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imunitet je kratkotrajan i traje 6 meseci, a dojenjem se produža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titela sa velikom molekularnom težinom (protiv pertusisa) ne prolaze transplacentarnu barijer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Veštački imunitet: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aktivni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asivn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AKT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staje posle vakcinacije; odnosno, posle unošenja različitih antigena na koje organizam reaguje stvaranjem antitel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kcinacij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namerno unošenje prouzrokovača neke zarazne bolesti (njegovih delova ili produkata-toksina) u organizam, s ciljem da organizam sam stvori specifičnu otpornost prema tom prouzrokovač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likom sprovođenja vakcinacije ne  nastaje obolenj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č vakcina vodi poreklo od latinske reči vacca-što znači: krav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ziv potiče od Edvarda Dženera koji je uzimao sadržaj pustula kravljih boginja da bi stvorio vakcinu protiv velikih bogin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predstavlja specifičnu i efikasnu meru u sprečavanju i suzbijanju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je najefikasnija i najjeftinija mera profilakse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se vrši vakcinama (vakcinacija, vakcinoprofilaks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specifičnim imunoglobulinima (seroprofilak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-imunobiološki preparat koji unet u organizam čoveka može da izazove stvaranje specifičnih antitel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riste se i termini: antigen, profilaktik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SNOVNE KARATERISTIK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i koje luči, 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MORAJU d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budu apatogeni, odnosno atoksični za čovekov organizam, ali da pri tom zadrže antigenu moć i izazovu stvaranje specifičen otpor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, ne sme ni pod kakvim uslovima da povrati svoju patogenost, odnosno, toksičnos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 antigenom sastavu vakcina mora da bude što približnija antigenom sastavu odgovarajućeg uzročnika ili toks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istovremenog davanja više injekcionih vakcina, vakcine se daju u različite ekstremit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različite mrtve ili jedne mrtve i jedne žive vakci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su potrebn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k između davanja različitih živih virusnih vakcina, ukoliko se ne daju istovremeno, mora biti najmanje četiri nedelje, osim oralne polio vakcine koja može da se da u bilo kom razmaku ili istovremeno sa drugim živim vakcin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doze iste vakci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 smeju biti kraći od preporučeni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nih intervala između do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mrtvih vakcina i imunoglobulin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su potrebn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rste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u svom sastavu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aju izazivač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naziv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puskularnim vakcinam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one mogu biti dvojak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rt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zročnike bolesti (mrtve vakc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bakterijske (protiv trbušnog tifusa, pertusisa, kole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virusne (protiv gripa, poliomijelitisa-Salkova vakc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atenuisane-oslabljene) žive uzročnike bolesti-ž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akterijsk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virusne (OP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6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mogu da budu pripremljene samo od delova uzročnika bolesti, antigena ili grupe antigen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akterijske vakcine–protiv pneumokoka i meningokoka za čije dobijanje se koristi visokoprečošćeni korpuskularni polisaharidni antigeni (polisaharidne vakcin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irusne vakcine-protiv gripa i hepatitisa B koje sadrže samo antige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e na bazi anatoksina (toksoida)-sadrže samo produkte lučenja bakterija: difterični i tetanusni anatoksin ili toksoi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AINDIKACIJE ZA DAVANJE VAKC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pšte kontraidikacije za sve vakcinacije s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1. akutne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2. febrilna sta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3. anafilaksa na komponent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i zaštitu lekovima (u daljem tekstu: hemioprofilaksu) protiv određenih zaraznih bolesti upotrebljavaju se imunobiološki preparati (vakcine i specifični imunoglobulini) i lekovi za koje je iz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ozvola za stavljanje u promet od stra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cije za lekove i medicinska sredstva Srb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ntraindikacije koje se odnose samo na primenu živih virusnih vakcin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stanja oslabljenog imuniteta (imunodeficitarna stanja usled malignih bolesti, zbog primene velikih doza kortikosteroida, ili zbog radijacij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udnoć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ada je u pitanju vakcinacija protiv tetanusa i besnila nema kontraidikacija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imes New Roman"/>
              </a:rPr>
              <a:t>Po trajanju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kontraindikacije mogu bi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vremene 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traj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"Lažne kontraindikacije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nfekcije gornjih respiratornih puteva,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stma, polenska kijavi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vulzije u porodičnoj anamne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rapija antibioticima, malim doza kortikosteroidaili lokalnih kortikoster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ronična oboljenja jetre, bubrega, pluća, s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rmatoze ili lokalne kožne infekciježutica posle rođe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bilna neurološka oboljenja (cerebralna paraliza) i Daunov sind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utica posle rođ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donesenost, mala težina u odnosu na uzrast de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ije preležane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davanja (aplikacije)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oralno (polimijelit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nazalno (gri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kut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karifikacija (velike bogin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dermalno (BCG-tuberkuloz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uboko subkutano (DPT,MM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muskularno(Hepatitis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se mogu davati jednokratno-samo u jednoj dozi (MM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išekratno (frakcionirano)- kada je za kompletnu vakcinaciju potrebno je dati 2,  3 ili više doza u određenim vremenskim razmacima (DPT-3 doze, poliomijelitis-3 doze, trbušni tifus-2 doz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Revakcin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štački aktivni imunitet koji je storen vakcinacijom, posle odreženog vremena počinje postepeno da opada,a da bi se održeo neophodno je podsticati organizam da stvar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se ranije vakcinisanoj osobi posle određenog vremena, ponovo aplikuje samo jedna doza iste vakcine tada dolazi do brzog i višestrukog povećanja zaštitnih antitela u cirkul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okratno davanje vakcine već vakcinisanoj osobi zove se revakcinacija, a doza vakcine koja se daje zove se stimulišuća doza, rapel ili buster do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može bit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 pasiv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vakcinacijom, odnosno re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zaraznih bolesti sprovodi se tokom cele god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sve dok se ne imunizuju sva lica za koja je propisana imunizacija, osim lica kod kojih su utvrđene trajne kontraindika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aktivnu imunizaciju protiv određenih zaraznih bolesti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izvedene od mrtvih ili živih, ali oslabljenih uzročnika zaraznih bolesti ili njihovih proizvoda i vakcine dobijene na bazi genetske tehn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pasivnu imunizaciju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čni imunoglobulini humanog porek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 sprovodi se po indik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an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imunizacija je imunizacija lica određenog uzrasta, kao i drugih lica određenih zakonom, koju lice koje treba da se imunizuje, kao ni roditelj, odnosno staratelj,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ož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odbije, osim u  slučaju postojanja privremene ili trajne kontraindikacije koju utvrđuje doktor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IZACIJA LIC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REĐENOG UZRASTA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tuberkuloz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ečije paral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ifter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4. Aktivna imunizacija protiv tetanu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5. Aktivna imunizacija protiv pertrusisa (velikog kašl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6. Aktivna imunizacija protiv malih boginja (morbi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7. Aktivna imunizacija protiv zaušaka  (m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8. Aktivna imunizacija protiv rubeole (crven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MUNIZACIJA LICA ODREĐENOG UZRAS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akutnog virusnog hepatitis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1. Aktivna imunizacija protiv streptokokusa pneumon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OPROFILAK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To je primena vakcina u profilaksi (prevenciji)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ispozi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sklonost organizma da oboli od ne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Imunitet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tpornost organizma prema zaraznim boles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unitet se ogleda u stvaranju antitela, koja su specifična i odgovaraju svakom uzročniku bolesti sa kojim je organizam dolazio u kontakt i koji je podstakao njegovo stvaran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11:20Z</dcterms:created>
  <dc:creator>Home</dc:creator>
  <dc:description/>
  <dc:language>en-US</dc:language>
  <cp:lastModifiedBy>Korisnik</cp:lastModifiedBy>
  <dcterms:modified xsi:type="dcterms:W3CDTF">2019-05-27T07:54:39Z</dcterms:modified>
  <cp:revision>74</cp:revision>
  <dc:subject/>
  <dc:title>Organizacija obaveznih vakcinacija lica određenog uzrasta  (sistematska vakcinacija)</dc:title>
</cp:coreProperties>
</file>