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449-8A65-4C5C-BCAF-DFE9EF03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F13-D82F-4BB2-AB90-8350C074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6A9-05C1-47C2-9E07-74E833B6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55A-0F58-48C2-9615-021AA36A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795-B74C-415D-A484-1BBA8E55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92C-DEF1-467C-8D16-B507AD9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179C-94CF-492D-ACD9-3D95510F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B32C-0B60-4494-87DA-D2910FC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C4A7-D819-4CF0-B012-8BB41553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142F-FEEA-4993-B5B0-8EEC3F8B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3A13-F0A2-4AE8-9030-78BE204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466-2A2F-40EE-831F-AB4F37BB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668C-6EF3-4134-B24C-5B9572A3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150B-219D-4F0D-912F-1518B3B0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AB7B-0325-4B95-8B49-83DDEABD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7112-C178-4562-941A-634EDB3C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0B7F-12C7-45AD-9744-38D93D58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DB5-45FC-497B-BBB2-48B95E85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586-B759-4FB8-825E-E53F3232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704-5B86-4B52-8967-DFC756A5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7FD-7C19-4F9B-947B-ED5FC3E5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7E4-F133-41ED-854D-B1D69D7B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326-68C2-4B8D-A3FD-F0D8047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576-7AC0-4BFF-8D8F-521D7D3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FA2A-6D89-4104-8578-6A5F5D0B14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855E-92EB-4919-A266-8A18E4D460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ecff"/>
                </a:solidFill>
                <a:latin typeface="Times New Roman"/>
              </a:rPr>
              <a:t>PRIMENA EPIDEMIOLOŠKE STATISTIKE U ISTRAŽIVANJU EPIDEMI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ema kriterijumima Svetske zdravstvene organizacije (SZO) za kategorizaciju, stopa smrtnosti odojčadi utvrđuje 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vrlo viso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– 30 i više umrli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viso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25-29 na 1000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srednj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20-24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nis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18-19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vrlo niska smrtnost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ispod 18 odojčadi na 1000 živorođene de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etalitet-Lt-(smrtnost) je broj umrlih na 100 obolelih od iste (te) zarazne bole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zračunava se po sledećoj formul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t=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-broj umrli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-broj oboleli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-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Srednje vredn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ma načinu određivanja dele se na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sečne vrednosti-aritmetička sredina (prosek), geometrijska sred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 položaju u statističkom nizu-medijana, m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Aritmetička sredi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ili prosek je srednja vrednost koja se izračunava kada se zbir vrednosti svih članova jednog niza podeli brojem članova tog niz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X=x1+x2+x3+x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x1, x2, x3...xn-vrednosti članova u ni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-ukupan broj članova u ni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dijana (centralna ili središna vrednost) je broj koji pokazuje centralnu vrednost u seriji podataka poređanih po veličin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računava se po sledećem obrasc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= 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-medija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-broj članova u niz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pidemiološka statistika predstavlja sastavni deo epidemiološkog r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tistička metoda jedna je od metoda epidemiološkog metoda r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tistička obra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ikupljanje podataka (iz prijava obolenja/smrti, iz protokola, iz DM2 obrazaca-zvanična potvrda smr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ređivanje podataka prema: polu, uzrastu obolelih, zanimanju, mestu stanovanja, prema vrsti zaraznih bolesti.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naliza i ocena dobijenih podat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Apsolutni brojev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pokazuju samo koliko se puta javila neka bolest u određenom vremenskom periodu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 epidemiološkoj praksi koriste se </a:t>
            </a: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relativni brojevi.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ajčešće se koriste: morbiditet (obolevanje), mortalitet (umiranje), mortalitet odojčadi (smrtnost odojčadi), letalitet (smrtnost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rednje vrednosti koje se najčešće koriste: aritmetička sredina (prosek), medijana (centralna vrednost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orbiditet (Mb) je broj obolelih u odnosu na određeni broj stanovnika. Izračunava se po formul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b=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-označava broj oboleli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-broj stanovn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-konstanta (1000, 10 000, 100 0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šti morbiditet-obolevanje od svih zaraznih bolesti, tj. označava učestalost obolevanja od svih zaraznih bolest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pecifični morbiditet–obolevanje od određene grupe zaraznih bolesti, ili od određene zarazne bolesti, obolevanje po uzrastu, polu, zanimanju, mestu stanovanja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686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ncidencija (I) predstavlja odnos broja novoobolelih osoba i određenog broja stanovnika, tokom određenog vremenskog perio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zračunava se prema  sledećem obrasc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roj novoobolelih osoba u određenom period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x K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Broj stanovnika posmatranog područ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*100 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revalencija označava prisustvo određenog patološkog stanja (bolesti) u grupi stanovnik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To je snimak postojeće situacije na određenoj teritoriji i ne izražava rizik obolevanja, jer je njena veličina uslovljena dužinom trajanja boles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ortalitet-Mt-(umiranje) je broj umrlih u odnosu na određeni broj stanovnika jednog područja. Izračunava se po sledećoj formul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t=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-broj umrli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-broj stanovn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-konstanta (100, 10 000, 100 000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ortalitet može biti opšti i specifič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Opšti mortalite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je broj umrlih od svih bole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66"/>
                </a:solidFill>
                <a:latin typeface="Times New Roman"/>
              </a:rPr>
              <a:t>Specifični mortalite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je broj umrlih od određene grupe bolesti, ili od određene bole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Mortalitet odojčad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smrtnost odojčadi) predstavlja specifični mortalitet prema uzrast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o=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x 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Ž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Uo-ukupan broj umrle odojčad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Žr-ukupan broj živorođene odojčadi u istom perio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-konstanta (10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45:10Z</dcterms:created>
  <dc:creator>Intel</dc:creator>
  <dc:description/>
  <dc:language>en-US</dc:language>
  <cp:lastModifiedBy>Intel</cp:lastModifiedBy>
  <dcterms:modified xsi:type="dcterms:W3CDTF">2009-10-19T10:35:07Z</dcterms:modified>
  <cp:revision>3</cp:revision>
  <dc:subject/>
  <dc:title>OSNOVI EPIDEMIOLOŠKE STATISTI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