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414-8EAF-4A32-A1A4-D12411A5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759-35DF-4B16-8EDE-5D56EAD5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5FB-94E3-41FC-A00C-464463BF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BE9-D8FC-42C5-A937-49DA7177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90F7-EAAB-42A6-9085-9C80B2DD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7B37-CD56-4710-9153-DFC040AB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188E-52ED-4C86-9BEA-618ECCA8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7DD6-81EB-4A1E-AD05-CBD661CF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B0EE-C4EF-48A1-8C5B-EABA25DC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C06F-2F8F-459E-BEAF-01EFBA8A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B1C5-F841-4343-B1A0-C517CCC4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8DD-3D3D-4DA0-A1F0-B89DA083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8984-67EC-42E0-8EDD-FD109A7C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D344-CBBE-4210-A6C1-FE57AB47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0D33-2EF2-4851-826E-111190F1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447B-472D-4A12-9C87-7F6F2045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E0DF-FB76-4ABB-BB87-3B2335FB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E4D-E0C4-405C-B2AE-E20D6E94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1CF-8FAF-4382-B4F4-EB9A50C7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1BD-63C9-4D75-BDE7-0E7DEA7E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286-E2F8-4B9A-B208-61C47685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465-FA35-47DA-A939-E2C3391E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6A7-19DD-436E-918D-F3A6F6B5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70C-BA71-49DE-99DD-878BE88B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6EEC-4055-41D9-A848-2530A837F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9B1D-9A42-4608-B53F-CAE6BC4385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SEROPROFILAKSA</a:t>
            </a:r>
            <a:br>
              <a:rPr sz="4000"/>
            </a:b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(Zaštita specifičnim imunoglobulinima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1484280"/>
            <a:ext cx="8007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bog toga, davanje novih količina heterolognog seruma u cilju produženja zaštite nema svrhe, jer se pri tome stvara povećana opasnost od anafilaktičkih pojava, a heterologna antitela će biti brže razgrađen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i eventualnoj ponovnoj aplikaciji seruma, vreme zaštite se smanjuje, pa u pojedinim slučajevima može trajati samo nekoliko d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</a:rPr>
              <a:t>Humani serum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rumi humanog porekla – imunoglobulini (kompletni serumi se danas više ne koriste) dobijaju se iz plazme i seruma odraslih osoba-dobrovoljih davaoca krvi, rekonvalescenata, kao i iz placentarne krv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z ovih uzoraka izdvajaju s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noglobulini nosioci zaštitnih antitel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koliko preparat sadrži imunoglobuline – antitela protiv više zaraznih bolesti naziva se standardnim ili opštim imunoglobulin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perimuni specifični imunoglobulin sadrži imunoglobuline – antitela prema određenoj bolesti u visokoj koncentraciji (tetanus, besnilo, hepatitis viroza B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vi preparati se dobijaju iz krvi vakcinisanih lic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Karakteristike p</a:t>
            </a:r>
            <a:r>
              <a:rPr b="1" lang="sr-Latn-CS" sz="3600" spc="-1" strike="noStrike">
                <a:solidFill>
                  <a:srgbClr val="ffffb7"/>
                </a:solidFill>
                <a:latin typeface="Times New Roman"/>
              </a:rPr>
              <a:t>asivn</a:t>
            </a: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og</a:t>
            </a:r>
            <a:r>
              <a:rPr b="1" lang="sr-Latn-CS" sz="3600" spc="-1" strike="noStrike">
                <a:solidFill>
                  <a:srgbClr val="ffffb7"/>
                </a:solidFill>
                <a:latin typeface="Times New Roman"/>
              </a:rPr>
              <a:t> veštačk</a:t>
            </a: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og</a:t>
            </a:r>
            <a:r>
              <a:rPr b="1" lang="sr-Latn-CS" sz="3600" spc="-1" strike="noStrike">
                <a:solidFill>
                  <a:srgbClr val="ffffb7"/>
                </a:solidFill>
                <a:latin typeface="Times New Roman"/>
              </a:rPr>
              <a:t> imunitet</a:t>
            </a: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sivna zaštita koja se postiže serumima ili imunoglobulinima nastupa brzo, ali je kratkotrajn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matra se da se animalnim serumima postiže zaštita koja traj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-3 nedel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umani preparati daju nešto dužu zaštitu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4-6 nedelja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akon o zaštiti stanovništva od zaraznih bolesti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oje ugrožavaju celu zemlju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z 201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pisuje obeveznu zaštitu specifičnim imunoglobulinom u profilaksi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tanusa, besnila i hepatitisa B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Vrste seru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logi hiperimuni seru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logi imunoglobul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logi hiperimuni globul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oklonska antit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Hetrologni hiperimuni serumi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u serumi koji sadrže frakciju krvi koja sadrži antitela protiv jednog uzročnika ili toks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gu bit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bakterij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virus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toksični (besnilo, tetanus, botulizam, zmijski uj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Homologi imunoglobulin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inske frakcije seruma koje se dobijaju mešanjem frakcija antitela klase IgG velikog broja dono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drže antitela protiv svih bolsti koje su prebolela ta lica ili su imunizov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vu se standardni ili opšti seru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bili, HAV, Rube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ziranje: 0,2-0,4mg na kg telesne m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Homologi hiperimuni serumi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drže visoke titrove specifičnih antitela protiv određenog agensa ili njegovog toksina (tetanus, besnilo, HVB, variče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ijaju se iz plazme rekonvalescenata ili vakcinisanih osob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zoraju se u IJ na kg telesne m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TETABULI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um ptotiv tetan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lučaju tetanogene povrede, pojave prvih simptoma daje se u terapijske svrhe kako bi se sprečila dalja intoksikacija organiz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je od povrede prošlo više od 24 časa propisana doza se udvostruča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avilnik o imunizaciji i načinu zaštite lekovim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iz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1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godine obavezuj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 se za pasivnu imunizaciju upotrebljavaju imunoglobulini humanog porekla (imunoglobulini, hiperimuni gamaglobulini  I monoklonska antitela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Antirabični serum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se ne da odmah sa prvom dozom vakcine, indikovano je davanje do 7. dana jer već od 7. dana počinje sinteza antitela u organizmu čove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Hepatitis </a:t>
            </a:r>
            <a:r>
              <a:rPr b="1" lang="en-U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virosa </a:t>
            </a: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je se unuta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/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 časa zajedno sa vakcin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obe koje su imale seksualni kontakt sa osobom koja je zaražena virusom HB, treba da prime serum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jkasnije 14 dana od poslednjeg seksualnog odnosa sa tom osob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Serum za zaštitu od variče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enje se može sprečiti ako se unutar 96 sati od kontak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 ser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ekspoziociona zaštita novorođenčadi ili imunodeficijentne dece čije su majke obolele od variče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um se daje 5 dana pre i 2 dana po rođenj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Monoklonska antite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onovi B limfocita koji produkuju samo jednu vrstu antit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obiološki preparati sa apsolutnom standardizacijom i specifičnošć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a u terapiji i prevenciji infekcija respiratornim sincicijalnim virus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budućnosti će zameniti druge imunobiološke prepa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eroprofilaksa predstavlja primenu preparata krvi (seruma ili drugih frakcija), koji sadrže antitela stvorena u nekom drugom organizmu (čoveku ili životinji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Na ovaj način nasta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štački pasivni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imunit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vaj postupak se koristi u slučajevima kada je potrebno stvoriti brzu zaštitu ugroženih lica, ili kada nema drugih mogućnos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981000"/>
            <a:ext cx="80074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bar i Wiliams su 1953. godine imunoelektroforezom gamaglobulinsku frakciju razdvojili na 3 dela: IgG, IgM i IgA klasu imunoglobulin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s je poznato ukupno 5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klasa (IgE i IgD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 3 klase je dokazano da imaju svojstva zaštitnih antitela (IgG, IgM i IgA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ziv “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munoglobul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risti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 imunobiološke preparate koji sadrže one proteine krvi koji predstavljaju zaštitna antite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Veštački pasivni imunit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iže se davanjem gotovih antitela stvorenih u telu druge jedinke, čoveka ili životin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a pasivne zažtite počela je sa radovima nemačkog bakteriologa Emila Beringa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našao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toksin protiv difteri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Karakteristike imunit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tova antitela obezbeđuju brzu, efikasnu, ali kratkotrajnu zaštitu, jer se brzo razgrađuj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kovana je primena samo u hitnim slučajevi, neposredne opasnosti od infekci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Prevencija antiteli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ekspoziciona primen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da postoji rizik  da će neka osoba biti izložena infekcij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tekspozicion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imen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da je agens već ušao u organiz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Postekspoziciona zašti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ivna imunizacija, davanje samo seruma, bez davanja vakcin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menjuje 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lučaju da visok titar gotovih antitela ometa sintezu sopstvenih antit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vim slučajevima kada vakcina ne postoji, ili je kontraindikovano davanj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raksi se najčešće primenju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tiv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-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iv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unizacij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avanje vakcine i seru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rumi animalnog porekla (heterologni) dobijaju se imunizovanjem životinja (najčešće konja) iz čijeg seruma se spravljaju preparati za primenu u humanoj medicin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Život heterolognih antitela je kraći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(2-4 nedelja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d homolognih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(4-6 nedelja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z razloga što se 8 do 10 dana po ubrizgavanju stvaraju antitela na strane belančevine, što dovodi do brzog razgrađivanja unetih heterolognih antitel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b7"/>
                </a:solidFill>
                <a:latin typeface="Times New Roman"/>
              </a:rPr>
              <a:t>Animalni serum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1:31:58Z</dcterms:created>
  <dc:creator>Intel</dc:creator>
  <dc:description/>
  <dc:language>en-US</dc:language>
  <cp:lastModifiedBy>Korisnik</cp:lastModifiedBy>
  <dcterms:modified xsi:type="dcterms:W3CDTF">2018-11-22T12:23:59Z</dcterms:modified>
  <cp:revision>25</cp:revision>
  <dc:subject/>
  <dc:title>SEROPROFILAKSA (Zaštita specifičnim imunoglobulinim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