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7E9-2454-40A1-923E-B6CC855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F0-785A-4721-BCCC-6BF2685E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D9D-5659-470B-8C69-9792A49A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E6-8C8A-4B0F-9CD3-A49F1CD0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D0A1-6581-43B4-BD7D-C7E6D643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00C48-A4C2-4E6C-8583-6A14185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3E98-C3C5-4E36-80A8-B5EC3BD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C4AF-D01A-4720-9D54-41C4827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E3F3-D1EA-4D62-830B-0638A61C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770EA-B234-4B61-891D-8CC68FD6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B4908-4A67-4B38-BC25-9B42ABE2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7E6-4B83-4A02-B628-B9C4494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0EE02-55BD-43A2-AAD1-5546027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A18D5-87C7-4036-BF47-5900CDD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5FD65-B66D-4987-85A5-27E1BCD4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EEC6-38CE-4E66-99EB-07BAC5DF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57B5-8993-4A96-8A9E-9B3783C3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FF4-AB4C-4627-816E-5D241A6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3E3-D128-4DE1-A022-32AE8CB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25B-4958-4193-A77D-A40AA4E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5FD-E280-4DA6-8A4A-6212B49A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60C-1645-4479-8F66-08350CE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BFD-5E59-4959-A6F0-7BEDA69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232-4D23-4325-9741-AEA60A2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208F-B405-4368-9E52-A1A2A1D9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7B6-D62A-4886-AD6C-773BD8CB4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ezna imunizacija lica eksponiranih određenim zaraznim bolesti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više od deset 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bijaj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u dozu TT vakcine i 250I.J. HTI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dmah po povređivanju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a koja nisu vakcinisana, lica koja su nepotpuno vakcinisana ili nemaju dokaze o imunizaciji protiv tetanusa, dobijaju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z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TT vak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vu dozu odmah, drugu dozu u razmaku ne kraćem od mesec dana, treću dozu šest meseci nakon druge doze, a revakcinacija se vrši četvrtom dozom, godinu dana nakon treće doz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(0,1,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 lica dobijaju i HTIG sa prvom dozom vakcine, odmah po povređiva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Akutni virusni hepatiti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Besn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protiv akutnog virusnog hepatitisa B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ma epidemiološkim indikacija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olelih od hemofilij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lesnika na dijaliz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h partnera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ka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h narkoma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lin zavisnih bolesnika od šećer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orođenčadi HbsAg pozitivnih maj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ktivna i pasivna imunizacija lica koja su imala akcident sa infektivnim materijalo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tivna imunizacija lica koja su imala akcident sa infektivnim materijalom sprovodi se s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četiri doze vakcin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šem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 1, 2. i 12. mese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akcinisana i nepotpuno vakcinisana lica koja su imala akcident sa infektivnim materijalom (krv ili serum)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avezno dobijaju i intramuskularno hepatitis B imunoglobulin (HBIG) u količini koju preporučuje proizvođač, odmah po akcidentu, a najkasnije do 12 sati od momenta akcid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ktivna i pasivna zaštita novorođenčadi HbsAg pozitivnih maj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rođenčad HbsAg pozitivnih majki obavezno se vakcinišu sa 4 doze vakcine po šemi 0,1,2,12 i intramuskularnim davanjem hepatitis B imunoglobulina (HBIG) odnosno rođenju, a najkasnije do 12 sati od rođ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munizacija pacijenata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pre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očetka dijal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acijenata pre stupanja na dijalizu sprovodi se sa četiri doze po šemi 0, 1, 2. i 6. mesec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vanjem dvostruke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u slučajevima imunodefinicije i kod bolesnika na dijalizi, jednom dozom HB vakcine, pet godina posle potpu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 pasivna imunizacij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iv besni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besnila sprovodi se savremenim inaktivisanim vakcinama protiv besnila za humanu upotrebu, proizvedenim na kulturi ćelija koje preporučuje SZO, sa potencijom od najmanje 2.5 I.J. po pojedinačnoj do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ivna imunizacija protiv besnila sprovodi se primenom humanog antirabičkog imunoglobul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ktivna i pasivna imunizacija protiv tetanusa kod povređe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tetanusa kod povređenih lica sprovodi se vakcinisanjem adsorbovanom TT vakcinom i humanim antitetanusnim imunoglobulinom (HTIG) na sledeći nač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manje od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eset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 dobijaju ni vakcinu ni HTI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2:04Z</dcterms:created>
  <dc:creator>Intel</dc:creator>
  <dc:description/>
  <dc:language>en-US</dc:language>
  <cp:lastModifiedBy>Korisnik</cp:lastModifiedBy>
  <dcterms:modified xsi:type="dcterms:W3CDTF">2019-05-27T08:04:03Z</dcterms:modified>
  <cp:revision>19</cp:revision>
  <dc:subject/>
  <dc:title>Obavezna imunizacija lica eksponiranih određenim zaraznim bolestim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