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19AA-0691-4562-AA49-43D67E8D5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B429-0478-40E5-80F4-5B2293D7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9D6A-4384-4722-A4E5-F8760543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65C2-304A-487B-BD46-F1878B501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5D3A-852D-42ED-87FF-ACEA6318F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ADCB-09E8-4978-9361-61181143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897C-CDA8-44E0-9BAB-B0EF4FD1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B7CE-1904-42D5-8571-479BF54B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D9E2-221D-4C39-8E4C-889F85B6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19D2-1891-4D80-B83E-D4975928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2234-C6FB-4432-BD7E-68765DBF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F5FF-CF85-495E-B713-34D2E721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2BDA-E880-4296-B981-3781AA48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6310-AD91-435D-A154-A5A10273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67F3-3E8A-48B8-94A1-7F398375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4151-24F2-4355-A6E9-8110C799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A709-C7A7-4046-8E65-97DAD2A87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B625-0C9F-44E3-8590-6A72F7CC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D08D-5C7F-4EC7-9857-DB0384A7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CB86-F515-43A0-8D87-FB50D8C7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378A-DAED-4C8B-A0E2-4DFF90D9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C63E-3AC3-41A9-A9E0-5A93187B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872E-9E8D-47EE-AB9F-62137C36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F691-528C-4467-868F-9ABA7DB1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BE7F-9F33-44CD-AED7-5CA700A34F7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6BC8-0E62-4510-807B-F0C027B9869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Arial"/>
              </a:rPr>
              <a:t>VIRUSNE HEMORAGIČNE GROZN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27160"/>
            <a:ext cx="64008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of. dr Branislav Petrovi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Arial"/>
              </a:rPr>
              <a:t>Suzbijanj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ijavljiv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Hospitalizacija i leče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evo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DD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pidemiološko ispitiv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Laboratorijska dijagnost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Karantin (14 dan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Arial"/>
              </a:rPr>
              <a:t>Definicij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Virusne hemoragične groznice pretežno su prirodno-žarišne zarazne bolesti, kojima je zajednička kakrakteristika pojava hemoragičnog sindroma u akutnoj fazi oboljenj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Arial"/>
              </a:rPr>
              <a:t>Etiologij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Uzročnici su virusi, a najčešće iz grupe ARBO virusa, a mnogi još uvek nisu poznat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enaviridae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Lasa, Argentinska, Bolivijska i Venecuelanska H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nyaviridae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Hantanvirus – HG sa bubrežnim sindromom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Nairovisrus – Krimsko-Kongo H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Phlebovirus: Rift Valley H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iloviridae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Ebola virus – Ebola H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Marburg virus – Marburška H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laviviridae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Virus denge – Deng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Virus žute groznice – Žuta grozn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Virus omske HG – Omska H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Kjasanur virus –Kjasanur šumska H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Arial"/>
              </a:rPr>
              <a:t>Izvor zaraz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Razne divlje životinje, pre svega gloda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Čovek (Lasa, Ebola, Marburšk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Uzročnici bolesti nalaze se u krvi, mokraći, pljuvačci, spermi i drugim telesnim tečnosti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Arial"/>
              </a:rPr>
              <a:t>Putevi prenošenj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Vektori (komarci i krpelji; žuti groznicu prenosi komarac Aedes Aegip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Kontakti sa životinjama i njihovim sekretima i ekskretima (HGB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Kontakt sa bolesnicima i njihovim telesnim tečnostima (Ebola, Lassa,Marburška bole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Ulazna vrata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: koža i sluzokoža</a:t>
            </a:r>
            <a:br>
              <a:rPr sz="2800"/>
            </a:br>
            <a:br>
              <a:rPr sz="2800"/>
            </a:b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Osetljivost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: opšta</a:t>
            </a:r>
            <a:br>
              <a:rPr sz="2800"/>
            </a:br>
            <a:br>
              <a:rPr sz="2800"/>
            </a:b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Otpornost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: Kod nekih bolesti iz ove grupe postoji imunitet koji nije dovoljno poznat; žuta groznica daje doživotan imunitet.</a:t>
            </a:r>
            <a:br>
              <a:rPr sz="2800"/>
            </a:br>
            <a:br>
              <a:rPr sz="2800"/>
            </a:b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Inkubacija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: od 3-14, a po nekad i do 25 dana</a:t>
            </a:r>
            <a:br>
              <a:rPr sz="2800"/>
            </a:br>
            <a:br>
              <a:rPr sz="2800"/>
            </a:b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Dijagnoza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: izolacija virusa i serološke reakcije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Arial"/>
              </a:rPr>
              <a:t>Klinička slik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Visoka tempera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Glavobol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Povrać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Makulo-papuloz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petehije po koži i sluzokož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Različita učestalost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lokalizacija i stepen hemoragi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Oštećenja drugih organa: srca, CNSa, bubrega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krvarenja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3810240" cy="2624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Arial"/>
              </a:rPr>
              <a:t>Rašireno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5715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Javljaju se svuda u svetu u većem ili manjem broju, endemski ili epidemijsk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U Srbiji (VHGBS): KiM, Fruška go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Denga" descr=""/>
          <p:cNvPicPr/>
          <p:nvPr/>
        </p:nvPicPr>
        <p:blipFill>
          <a:blip r:embed="rId2"/>
          <a:stretch/>
        </p:blipFill>
        <p:spPr>
          <a:xfrm>
            <a:off x="228600" y="377208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99" name="lasa" descr=""/>
          <p:cNvPicPr/>
          <p:nvPr/>
        </p:nvPicPr>
        <p:blipFill>
          <a:blip r:embed="rId3"/>
          <a:stretch/>
        </p:blipFill>
        <p:spPr>
          <a:xfrm>
            <a:off x="3505320" y="3581280"/>
            <a:ext cx="2222280" cy="25527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191120" y="6019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Las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yellow_fever" descr=""/>
          <p:cNvPicPr/>
          <p:nvPr/>
        </p:nvPicPr>
        <p:blipFill>
          <a:blip r:embed="rId4"/>
          <a:stretch/>
        </p:blipFill>
        <p:spPr>
          <a:xfrm>
            <a:off x="6019920" y="3962520"/>
            <a:ext cx="2962080" cy="2425680"/>
          </a:xfrm>
          <a:prstGeom prst="rect">
            <a:avLst/>
          </a:prstGeom>
          <a:ln w="0">
            <a:noFill/>
          </a:ln>
        </p:spPr>
      </p:pic>
      <p:pic>
        <p:nvPicPr>
          <p:cNvPr id="102" name="ebola%2023" descr=""/>
          <p:cNvPicPr/>
          <p:nvPr/>
        </p:nvPicPr>
        <p:blipFill>
          <a:blip r:embed="rId5"/>
          <a:stretch/>
        </p:blipFill>
        <p:spPr>
          <a:xfrm>
            <a:off x="6019920" y="228600"/>
            <a:ext cx="2817720" cy="3124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934320" y="2971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cc"/>
                </a:solidFill>
                <a:latin typeface="Arial"/>
              </a:rPr>
              <a:t>Eb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Arial"/>
              </a:rPr>
              <a:t>Profilaks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Vakcinacija (Žuta groznica, Krimska i Rift Valley H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Nespecifične me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Sprečavanje kontakta sa divljim životinjama (glodarima) i insekti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Uništavanje insekata i glod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Sprečavanje kontakta namirnicai vode sa sekretima i ekskretima glod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Higijenska dispozicija otpadnih mater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Upotreba ličnih zaštitnih sredsta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08:22:41Z</dcterms:created>
  <dc:creator>IZJZ</dc:creator>
  <dc:description/>
  <dc:language>en-US</dc:language>
  <cp:lastModifiedBy>IZJZ</cp:lastModifiedBy>
  <dcterms:modified xsi:type="dcterms:W3CDTF">2009-01-12T07:19:30Z</dcterms:modified>
  <cp:revision>3</cp:revision>
  <dc:subject/>
  <dc:title>VIRUSNE HEMORAGIČNE GROZN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