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023-A308-4D96-9B56-EF65F39B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988-A28D-4D7C-89B6-6C8DAF71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408-2CE7-4E2B-BD3A-9431FA02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6E2-8A95-45B6-BAA2-BE720495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864B4-76E6-466D-8A9A-BDF3B83B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4B967-F62B-4B51-88B4-A8161066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E2DBA-6399-4919-BD49-8EFB9050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FC739-19E5-40A1-BAC7-DBF6ACEC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1F2C5-E701-409C-A131-E65B3C20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5DA7E-BCE6-4B92-8666-178AAB89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523A1-161C-438B-9373-AB5044DF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073-B823-496A-893B-ED906464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7082F-B0A7-4A31-8E0E-07425FFA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BE1BD-7639-40D7-A8A8-1BCDA4AC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45B2C-B6FF-4E23-AFEC-5859D46A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23F8A-B411-4983-ACEF-08B57FF2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CB7AF-754E-4BD8-9F2E-5C7A8A9F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22D-89D0-4E8A-AE25-B2A21ADF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DE4-D443-4BA6-96B6-BF227CF8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0DC-1F69-4337-BE77-A7F56771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3A3-34BA-4486-9D77-D0AFE560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28C-9CF7-4158-9B18-0CE15262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CCD-B2C1-4CC6-A48F-836B471B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E96-3E22-4764-A669-02F8F945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F322-D5BE-4CDF-A5CA-1CC5D4FD3DB2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F276-F9C5-4116-AAD1-2012C98CB246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BIOLO</a:t>
            </a:r>
            <a:r>
              <a:rPr b="1" lang="sr-Latn-CS" sz="4800" spc="-1" strike="noStrike">
                <a:solidFill>
                  <a:srgbClr val="ffcc00"/>
                </a:solidFill>
                <a:latin typeface="Times New Roman"/>
              </a:rPr>
              <a:t>ŠKO ORUŽJ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Prof. dr Zoran Veličkovi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Kategorija C  već poznati i novoiskrsli agensi koji se u perspektivi mogu upotrebiti: 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zbog dostupnosti,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jednostavne proizvodnje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lake diseminacije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izazivanja visokog morbiditeta i letaliteta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roblema u radu zdav.službe zbog toga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hantavirus, v.uročnik krpeljskog encefalitisa i krpeljskih hem.groznica, v.žute groznice i mltirezistentam Mycobacterium tiberculosi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jihova detekcija, identifikacija i izolacija se vrši u laboratorijama koje su, takođe, svrstane u različite kategorije (A, B, C i D) u zavisnosti od nivoa opremljenosti i uslova bezbednosti (nivoi zaštite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, 2, 3 i 4) za rad sa materijalom i uzročnicima različitog stepena kontagioznosti.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 svih pomenutih agenasa najčešće su kao biološko oružje ispitivani i ili upotrebljavani uzročnici antraksa, kuge, velikih boginja i tularemije.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a sada najbolje “performanse” imaju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B.anthraci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 virus vario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čin primene biološkog oružja</a:t>
            </a:r>
            <a:br>
              <a:rPr sz="4000"/>
            </a:br>
            <a:br>
              <a:rPr sz="18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menjuje se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bično prikriveno i podmuklo, jer je nevidljivo, bez boje, mirisa i ukusa, pa se ne može otkriti čulima, a teško ga je otkriti i instrumentima.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no ima sposobnost da ugrozi stanovništvo, životinje i useve na mnogo većem prostranstvu od ostalog oružja pa se i naziva “oružjem prostornog dejstva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čin primene biološkog oružja</a:t>
            </a:r>
            <a:br>
              <a:rPr sz="4000"/>
            </a:br>
            <a:br>
              <a:rPr sz="40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ema nekim podacima nuklearno oružje deluje do 300 km</a:t>
            </a:r>
            <a:r>
              <a:rPr b="0" lang="sr-Latn-C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, hemijsko do 60 km</a:t>
            </a:r>
            <a:r>
              <a:rPr b="0" lang="sr-Latn-C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, a biološko može zahvatiti tertoriju do 100 000 km</a:t>
            </a:r>
            <a:r>
              <a:rPr b="0" lang="sr-Latn-C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čin primene biološkog oružja</a:t>
            </a:r>
            <a:br>
              <a:rPr sz="3600"/>
            </a:br>
            <a:br>
              <a:rPr sz="36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ako pokazuju neki teorijski proračuni, pri noćnoj primeni biološkog aerosola od 5 l na     5 km, sa koncentracijom mikroba 10</a:t>
            </a:r>
            <a:r>
              <a:rPr b="0" lang="sr-Latn-CS" sz="32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ml, pod određenim meteorološkim uslovima moguće je stvoriti aerosolni oblak dugačak 50 km, koji bi se širio brzinom od 20 km/čas i ugrozio površinu od oko 6000 km</a:t>
            </a:r>
            <a:r>
              <a:rPr b="0" lang="sr-Latn-C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čin primene biološkog oružja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utem aerosola se može zaraziti najveći broj ljudi (životinja, biljaka). Mogu se koristiti avioni (avio-sprej), rasprskavajuće bombe i rakete raznog dometa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oda, naročito kad su u pitanju vodovodni sistemi velikih gradova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rana ima ograničeni broj korisn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i mogućnost diseminacije preko bioloških vektora (buva, vaški, komaraca, krpelja), ali je ovaj način najmanje pogodan zbog nepouzdane efektivnosti i nemogućnosti kontrole efekta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jnoviji “izum” distribucije agenasa je putem poštanskih pošiljki (pisam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81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Mogućnost daljeg razvoja biološkog oružja</a:t>
            </a:r>
            <a:br>
              <a:rPr sz="36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zvoj molekularne biologije i genetike uvođenjem novih metoda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NK hibridizacija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CR reakcij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genetičko inžinjerstvo, sekvencionisanje gena i tehnika i tehnike fuzije gena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 sredstva se mogu upotrebiti i za proizvodnju još efikasnijeg i ubojitijeg oruž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Genetskim manipulacijama može se na primer: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uspostaviti rezinstencija na antibiotike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većati virulencija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većati otpornost u spoljnoj sredini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otežati identifikacija mikroorganizama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romeniti njihov antigenski sastav, usled čega vakcine postaju neefikas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anas se predviđa razvoj “genetičkog oružja” koja deluju na genom višećelijskih organizama. Kada bi se na populaciju pojedinih rasa ili etničkih grupa delovalo koristeći koristeći njihove genetske specifičnosti, npr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jnim ubacivanjem u specifične delove genoma “pritajenog” (stelt) virusa koji se u određenom trenutku može aktivirati odgovarajućim impulsom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915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iološko oružje</a:t>
            </a:r>
            <a:br>
              <a:rPr sz="3600"/>
            </a:br>
            <a:br>
              <a:rPr sz="36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buhvata mikrobe i druge biološke agense ili toksine, bez obzira na njihovo poreklo ili način dobijanja, čije posedovanje nije namenjeno za profilaktičku, protektivnu ili neku drugu miroljubivu svrhu, kao i oružje, oprema i druga sredstva i način diseminacije ovih agenasa radi neprijateljskih namera ili tokom ratnih sukoba.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      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onvencija o biološkom oružju- UN 1978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Govori se i o mogućoj  zloupotrebi “bioregulatora”, tj. supstancija koje se prirodno nalaze u živim organizmima, ali koje mogu drastično remetiti neke životne funkcije (svest, ponašanje, plodnost, regulisanje telesne temprerature) ukoliko dođe do minimalnih promena njihovih koncentracij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Zaštita od delovanja biološkog oružja</a:t>
            </a:r>
            <a:br>
              <a:rPr sz="4000"/>
            </a:b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Mere zaštite su mnogobrojne i nisu sve iz domena medicine. Za razliku od ostalog oružja, mogućnost ranog otkrivanja napada biološkim oružjem teoretski postoji, ali je praktično neizvodljivo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81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Zaštita od delovanja biološkog oružja</a:t>
            </a:r>
            <a:br>
              <a:rPr sz="4000"/>
            </a:b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Nemogućnost blagovrenog otkrivanja biološkog napada uslovljava aktiviranje protivbiološke zaštite tek posle pojave posledica, što se u praksi svodi na izolaciju i zbrinjavanje obolelih, kao i sprečavanje širenja oboljenj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Zaštita od delovanja biološkog oružja</a:t>
            </a:r>
            <a:br>
              <a:rPr sz="36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drazumeva primenu mera koje se koriste u prevenciji suzbijanju zaraznih bolesti. Svakako da u prevenciji ulogu imaju i bezbednosno-obaveštajne službe koje prikupljaju podatke o namerama neprijatelja, mogućoj lokaciji i vremenu upotrebe biološkog agensa. No u praksi se u tome retko uspeva. Zato mere koje se sprovode su postekspozici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Najvažnije od tih mera su:</a:t>
            </a:r>
            <a:br>
              <a:rPr sz="4000"/>
            </a:b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- prepoznavanje biološkog napada,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- detekcija i identifikacija bioloških agenasa,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- zbrinjavanje eksponiranih,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- biološka dekontaminacij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ema NATO definicijama:</a:t>
            </a:r>
            <a:br>
              <a:rPr sz="3600"/>
            </a:b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- biološki agens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“mikroorganizam (ili njegov toksin) koji uzrokuje oboljenje ljudi, životinja i biljaka koji izaziva oštećenje neživih materija”;</a:t>
            </a:r>
            <a:br>
              <a:rPr sz="28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- biološki rat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“predstavlja upotrebu bioloških agenesa radi izazivanja gubitka ljudstva i stoke, kao i oštećenje biljaka i materijala”;</a:t>
            </a:r>
            <a:br>
              <a:rPr sz="28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- biološka odbran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“obuhvata metode, planove i procedure kojima se uspostavljaju i realizuju mere odbrane od biološkog napada”.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anas, pored mogućnosti da biološko oružje bude primenjeno u međudržavnim sukobima, postoji i mnogo veća opasnost da ga upotrebe razne terorističke organizacije, sekte i pojedinci. U tom smislu koristi se termin </a:t>
            </a: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bioteroriza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koji se definiše kao “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upotreba nasilja korišćenjem biološkog agenasa zbog političkih, religioznih, ekoloških ili drugih ideoloških razloga bez obzira na njihovu moralnu ili političku opravdano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Rizik od upotrebe u ove svrhe se povećava zbog:</a:t>
            </a:r>
            <a:br>
              <a:rPr sz="3600"/>
            </a:br>
            <a:br>
              <a:rPr sz="36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) postojanja velikog broja instititucionalnih i vaninstitucinalnih mikrobioloških laboratorija u čiji rad se nema uvek potpun uvid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) jednostavne proizvodnje pojedinih bioloških agenasa i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c) široke dostupnosti naučnih informacija preko stručnih publikacija i interne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Karakeristike biološkog oružja:</a:t>
            </a:r>
            <a:br>
              <a:rPr sz="3200"/>
            </a:br>
            <a:br>
              <a:rPr sz="32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ada teoretski svi patogeni mikrobi i njihovi produkti mogu da se koriste kao biološko oružje, u njihovoj selekciji za ovu namenu pažnja se poklanja sledećim pojedinostima:</a:t>
            </a:r>
            <a:br>
              <a:rPr sz="2800"/>
            </a:br>
            <a:br>
              <a:rPr sz="28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) mogućnost jednostavne proizvodnje i skladištenja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) postojanost patogenog svojstva i izazivanja odgovarajućih posledica,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c) postojanje više načina i puteva diseminacije i zaražavanja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) male infektivne doze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) visoke kontagioznosti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f) visokog letaliteta,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g) otpornosti u spoljnoj sredini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) otežane detekcije i identifikacije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) osetljivosti ciljne populacije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) mogućnosti sopstvene zašt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Vrste biološkog oružja</a:t>
            </a:r>
            <a:br>
              <a:rPr sz="3600"/>
            </a:br>
            <a:br>
              <a:rPr sz="3600"/>
            </a:b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Kategorija A agens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koji se mogu lako i efikasno diseminovati, 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moguće je interhumano prenošenje,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letalitet je visok,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izaazivaju opštu paniku,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otrebne su posebne pripreme zdrav. službe.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antraks, kuga, tularemija, botulizam, VHG – Ebola, Marburg, Lassa, Junin i dr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Kategorija B agensi:</a:t>
            </a:r>
            <a:br>
              <a:rPr sz="3600"/>
            </a:b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- koji se mogu relativno lako diseminovati, 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- izazivaju umereno visok morbiditet i nizak letalitet,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- zahtevaju pojačan epidemiološki nadzor i dijagnostičke mogućnosti.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(Q-groznica, bruceloza, sakagija, izazivači alimentarnih toksiinfekcija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9:44:06Z</dcterms:created>
  <dc:creator>zoran</dc:creator>
  <dc:description/>
  <dc:language>en-US</dc:language>
  <cp:lastModifiedBy>v zoran</cp:lastModifiedBy>
  <dcterms:modified xsi:type="dcterms:W3CDTF">2008-12-01T19:53:33Z</dcterms:modified>
  <cp:revision>89</cp:revision>
  <dc:subject/>
  <dc:title>PROFILAKSA ZARAZNIH BOLESTI</dc:title>
</cp:coreProperties>
</file>