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14A-BEF5-4AD4-930E-8564CACD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A2F-AD23-4FC6-BD1E-520B139D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7A8-CD85-4FE4-AE7B-B5AF124F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5C0-147C-4B99-A202-3D6DD65D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68B9-F64D-44AB-A233-FB4EE0C4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FD97-E99F-44A3-BADE-BF1FFDEE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EBF0-F88A-4681-AF5B-E36FB1C9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82E6-FBA9-4D02-BE9D-88660DF4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8ED8-1172-4DEB-B73D-3EEACAAA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554E-CA2C-4B2F-BA95-86CBEEF7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4045-9074-4B87-A8A1-F0282587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94C-F9B6-4A42-B9D9-067D9F08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C913-1E62-4F24-989E-0F8D71EB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AA08-4112-4C7B-B54C-B9ED2A24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B702-0AF8-4543-B342-FD956485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7D85-FCCD-4658-B77A-9434F9AB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08CB-0BAB-4B3C-A439-7B416F3E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5646-8D5E-4100-9FE3-49CD27D6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8C7C-0977-4F0F-8A2C-81189BBC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514-FD64-448B-8175-6FA9590C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E58-6DFA-4DB7-B439-D5B6FD97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4EBF-8A85-496E-9A19-770B70C9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0ADA-B9D9-4D44-800B-70172F70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0401-9099-4460-99F3-A9E6FCC2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F24E-6A5A-431F-BF1B-1968115039CC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BA0D-A37E-48B3-A9B5-F2A1C3C801FA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402920" y="4005000"/>
            <a:ext cx="5256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Prof. dr </a:t>
            </a:r>
            <a:r>
              <a:rPr b="1" i="1" lang="sr-Latn-CS" sz="3000" spc="-1" strike="noStrike">
                <a:solidFill>
                  <a:srgbClr val="ffff00"/>
                </a:solidFill>
                <a:latin typeface="Times New Roman"/>
              </a:rPr>
              <a:t>Zoran Veličkovi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49040" y="1701360"/>
            <a:ext cx="889308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ffff00"/>
                </a:solidFill>
                <a:latin typeface="Times New Roman"/>
              </a:rPr>
              <a:t>EPIDEMIOLOGIJA ZARAZNIH BOLESTI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Model toč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Diagram 5"/>
          <p:cNvGrpSpPr/>
          <p:nvPr/>
        </p:nvGrpSpPr>
        <p:grpSpPr>
          <a:xfrm>
            <a:off x="488880" y="1857240"/>
            <a:ext cx="6151680" cy="2829240"/>
            <a:chOff x="488880" y="1857240"/>
            <a:chExt cx="6151680" cy="2829240"/>
          </a:xfrm>
        </p:grpSpPr>
        <p:sp>
          <p:nvSpPr>
            <p:cNvPr id="219" name="_s1028"/>
            <p:cNvSpPr/>
            <p:nvPr/>
          </p:nvSpPr>
          <p:spPr>
            <a:xfrm>
              <a:off x="3297240" y="3143160"/>
              <a:ext cx="1542960" cy="1543320"/>
            </a:xfrm>
            <a:prstGeom prst="donut">
              <a:avLst>
                <a:gd name="adj" fmla="val 25000"/>
              </a:avLst>
            </a:prstGeom>
            <a:solidFill>
              <a:srgbClr val="3366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_s1029"/>
            <p:cNvSpPr/>
            <p:nvPr/>
          </p:nvSpPr>
          <p:spPr>
            <a:xfrm>
              <a:off x="6022800" y="2543040"/>
              <a:ext cx="617760" cy="685800"/>
            </a:xfrm>
            <a:noFill/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ffffff"/>
                  </a:solidFill>
                  <a:latin typeface="Times New Roman"/>
                </a:rPr>
                <a:t>Biološka sredin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1030"/>
            <p:cNvSpPr/>
            <p:nvPr/>
          </p:nvSpPr>
          <p:spPr>
            <a:xfrm>
              <a:off x="3683160" y="3529080"/>
              <a:ext cx="771480" cy="7714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_s1031"/>
            <p:cNvSpPr/>
            <p:nvPr/>
          </p:nvSpPr>
          <p:spPr>
            <a:xfrm>
              <a:off x="6022800" y="1857240"/>
              <a:ext cx="617760" cy="685800"/>
            </a:xfrm>
            <a:noFill/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ffffff"/>
                  </a:solidFill>
                  <a:latin typeface="Times New Roman"/>
                </a:rPr>
                <a:t>Čovek (genetski potencijal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29"/>
            <p:cNvSpPr/>
            <p:nvPr/>
          </p:nvSpPr>
          <p:spPr>
            <a:xfrm>
              <a:off x="488880" y="2997360"/>
              <a:ext cx="2158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ffffff"/>
                  </a:solidFill>
                  <a:latin typeface="Times New Roman"/>
                </a:rPr>
                <a:t>Fizičko-himijska sredin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5"/>
            <p:cNvSpPr/>
            <p:nvPr/>
          </p:nvSpPr>
          <p:spPr>
            <a:xfrm flipH="1" flipV="1">
              <a:off x="3419280" y="3500280"/>
              <a:ext cx="298440" cy="21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27"/>
            <p:cNvSpPr/>
            <p:nvPr/>
          </p:nvSpPr>
          <p:spPr>
            <a:xfrm flipV="1">
              <a:off x="4417920" y="3500280"/>
              <a:ext cx="289080" cy="21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3"/>
            <p:cNvSpPr/>
            <p:nvPr/>
          </p:nvSpPr>
          <p:spPr>
            <a:xfrm flipV="1">
              <a:off x="4067280" y="4306680"/>
              <a:ext cx="144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Line 18"/>
          <p:cNvSpPr/>
          <p:nvPr/>
        </p:nvSpPr>
        <p:spPr>
          <a:xfrm flipH="1">
            <a:off x="1835280" y="4149720"/>
            <a:ext cx="1728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 flipH="1">
            <a:off x="2627280" y="3357720"/>
            <a:ext cx="1440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0"/>
          <p:cNvSpPr/>
          <p:nvPr/>
        </p:nvSpPr>
        <p:spPr>
          <a:xfrm>
            <a:off x="539640" y="378936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Socijalna sred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Model lan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4427640" y="1987560"/>
            <a:ext cx="433440" cy="43164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2987640" y="3139920"/>
            <a:ext cx="433440" cy="4320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9"/>
          <p:cNvSpPr/>
          <p:nvPr/>
        </p:nvSpPr>
        <p:spPr>
          <a:xfrm>
            <a:off x="3635280" y="4940280"/>
            <a:ext cx="433440" cy="4320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5292720" y="4940280"/>
            <a:ext cx="433440" cy="4320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5940360" y="3211560"/>
            <a:ext cx="433440" cy="43164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2"/>
          <p:cNvSpPr/>
          <p:nvPr/>
        </p:nvSpPr>
        <p:spPr>
          <a:xfrm>
            <a:off x="4211640" y="2563920"/>
            <a:ext cx="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 flipH="1">
            <a:off x="3347640" y="2301840"/>
            <a:ext cx="107964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14"/>
          <p:cNvSpPr/>
          <p:nvPr/>
        </p:nvSpPr>
        <p:spPr>
          <a:xfrm>
            <a:off x="3254400" y="3584520"/>
            <a:ext cx="504720" cy="13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15"/>
          <p:cNvSpPr/>
          <p:nvPr/>
        </p:nvSpPr>
        <p:spPr>
          <a:xfrm>
            <a:off x="4067280" y="5156280"/>
            <a:ext cx="1225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6"/>
          <p:cNvSpPr/>
          <p:nvPr/>
        </p:nvSpPr>
        <p:spPr>
          <a:xfrm flipV="1">
            <a:off x="5592600" y="3642840"/>
            <a:ext cx="505080" cy="1297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7"/>
          <p:cNvSpPr/>
          <p:nvPr/>
        </p:nvSpPr>
        <p:spPr>
          <a:xfrm flipH="1" flipV="1">
            <a:off x="4859280" y="2276640"/>
            <a:ext cx="115272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2797200" y="13572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Rezervo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6389640" y="3122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Put šire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5580000" y="4869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5869080" y="5002200"/>
            <a:ext cx="26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Ulazna i izlazna vr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684360" y="5002200"/>
            <a:ext cx="33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oličina i virulencija k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565200" y="2874960"/>
            <a:ext cx="23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Dispozicija i imunit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20952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Mreža uzročnosti ishemijske bolesti sr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4211640" y="2637000"/>
            <a:ext cx="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5580000" y="494172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4067280" y="3716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Bol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4" name="AutoShape 21"/>
          <p:cNvCxnSpPr>
            <a:stCxn id="250" idx="0"/>
            <a:endCxn id="250" idx="0"/>
          </p:cNvCxnSpPr>
          <p:nvPr/>
        </p:nvCxnSpPr>
        <p:spPr>
          <a:xfrm>
            <a:off x="4725720" y="1341000"/>
            <a:ext cx="108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55" name="Line 22"/>
          <p:cNvSpPr/>
          <p:nvPr/>
        </p:nvSpPr>
        <p:spPr>
          <a:xfrm flipH="1">
            <a:off x="3919680" y="3208320"/>
            <a:ext cx="28728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3"/>
          <p:cNvSpPr/>
          <p:nvPr/>
        </p:nvSpPr>
        <p:spPr>
          <a:xfrm>
            <a:off x="3919680" y="363996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4"/>
          <p:cNvSpPr/>
          <p:nvPr/>
        </p:nvSpPr>
        <p:spPr>
          <a:xfrm>
            <a:off x="3924360" y="4076640"/>
            <a:ext cx="71280" cy="28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25"/>
          <p:cNvSpPr/>
          <p:nvPr/>
        </p:nvSpPr>
        <p:spPr>
          <a:xfrm>
            <a:off x="3995640" y="4365720"/>
            <a:ext cx="36036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6"/>
          <p:cNvSpPr/>
          <p:nvPr/>
        </p:nvSpPr>
        <p:spPr>
          <a:xfrm>
            <a:off x="4356000" y="458136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27"/>
          <p:cNvSpPr/>
          <p:nvPr/>
        </p:nvSpPr>
        <p:spPr>
          <a:xfrm flipV="1">
            <a:off x="4716360" y="4436640"/>
            <a:ext cx="36036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28"/>
          <p:cNvSpPr/>
          <p:nvPr/>
        </p:nvSpPr>
        <p:spPr>
          <a:xfrm flipV="1">
            <a:off x="5076720" y="3933720"/>
            <a:ext cx="14292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30"/>
          <p:cNvSpPr/>
          <p:nvPr/>
        </p:nvSpPr>
        <p:spPr>
          <a:xfrm flipH="1" flipV="1">
            <a:off x="5148360" y="3357720"/>
            <a:ext cx="71280" cy="57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34"/>
          <p:cNvSpPr/>
          <p:nvPr/>
        </p:nvSpPr>
        <p:spPr>
          <a:xfrm flipV="1">
            <a:off x="4211640" y="3141720"/>
            <a:ext cx="57636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35"/>
          <p:cNvSpPr/>
          <p:nvPr/>
        </p:nvSpPr>
        <p:spPr>
          <a:xfrm flipH="1" flipV="1">
            <a:off x="4787640" y="3141720"/>
            <a:ext cx="36036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36"/>
          <p:cNvSpPr/>
          <p:nvPr/>
        </p:nvSpPr>
        <p:spPr>
          <a:xfrm flipV="1">
            <a:off x="4788000" y="1628280"/>
            <a:ext cx="792000" cy="151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37"/>
          <p:cNvSpPr/>
          <p:nvPr/>
        </p:nvSpPr>
        <p:spPr>
          <a:xfrm flipV="1">
            <a:off x="5148360" y="2205000"/>
            <a:ext cx="1800000" cy="115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38"/>
          <p:cNvSpPr/>
          <p:nvPr/>
        </p:nvSpPr>
        <p:spPr>
          <a:xfrm flipV="1">
            <a:off x="5195880" y="3279240"/>
            <a:ext cx="223200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39"/>
          <p:cNvSpPr/>
          <p:nvPr/>
        </p:nvSpPr>
        <p:spPr>
          <a:xfrm>
            <a:off x="5219640" y="3933720"/>
            <a:ext cx="252108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40"/>
          <p:cNvSpPr/>
          <p:nvPr/>
        </p:nvSpPr>
        <p:spPr>
          <a:xfrm>
            <a:off x="5067360" y="4437000"/>
            <a:ext cx="2016000" cy="1440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1"/>
          <p:cNvSpPr/>
          <p:nvPr/>
        </p:nvSpPr>
        <p:spPr>
          <a:xfrm>
            <a:off x="4716360" y="4581360"/>
            <a:ext cx="216000" cy="194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42"/>
          <p:cNvSpPr/>
          <p:nvPr/>
        </p:nvSpPr>
        <p:spPr>
          <a:xfrm flipH="1">
            <a:off x="3564000" y="4581360"/>
            <a:ext cx="792000" cy="172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3"/>
          <p:cNvSpPr/>
          <p:nvPr/>
        </p:nvSpPr>
        <p:spPr>
          <a:xfrm flipH="1">
            <a:off x="2050920" y="4365720"/>
            <a:ext cx="1944720" cy="1150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 flipH="1">
            <a:off x="1547640" y="4071960"/>
            <a:ext cx="237672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45"/>
          <p:cNvSpPr/>
          <p:nvPr/>
        </p:nvSpPr>
        <p:spPr>
          <a:xfrm flipH="1" flipV="1">
            <a:off x="1547640" y="2924280"/>
            <a:ext cx="237672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H="1" flipV="1">
            <a:off x="3058920" y="1268280"/>
            <a:ext cx="1152360" cy="194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47"/>
          <p:cNvSpPr/>
          <p:nvPr/>
        </p:nvSpPr>
        <p:spPr>
          <a:xfrm flipV="1">
            <a:off x="4500720" y="1306440"/>
            <a:ext cx="0" cy="1873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48"/>
          <p:cNvSpPr/>
          <p:nvPr/>
        </p:nvSpPr>
        <p:spPr>
          <a:xfrm flipH="1" flipV="1">
            <a:off x="1945800" y="1877760"/>
            <a:ext cx="2087640" cy="158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50"/>
          <p:cNvSpPr/>
          <p:nvPr/>
        </p:nvSpPr>
        <p:spPr>
          <a:xfrm flipV="1">
            <a:off x="4086360" y="2852280"/>
            <a:ext cx="414360" cy="135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51"/>
          <p:cNvSpPr/>
          <p:nvPr/>
        </p:nvSpPr>
        <p:spPr>
          <a:xfrm>
            <a:off x="4500720" y="2852640"/>
            <a:ext cx="43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52"/>
          <p:cNvSpPr/>
          <p:nvPr/>
        </p:nvSpPr>
        <p:spPr>
          <a:xfrm>
            <a:off x="4937040" y="2847960"/>
            <a:ext cx="498600" cy="317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53"/>
          <p:cNvSpPr/>
          <p:nvPr/>
        </p:nvSpPr>
        <p:spPr>
          <a:xfrm>
            <a:off x="5435640" y="3174840"/>
            <a:ext cx="7308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54"/>
          <p:cNvSpPr/>
          <p:nvPr/>
        </p:nvSpPr>
        <p:spPr>
          <a:xfrm>
            <a:off x="5508720" y="3602160"/>
            <a:ext cx="0" cy="403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55"/>
          <p:cNvSpPr/>
          <p:nvPr/>
        </p:nvSpPr>
        <p:spPr>
          <a:xfrm flipH="1">
            <a:off x="5345280" y="4005360"/>
            <a:ext cx="163440" cy="628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56"/>
          <p:cNvSpPr/>
          <p:nvPr/>
        </p:nvSpPr>
        <p:spPr>
          <a:xfrm flipH="1">
            <a:off x="4764240" y="4638600"/>
            <a:ext cx="576000" cy="28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57"/>
          <p:cNvSpPr/>
          <p:nvPr/>
        </p:nvSpPr>
        <p:spPr>
          <a:xfrm flipH="1">
            <a:off x="4197240" y="4932360"/>
            <a:ext cx="547920" cy="9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58"/>
          <p:cNvSpPr/>
          <p:nvPr/>
        </p:nvSpPr>
        <p:spPr>
          <a:xfrm flipH="1" flipV="1">
            <a:off x="3634920" y="4581000"/>
            <a:ext cx="55260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59"/>
          <p:cNvSpPr/>
          <p:nvPr/>
        </p:nvSpPr>
        <p:spPr>
          <a:xfrm flipH="1" flipV="1">
            <a:off x="3487320" y="4080960"/>
            <a:ext cx="142920" cy="505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60"/>
          <p:cNvSpPr/>
          <p:nvPr/>
        </p:nvSpPr>
        <p:spPr>
          <a:xfrm flipV="1">
            <a:off x="3487680" y="3521160"/>
            <a:ext cx="0" cy="57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61"/>
          <p:cNvSpPr/>
          <p:nvPr/>
        </p:nvSpPr>
        <p:spPr>
          <a:xfrm flipV="1">
            <a:off x="3492360" y="3218040"/>
            <a:ext cx="216000" cy="28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62"/>
          <p:cNvSpPr/>
          <p:nvPr/>
        </p:nvSpPr>
        <p:spPr>
          <a:xfrm flipV="1">
            <a:off x="3708360" y="2997000"/>
            <a:ext cx="35892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64"/>
          <p:cNvSpPr/>
          <p:nvPr/>
        </p:nvSpPr>
        <p:spPr>
          <a:xfrm flipV="1">
            <a:off x="3924360" y="2565000"/>
            <a:ext cx="57636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65"/>
          <p:cNvSpPr/>
          <p:nvPr/>
        </p:nvSpPr>
        <p:spPr>
          <a:xfrm>
            <a:off x="4500720" y="2565360"/>
            <a:ext cx="57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66"/>
          <p:cNvSpPr/>
          <p:nvPr/>
        </p:nvSpPr>
        <p:spPr>
          <a:xfrm>
            <a:off x="5076720" y="2565360"/>
            <a:ext cx="579600" cy="455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67"/>
          <p:cNvSpPr/>
          <p:nvPr/>
        </p:nvSpPr>
        <p:spPr>
          <a:xfrm>
            <a:off x="5664240" y="3038400"/>
            <a:ext cx="131760" cy="495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68"/>
          <p:cNvSpPr/>
          <p:nvPr/>
        </p:nvSpPr>
        <p:spPr>
          <a:xfrm flipH="1">
            <a:off x="5795640" y="3546360"/>
            <a:ext cx="4680" cy="520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69"/>
          <p:cNvSpPr/>
          <p:nvPr/>
        </p:nvSpPr>
        <p:spPr>
          <a:xfrm flipH="1">
            <a:off x="5580000" y="4076640"/>
            <a:ext cx="21600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70"/>
          <p:cNvSpPr/>
          <p:nvPr/>
        </p:nvSpPr>
        <p:spPr>
          <a:xfrm flipH="1">
            <a:off x="4788000" y="4797360"/>
            <a:ext cx="79200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71"/>
          <p:cNvSpPr/>
          <p:nvPr/>
        </p:nvSpPr>
        <p:spPr>
          <a:xfrm flipH="1">
            <a:off x="3995280" y="5300640"/>
            <a:ext cx="792360" cy="7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72"/>
          <p:cNvSpPr/>
          <p:nvPr/>
        </p:nvSpPr>
        <p:spPr>
          <a:xfrm flipH="1">
            <a:off x="3419640" y="2708280"/>
            <a:ext cx="504720" cy="28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73"/>
          <p:cNvSpPr/>
          <p:nvPr/>
        </p:nvSpPr>
        <p:spPr>
          <a:xfrm flipH="1">
            <a:off x="3133800" y="3002040"/>
            <a:ext cx="285840" cy="393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74"/>
          <p:cNvSpPr/>
          <p:nvPr/>
        </p:nvSpPr>
        <p:spPr>
          <a:xfrm>
            <a:off x="3127320" y="3405240"/>
            <a:ext cx="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75"/>
          <p:cNvSpPr/>
          <p:nvPr/>
        </p:nvSpPr>
        <p:spPr>
          <a:xfrm>
            <a:off x="3127320" y="4129200"/>
            <a:ext cx="149400" cy="668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76"/>
          <p:cNvSpPr/>
          <p:nvPr/>
        </p:nvSpPr>
        <p:spPr>
          <a:xfrm>
            <a:off x="3276720" y="4797360"/>
            <a:ext cx="718920" cy="57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77"/>
          <p:cNvSpPr/>
          <p:nvPr/>
        </p:nvSpPr>
        <p:spPr>
          <a:xfrm flipV="1">
            <a:off x="3492360" y="1773000"/>
            <a:ext cx="100836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78"/>
          <p:cNvSpPr/>
          <p:nvPr/>
        </p:nvSpPr>
        <p:spPr>
          <a:xfrm>
            <a:off x="4500720" y="1773360"/>
            <a:ext cx="93492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79"/>
          <p:cNvSpPr/>
          <p:nvPr/>
        </p:nvSpPr>
        <p:spPr>
          <a:xfrm flipH="1">
            <a:off x="2776680" y="1989000"/>
            <a:ext cx="715680" cy="51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80"/>
          <p:cNvSpPr/>
          <p:nvPr/>
        </p:nvSpPr>
        <p:spPr>
          <a:xfrm flipH="1">
            <a:off x="2555640" y="2517840"/>
            <a:ext cx="215640" cy="71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81"/>
          <p:cNvSpPr/>
          <p:nvPr/>
        </p:nvSpPr>
        <p:spPr>
          <a:xfrm>
            <a:off x="2556000" y="3227400"/>
            <a:ext cx="0" cy="936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82"/>
          <p:cNvSpPr/>
          <p:nvPr/>
        </p:nvSpPr>
        <p:spPr>
          <a:xfrm>
            <a:off x="2556000" y="4149720"/>
            <a:ext cx="215640" cy="93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83"/>
          <p:cNvSpPr/>
          <p:nvPr/>
        </p:nvSpPr>
        <p:spPr>
          <a:xfrm>
            <a:off x="2771640" y="5084640"/>
            <a:ext cx="927360" cy="936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84"/>
          <p:cNvSpPr/>
          <p:nvPr/>
        </p:nvSpPr>
        <p:spPr>
          <a:xfrm flipV="1">
            <a:off x="3708360" y="5950080"/>
            <a:ext cx="116064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85"/>
          <p:cNvSpPr/>
          <p:nvPr/>
        </p:nvSpPr>
        <p:spPr>
          <a:xfrm flipV="1">
            <a:off x="4859280" y="5216400"/>
            <a:ext cx="1309680" cy="733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86"/>
          <p:cNvSpPr/>
          <p:nvPr/>
        </p:nvSpPr>
        <p:spPr>
          <a:xfrm flipV="1">
            <a:off x="6168960" y="4202280"/>
            <a:ext cx="34776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87"/>
          <p:cNvSpPr/>
          <p:nvPr/>
        </p:nvSpPr>
        <p:spPr>
          <a:xfrm>
            <a:off x="5435640" y="1916280"/>
            <a:ext cx="86508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88"/>
          <p:cNvSpPr/>
          <p:nvPr/>
        </p:nvSpPr>
        <p:spPr>
          <a:xfrm>
            <a:off x="6300720" y="2637000"/>
            <a:ext cx="216000" cy="79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89"/>
          <p:cNvSpPr/>
          <p:nvPr/>
        </p:nvSpPr>
        <p:spPr>
          <a:xfrm>
            <a:off x="6516720" y="3429000"/>
            <a:ext cx="0" cy="758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90"/>
          <p:cNvSpPr/>
          <p:nvPr/>
        </p:nvSpPr>
        <p:spPr>
          <a:xfrm>
            <a:off x="5148360" y="120168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Mehanizmi zgrušavanja kr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91"/>
          <p:cNvSpPr/>
          <p:nvPr/>
        </p:nvSpPr>
        <p:spPr>
          <a:xfrm>
            <a:off x="6859440" y="180180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Nepoznati fakto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92"/>
          <p:cNvSpPr/>
          <p:nvPr/>
        </p:nvSpPr>
        <p:spPr>
          <a:xfrm>
            <a:off x="7524720" y="29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o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93"/>
          <p:cNvSpPr/>
          <p:nvPr/>
        </p:nvSpPr>
        <p:spPr>
          <a:xfrm>
            <a:off x="7524720" y="42210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shra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94"/>
          <p:cNvSpPr/>
          <p:nvPr/>
        </p:nvSpPr>
        <p:spPr>
          <a:xfrm>
            <a:off x="6986520" y="5661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Krvni pritis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95"/>
          <p:cNvSpPr/>
          <p:nvPr/>
        </p:nvSpPr>
        <p:spPr>
          <a:xfrm>
            <a:off x="4788000" y="62420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Fizička aktiv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96"/>
          <p:cNvSpPr/>
          <p:nvPr/>
        </p:nvSpPr>
        <p:spPr>
          <a:xfrm>
            <a:off x="2484360" y="6308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nfekci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97"/>
          <p:cNvSpPr/>
          <p:nvPr/>
        </p:nvSpPr>
        <p:spPr>
          <a:xfrm>
            <a:off x="101520" y="56484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Genetska sklo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98"/>
          <p:cNvSpPr/>
          <p:nvPr/>
        </p:nvSpPr>
        <p:spPr>
          <a:xfrm>
            <a:off x="103320" y="43797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Masti u kr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99"/>
          <p:cNvSpPr/>
          <p:nvPr/>
        </p:nvSpPr>
        <p:spPr>
          <a:xfrm>
            <a:off x="339840" y="2924280"/>
            <a:ext cx="12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00"/>
          <p:cNvSpPr/>
          <p:nvPr/>
        </p:nvSpPr>
        <p:spPr>
          <a:xfrm>
            <a:off x="179280" y="25178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ušen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01"/>
          <p:cNvSpPr/>
          <p:nvPr/>
        </p:nvSpPr>
        <p:spPr>
          <a:xfrm>
            <a:off x="684360" y="1413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Uzra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02"/>
          <p:cNvSpPr/>
          <p:nvPr/>
        </p:nvSpPr>
        <p:spPr>
          <a:xfrm>
            <a:off x="1712880" y="765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Lekov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03"/>
          <p:cNvSpPr/>
          <p:nvPr/>
        </p:nvSpPr>
        <p:spPr>
          <a:xfrm>
            <a:off x="3381480" y="692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sihosocijaln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t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sr-Latn-CS" sz="4400" spc="-1" strike="noStrike">
                <a:solidFill>
                  <a:srgbClr val="ff3300"/>
                </a:solidFill>
                <a:latin typeface="Times New Roman"/>
              </a:rPr>
              <a:t>gens</a:t>
            </a: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biološki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virusi, bakterije, rikecije, gljivice, protozoe 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višećelijski paraziti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fizičk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mehanički, toplotni, jonizujući, ostali- sniženi il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ovišeni atmosferski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ritisak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– visinska ili kesonska bolest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hemijsk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metabolički ili endogeni, egzogeni hemijski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nutritivni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psihološki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pretnje, ucene, poniženja, mobing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fiziološka stanj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pubertet, menstruacija)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sr-Latn-CS" sz="4400" spc="-1" strike="noStrike">
                <a:solidFill>
                  <a:srgbClr val="ff3300"/>
                </a:solidFill>
                <a:latin typeface="Times New Roman"/>
              </a:rPr>
              <a:t>omaćin</a:t>
            </a:r>
            <a:br>
              <a:rPr sz="3600"/>
            </a:br>
            <a:br>
              <a:rPr sz="14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asleđe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 uzrast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 pol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 prethodna bolest (stanje)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 rasna, nacionalna i verska pripadnost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 bračno stanje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 obrazovni nivo, zanimanje i socijalno –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ekonomski položaj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 način života i ponašanja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4400" spc="-1" strike="noStrike">
                <a:solidFill>
                  <a:srgbClr val="ff3300"/>
                </a:solidFill>
                <a:latin typeface="Times New Roman"/>
              </a:rPr>
              <a:t>Životna sredina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uhvata sveukupnost spoljnih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činilaca žive i nežive prirode koji deluju na određenu jedinku ili ekološku zajednicu</a:t>
            </a:r>
            <a:br>
              <a:rPr sz="3600"/>
            </a:br>
            <a:br>
              <a:rPr sz="36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abiotska ili geofizička sredin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obuhvata sve ono što čini neživu prirodu)</a:t>
            </a:r>
            <a:br>
              <a:rPr sz="24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biotska ili biološko – socijalna sredin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predstavljaju živa bića i odnosi koje ona međusobno uslovljavaju)</a:t>
            </a:r>
            <a:br>
              <a:rPr sz="24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ekosistem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čine sva živa bića uz činioce nežive prir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4400" spc="-1" strike="noStrike">
                <a:solidFill>
                  <a:srgbClr val="ff3300"/>
                </a:solidFill>
                <a:latin typeface="Times New Roman"/>
              </a:rPr>
              <a:t>Infektivni agens</a:t>
            </a:r>
            <a:br>
              <a:rPr sz="800"/>
            </a:br>
            <a:r>
              <a:rPr b="0" lang="sr-Latn-CS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800"/>
            </a:br>
            <a:br>
              <a:rPr sz="800"/>
            </a:b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1. strogi (obligantni) paraziti -m. boginje, epid. meningit,  polne inf. (gonoreja, sifilis), besnilo itd.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2. ostaju neko vreme izvan, ali se ne razmnožavaju (velike i ovče boginje, tuberkuloza, difterija, šarlah)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3. ostaju živi i mogu se razmnožavati (trb. tifus, kolera, bacilarna dizenterija)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4. često se nalaze izvan organizma (stafilokok, streptokok itd.)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5. prelaze u otporne oblike - spore (tetanus, botulizam, gasna gangrena, antraks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patogenos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sposobnost agensa da izazove manifestnu bolest)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linički oboleli (O) /agensu izloženi osetljivi (I) = O/I</a:t>
            </a:r>
            <a:br>
              <a:rPr sz="2800"/>
            </a:br>
            <a:br>
              <a:rPr sz="2800"/>
            </a:b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infektivnos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sposobnost prodiranja, održavanja i raznmožavanja) – lakoća kojom se bolest prenosi – kontagioznost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zaraženi (Z) / izloženi osetljivi (I) = Z/I</a:t>
            </a:r>
            <a:br>
              <a:rPr sz="2800"/>
            </a:br>
            <a:br>
              <a:rPr sz="2800"/>
            </a:b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virulencij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– stepen patogenosti odnosno sposobnost agensa da izazove manifestnu bolest u inficiranom domaćinu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linički oboleli (O) / ukupni broj zaraženih (Z) = O/Z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sr-Latn-CS" sz="4400" spc="-1" strike="noStrike">
                <a:solidFill>
                  <a:srgbClr val="ff3300"/>
                </a:solidFill>
                <a:latin typeface="Times New Roman"/>
              </a:rPr>
              <a:t>Faktori virulencije</a:t>
            </a:r>
            <a:br>
              <a:rPr sz="4400"/>
            </a:br>
            <a:br>
              <a:rPr sz="3600"/>
            </a:b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invazivnos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oni koji agensu omogućuju adherenciju (prijanjanja) na tkiva, prodiranja u njih, razmnožavanje i širenje 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toksičnos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– izazivaju oštećenja tkiva domaćina pod dejstvom toksi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nfektivna doza ili inokulum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539640" y="1600200"/>
          <a:ext cx="8147160" cy="4513320"/>
        </p:xfrm>
        <a:graphic>
          <a:graphicData uri="http://schemas.openxmlformats.org/drawingml/2006/table">
            <a:tbl>
              <a:tblPr/>
              <a:tblGrid>
                <a:gridCol w="4032360"/>
                <a:gridCol w="411480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Bol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Minimalan broj k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bušni tif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monelozno trovanje hran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 – 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cilarna dizenterij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riptosporidij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2 ci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32000" y="1413000"/>
            <a:ext cx="6624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99cc"/>
                </a:solidFill>
                <a:latin typeface="Times New Roman"/>
              </a:rPr>
              <a:t>EPIDEMIJSKI PRO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Times New Roman"/>
              </a:rPr>
              <a:t>Proces </a:t>
            </a:r>
            <a:r>
              <a:rPr b="0" lang="sr-Latn-CS" sz="3000" spc="-1" strike="noStrike">
                <a:solidFill>
                  <a:srgbClr val="ffff00"/>
                </a:solidFill>
                <a:latin typeface="Times New Roman"/>
              </a:rPr>
              <a:t>pojave</a:t>
            </a:r>
            <a:r>
              <a:rPr b="0" lang="sr-Latn-CS" sz="3000" spc="-1" strike="noStrike">
                <a:solidFill>
                  <a:srgbClr val="ffffff"/>
                </a:solidFill>
                <a:latin typeface="Times New Roman"/>
              </a:rPr>
              <a:t> bolesti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Times New Roman"/>
              </a:rPr>
              <a:t>njeno </a:t>
            </a:r>
            <a:r>
              <a:rPr b="0" lang="sr-Latn-CS" sz="3000" spc="-1" strike="noStrike">
                <a:solidFill>
                  <a:srgbClr val="ffff00"/>
                </a:solidFill>
                <a:latin typeface="Times New Roman"/>
              </a:rPr>
              <a:t>širenje</a:t>
            </a:r>
            <a:r>
              <a:rPr b="0" lang="sr-Latn-C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00"/>
                </a:solidFill>
                <a:latin typeface="Times New Roman"/>
              </a:rPr>
              <a:t>održavanje</a:t>
            </a:r>
            <a:r>
              <a:rPr b="0" lang="sr-Latn-CS" sz="30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00"/>
                </a:solidFill>
                <a:latin typeface="Times New Roman"/>
              </a:rPr>
              <a:t>nestajanje</a:t>
            </a:r>
            <a:r>
              <a:rPr b="0" lang="sr-Latn-CS" sz="3000" spc="-1" strike="noStrike">
                <a:solidFill>
                  <a:srgbClr val="ffffff"/>
                </a:solidFill>
                <a:latin typeface="Times New Roman"/>
              </a:rPr>
              <a:t> u populaciji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00"/>
                </a:solidFill>
                <a:latin typeface="Times New Roman"/>
              </a:rPr>
              <a:t>EPIDEMIOLOGIJA ZARAZNIH BOLEST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51832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sr-Latn-CS" sz="3600" spc="-1" strike="noStrike">
                <a:solidFill>
                  <a:srgbClr val="ff3300"/>
                </a:solidFill>
                <a:latin typeface="Times New Roman"/>
              </a:rPr>
              <a:t>Prirodni (hronološki) tok zarazne bolesti:</a:t>
            </a:r>
            <a:br>
              <a:rPr sz="3200"/>
            </a:br>
            <a:br>
              <a:rPr sz="2800"/>
            </a:b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 inkubacioni</a:t>
            </a: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 prodromalni</a:t>
            </a: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 inkrementni</a:t>
            </a: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 period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acmis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ili 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akme</a:t>
            </a:r>
            <a:br>
              <a:rPr sz="3200"/>
            </a:b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dekrementni</a:t>
            </a: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 period rekonvalescen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3300"/>
                </a:solidFill>
                <a:latin typeface="Times New Roman"/>
              </a:rPr>
              <a:t>Spektar bolesti</a:t>
            </a:r>
            <a:r>
              <a:rPr b="0" lang="sr-Latn-C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je raspon njenog mogućeg ispoljavanja, od najblažih do najtežih oblika. Taj spektar se zove i </a:t>
            </a:r>
            <a:r>
              <a:rPr b="1" lang="sr-Latn-CS" sz="3600" spc="-1" strike="noStrike">
                <a:solidFill>
                  <a:srgbClr val="ff3300"/>
                </a:solidFill>
                <a:latin typeface="Times New Roman"/>
              </a:rPr>
              <a:t>gradijent infekcije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, a definiše se kao odgovor domaćina na infekciju, koji se kreće od inaparentne do fatalne bolesti (</a:t>
            </a:r>
            <a:r>
              <a:rPr b="0" lang="sr-Latn-CS" sz="3600" spc="-1" strike="noStrike">
                <a:solidFill>
                  <a:srgbClr val="ffff00"/>
                </a:solidFill>
                <a:latin typeface="Times New Roman"/>
              </a:rPr>
              <a:t>raspon kliničkih manifestacija bolesti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).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Izloženost, inficiranost i spektar bolesti </a:t>
            </a: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(odn. Gradijent infekcije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68360" y="1612800"/>
          <a:ext cx="8218440" cy="3770280"/>
        </p:xfrm>
        <a:graphic>
          <a:graphicData uri="http://schemas.openxmlformats.org/drawingml/2006/table">
            <a:tbl>
              <a:tblPr/>
              <a:tblGrid>
                <a:gridCol w="1027080"/>
                <a:gridCol w="1131840"/>
                <a:gridCol w="922320"/>
                <a:gridCol w="1028880"/>
                <a:gridCol w="1027080"/>
                <a:gridCol w="1054080"/>
                <a:gridCol w="1000080"/>
                <a:gridCol w="1027080"/>
              </a:tblGrid>
              <a:tr h="87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zlo-žen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izlož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zlož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fici-ran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inficir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ficir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8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ektar bolesti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apa-renta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linički ispoljen (manifesta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la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meren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ž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tal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3300"/>
                </a:solidFill>
                <a:latin typeface="Times New Roman"/>
              </a:rPr>
              <a:t>Na težinu kliničkog ispoljavanja utiču i:</a:t>
            </a:r>
            <a:br>
              <a:rPr sz="3600"/>
            </a:br>
            <a:br>
              <a:rPr sz="32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virulencija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soj odnosno biotip uzročnik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(klasični tip v. kolere izaziva teži klinički oblik kolere)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uzrast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obolelih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prisustvo nekog drugog poremećaja zdravlj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(grip teže podnose osobe sa neki hroničnim obolenj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Za podrobnije razumevanje gradijenta infekcije treba definisati infekciju.</a:t>
            </a:r>
            <a:br>
              <a:rPr sz="2400"/>
            </a:br>
            <a:br>
              <a:rPr sz="2400"/>
            </a:b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Infekcija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redstavlja prodiranje, održavanje i razmnožavanje infektivnog agensa u organizmu čoveka ili životinje. Ona nije što i infektivna bolest. Infekcija može biti inaparentna i manifestna.</a:t>
            </a:r>
            <a:br>
              <a:rPr sz="2400"/>
            </a:br>
            <a:br>
              <a:rPr sz="2400"/>
            </a:b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Inaparentna infekcij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se odlikuje odsustvom subjektivnih (simptomi) i objektivnih (znaci) manifestacija bolesti. To su stanja poznata kao latentne, bezsimptomne, zbrisane, skrivene, neprimetne, neme ili supkliničke infekcije.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Mada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prividno zdrave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takve osobe predstavljaju veliku epidemiološku opasnost.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Manifestna infekcij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predstavlja uočljiv, tj. klinički manje ili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više jasno izražen oblik bolesti.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Jedna ista bolest može imati različite kliničke manifestacije bolesti.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Oni se obeležavaju kao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blag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(lak),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umeren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(umereno težak),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težak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fatalan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Gradijent infekcije u zavisnosti od uzročnika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Izvor: Mausn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&amp; Kramer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6"/>
          <p:cNvSpPr/>
          <p:nvPr/>
        </p:nvSpPr>
        <p:spPr>
          <a:xfrm>
            <a:off x="417600" y="155736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Freeform 8"/>
          <p:cNvSpPr/>
          <p:nvPr/>
        </p:nvSpPr>
        <p:spPr>
          <a:xfrm>
            <a:off x="1903320" y="1967040"/>
            <a:ext cx="190440" cy="3355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Freeform 9"/>
          <p:cNvSpPr/>
          <p:nvPr/>
        </p:nvSpPr>
        <p:spPr>
          <a:xfrm>
            <a:off x="1903320" y="5154480"/>
            <a:ext cx="5200920" cy="168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2093760" y="1967040"/>
            <a:ext cx="5010480" cy="31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Freeform 11"/>
          <p:cNvSpPr/>
          <p:nvPr/>
        </p:nvSpPr>
        <p:spPr>
          <a:xfrm>
            <a:off x="1903320" y="1967040"/>
            <a:ext cx="190440" cy="3355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Freeform 12"/>
          <p:cNvSpPr/>
          <p:nvPr/>
        </p:nvSpPr>
        <p:spPr>
          <a:xfrm>
            <a:off x="2903400" y="1967040"/>
            <a:ext cx="200160" cy="3355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Freeform 13"/>
          <p:cNvSpPr/>
          <p:nvPr/>
        </p:nvSpPr>
        <p:spPr>
          <a:xfrm>
            <a:off x="3903840" y="1967040"/>
            <a:ext cx="199800" cy="3355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Freeform 14"/>
          <p:cNvSpPr/>
          <p:nvPr/>
        </p:nvSpPr>
        <p:spPr>
          <a:xfrm>
            <a:off x="4903920" y="1967040"/>
            <a:ext cx="199800" cy="3355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Freeform 15"/>
          <p:cNvSpPr/>
          <p:nvPr/>
        </p:nvSpPr>
        <p:spPr>
          <a:xfrm>
            <a:off x="5904000" y="1967040"/>
            <a:ext cx="199800" cy="3355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Freeform 16"/>
          <p:cNvSpPr/>
          <p:nvPr/>
        </p:nvSpPr>
        <p:spPr>
          <a:xfrm>
            <a:off x="6913440" y="1967040"/>
            <a:ext cx="190800" cy="3355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Freeform 17"/>
          <p:cNvSpPr/>
          <p:nvPr/>
        </p:nvSpPr>
        <p:spPr>
          <a:xfrm>
            <a:off x="1903320" y="1967040"/>
            <a:ext cx="190440" cy="3355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Freeform 18"/>
          <p:cNvSpPr/>
          <p:nvPr/>
        </p:nvSpPr>
        <p:spPr>
          <a:xfrm>
            <a:off x="1903320" y="5154480"/>
            <a:ext cx="5200920" cy="168480"/>
          </a:xfrm>
          <a:prstGeom prst="pie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2093760" y="1967040"/>
            <a:ext cx="5010480" cy="3187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Freeform 20"/>
          <p:cNvSpPr/>
          <p:nvPr/>
        </p:nvSpPr>
        <p:spPr>
          <a:xfrm>
            <a:off x="1903320" y="4714920"/>
            <a:ext cx="542880" cy="156960"/>
          </a:xfrm>
          <a:prstGeom prst="pie">
            <a:avLst/>
          </a:prstGeom>
          <a:solidFill>
            <a:srgbClr val="34976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903320" y="4871880"/>
            <a:ext cx="343080" cy="262080"/>
          </a:xfrm>
          <a:prstGeom prst="rect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Freeform 22"/>
          <p:cNvSpPr/>
          <p:nvPr/>
        </p:nvSpPr>
        <p:spPr>
          <a:xfrm>
            <a:off x="2246400" y="4714920"/>
            <a:ext cx="199800" cy="419040"/>
          </a:xfrm>
          <a:prstGeom prst="pie">
            <a:avLst/>
          </a:prstGeom>
          <a:solidFill>
            <a:srgbClr val="23654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Freeform 23"/>
          <p:cNvSpPr/>
          <p:nvPr/>
        </p:nvSpPr>
        <p:spPr>
          <a:xfrm>
            <a:off x="2246400" y="4714920"/>
            <a:ext cx="4857840" cy="156960"/>
          </a:xfrm>
          <a:prstGeom prst="pie">
            <a:avLst/>
          </a:prstGeom>
          <a:solidFill>
            <a:srgbClr val="b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24"/>
          <p:cNvSpPr/>
          <p:nvPr/>
        </p:nvSpPr>
        <p:spPr>
          <a:xfrm>
            <a:off x="2246400" y="4871880"/>
            <a:ext cx="4667040" cy="262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Freeform 25"/>
          <p:cNvSpPr/>
          <p:nvPr/>
        </p:nvSpPr>
        <p:spPr>
          <a:xfrm>
            <a:off x="6913440" y="4714920"/>
            <a:ext cx="190800" cy="419040"/>
          </a:xfrm>
          <a:prstGeom prst="pie">
            <a:avLst/>
          </a:pr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Freeform 26"/>
          <p:cNvSpPr/>
          <p:nvPr/>
        </p:nvSpPr>
        <p:spPr>
          <a:xfrm>
            <a:off x="1903320" y="4075200"/>
            <a:ext cx="447840" cy="166680"/>
          </a:xfrm>
          <a:prstGeom prst="pie">
            <a:avLst/>
          </a:prstGeom>
          <a:solidFill>
            <a:srgbClr val="00bfb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27"/>
          <p:cNvSpPr/>
          <p:nvPr/>
        </p:nvSpPr>
        <p:spPr>
          <a:xfrm>
            <a:off x="1903320" y="4241880"/>
            <a:ext cx="247680" cy="252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Freeform 28"/>
          <p:cNvSpPr/>
          <p:nvPr/>
        </p:nvSpPr>
        <p:spPr>
          <a:xfrm>
            <a:off x="2151000" y="4075200"/>
            <a:ext cx="200160" cy="419040"/>
          </a:xfrm>
          <a:prstGeom prst="pie">
            <a:avLst/>
          </a:pr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Freeform 29"/>
          <p:cNvSpPr/>
          <p:nvPr/>
        </p:nvSpPr>
        <p:spPr>
          <a:xfrm>
            <a:off x="2151000" y="4075200"/>
            <a:ext cx="600120" cy="166680"/>
          </a:xfrm>
          <a:prstGeom prst="pie">
            <a:avLst/>
          </a:prstGeom>
          <a:solidFill>
            <a:srgbClr val="5c359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0"/>
          <p:cNvSpPr/>
          <p:nvPr/>
        </p:nvSpPr>
        <p:spPr>
          <a:xfrm>
            <a:off x="2151000" y="4241880"/>
            <a:ext cx="399960" cy="25236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Freeform 31"/>
          <p:cNvSpPr/>
          <p:nvPr/>
        </p:nvSpPr>
        <p:spPr>
          <a:xfrm>
            <a:off x="2550960" y="4075200"/>
            <a:ext cx="200160" cy="419040"/>
          </a:xfrm>
          <a:prstGeom prst="pie">
            <a:avLst/>
          </a:prstGeom>
          <a:solidFill>
            <a:srgbClr val="3e236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reeform 32"/>
          <p:cNvSpPr/>
          <p:nvPr/>
        </p:nvSpPr>
        <p:spPr>
          <a:xfrm>
            <a:off x="2550960" y="4075200"/>
            <a:ext cx="2705400" cy="166680"/>
          </a:xfrm>
          <a:prstGeom prst="pie">
            <a:avLst/>
          </a:prstGeom>
          <a:solidFill>
            <a:srgbClr val="659db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33"/>
          <p:cNvSpPr/>
          <p:nvPr/>
        </p:nvSpPr>
        <p:spPr>
          <a:xfrm>
            <a:off x="2550960" y="4241880"/>
            <a:ext cx="2505240" cy="252360"/>
          </a:xfrm>
          <a:prstGeom prst="rect">
            <a:avLst/>
          </a:prstGeom>
          <a:solidFill>
            <a:srgbClr val="86d1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Freeform 34"/>
          <p:cNvSpPr/>
          <p:nvPr/>
        </p:nvSpPr>
        <p:spPr>
          <a:xfrm>
            <a:off x="5056200" y="4075200"/>
            <a:ext cx="200160" cy="419040"/>
          </a:xfrm>
          <a:prstGeom prst="pie">
            <a:avLst/>
          </a:prstGeom>
          <a:solidFill>
            <a:srgbClr val="43697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Freeform 35"/>
          <p:cNvSpPr/>
          <p:nvPr/>
        </p:nvSpPr>
        <p:spPr>
          <a:xfrm>
            <a:off x="5056200" y="4075200"/>
            <a:ext cx="1447920" cy="166680"/>
          </a:xfrm>
          <a:prstGeom prst="pie">
            <a:avLst/>
          </a:prstGeom>
          <a:solidFill>
            <a:srgbClr val="34976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36"/>
          <p:cNvSpPr/>
          <p:nvPr/>
        </p:nvSpPr>
        <p:spPr>
          <a:xfrm>
            <a:off x="5056200" y="4241880"/>
            <a:ext cx="1257120" cy="252360"/>
          </a:xfrm>
          <a:prstGeom prst="rect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reeform 37"/>
          <p:cNvSpPr/>
          <p:nvPr/>
        </p:nvSpPr>
        <p:spPr>
          <a:xfrm>
            <a:off x="6313320" y="4075200"/>
            <a:ext cx="190800" cy="419040"/>
          </a:xfrm>
          <a:prstGeom prst="pie">
            <a:avLst/>
          </a:prstGeom>
          <a:solidFill>
            <a:srgbClr val="23654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Freeform 38"/>
          <p:cNvSpPr/>
          <p:nvPr/>
        </p:nvSpPr>
        <p:spPr>
          <a:xfrm>
            <a:off x="6313320" y="4075200"/>
            <a:ext cx="790920" cy="166680"/>
          </a:xfrm>
          <a:prstGeom prst="pie">
            <a:avLst/>
          </a:prstGeom>
          <a:solidFill>
            <a:srgbClr val="b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39"/>
          <p:cNvSpPr/>
          <p:nvPr/>
        </p:nvSpPr>
        <p:spPr>
          <a:xfrm>
            <a:off x="6313320" y="4241880"/>
            <a:ext cx="600120" cy="2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Freeform 40"/>
          <p:cNvSpPr/>
          <p:nvPr/>
        </p:nvSpPr>
        <p:spPr>
          <a:xfrm>
            <a:off x="6913440" y="4075200"/>
            <a:ext cx="190800" cy="419040"/>
          </a:xfrm>
          <a:prstGeom prst="pie">
            <a:avLst/>
          </a:pr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Freeform 41"/>
          <p:cNvSpPr/>
          <p:nvPr/>
        </p:nvSpPr>
        <p:spPr>
          <a:xfrm>
            <a:off x="1903320" y="3435480"/>
            <a:ext cx="2695680" cy="166680"/>
          </a:xfrm>
          <a:prstGeom prst="pie">
            <a:avLst/>
          </a:prstGeom>
          <a:solidFill>
            <a:srgbClr val="00bfb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42"/>
          <p:cNvSpPr/>
          <p:nvPr/>
        </p:nvSpPr>
        <p:spPr>
          <a:xfrm>
            <a:off x="1903320" y="3602160"/>
            <a:ext cx="2505240" cy="252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Freeform 43"/>
          <p:cNvSpPr/>
          <p:nvPr/>
        </p:nvSpPr>
        <p:spPr>
          <a:xfrm>
            <a:off x="4408560" y="3435480"/>
            <a:ext cx="190440" cy="419040"/>
          </a:xfrm>
          <a:prstGeom prst="pie">
            <a:avLst/>
          </a:pr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Freeform 44"/>
          <p:cNvSpPr/>
          <p:nvPr/>
        </p:nvSpPr>
        <p:spPr>
          <a:xfrm>
            <a:off x="4408560" y="3435480"/>
            <a:ext cx="1200240" cy="166680"/>
          </a:xfrm>
          <a:prstGeom prst="pie">
            <a:avLst/>
          </a:prstGeom>
          <a:solidFill>
            <a:srgbClr val="5c359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45"/>
          <p:cNvSpPr/>
          <p:nvPr/>
        </p:nvSpPr>
        <p:spPr>
          <a:xfrm>
            <a:off x="4408560" y="3602160"/>
            <a:ext cx="1000080" cy="25236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Freeform 46"/>
          <p:cNvSpPr/>
          <p:nvPr/>
        </p:nvSpPr>
        <p:spPr>
          <a:xfrm>
            <a:off x="5408640" y="3435480"/>
            <a:ext cx="200160" cy="419040"/>
          </a:xfrm>
          <a:prstGeom prst="pie">
            <a:avLst/>
          </a:prstGeom>
          <a:solidFill>
            <a:srgbClr val="3e236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Freeform 47"/>
          <p:cNvSpPr/>
          <p:nvPr/>
        </p:nvSpPr>
        <p:spPr>
          <a:xfrm>
            <a:off x="5408640" y="3435480"/>
            <a:ext cx="695160" cy="166680"/>
          </a:xfrm>
          <a:prstGeom prst="pie">
            <a:avLst/>
          </a:prstGeom>
          <a:solidFill>
            <a:srgbClr val="659db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48"/>
          <p:cNvSpPr/>
          <p:nvPr/>
        </p:nvSpPr>
        <p:spPr>
          <a:xfrm>
            <a:off x="5408640" y="3602160"/>
            <a:ext cx="495360" cy="252360"/>
          </a:xfrm>
          <a:prstGeom prst="rect">
            <a:avLst/>
          </a:prstGeom>
          <a:solidFill>
            <a:srgbClr val="86d1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Freeform 49"/>
          <p:cNvSpPr/>
          <p:nvPr/>
        </p:nvSpPr>
        <p:spPr>
          <a:xfrm>
            <a:off x="5904000" y="3435480"/>
            <a:ext cx="199800" cy="419040"/>
          </a:xfrm>
          <a:prstGeom prst="pie">
            <a:avLst/>
          </a:prstGeom>
          <a:solidFill>
            <a:srgbClr val="43697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50"/>
          <p:cNvSpPr/>
          <p:nvPr/>
        </p:nvSpPr>
        <p:spPr>
          <a:xfrm>
            <a:off x="5904000" y="3435480"/>
            <a:ext cx="704880" cy="166680"/>
          </a:xfrm>
          <a:prstGeom prst="pie">
            <a:avLst/>
          </a:prstGeom>
          <a:solidFill>
            <a:srgbClr val="34976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51"/>
          <p:cNvSpPr/>
          <p:nvPr/>
        </p:nvSpPr>
        <p:spPr>
          <a:xfrm>
            <a:off x="5904000" y="3602160"/>
            <a:ext cx="504720" cy="252360"/>
          </a:xfrm>
          <a:prstGeom prst="rect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52"/>
          <p:cNvSpPr/>
          <p:nvPr/>
        </p:nvSpPr>
        <p:spPr>
          <a:xfrm>
            <a:off x="6408720" y="3435480"/>
            <a:ext cx="200160" cy="419040"/>
          </a:xfrm>
          <a:prstGeom prst="pie">
            <a:avLst/>
          </a:prstGeom>
          <a:solidFill>
            <a:srgbClr val="23654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reeform 53"/>
          <p:cNvSpPr/>
          <p:nvPr/>
        </p:nvSpPr>
        <p:spPr>
          <a:xfrm>
            <a:off x="6408720" y="3435480"/>
            <a:ext cx="695520" cy="166680"/>
          </a:xfrm>
          <a:prstGeom prst="pie">
            <a:avLst/>
          </a:prstGeom>
          <a:solidFill>
            <a:srgbClr val="b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6408720" y="3602160"/>
            <a:ext cx="504720" cy="2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Freeform 55"/>
          <p:cNvSpPr/>
          <p:nvPr/>
        </p:nvSpPr>
        <p:spPr>
          <a:xfrm>
            <a:off x="6913440" y="3435480"/>
            <a:ext cx="190800" cy="419040"/>
          </a:xfrm>
          <a:prstGeom prst="pie">
            <a:avLst/>
          </a:pr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1903320" y="5322960"/>
            <a:ext cx="5010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1903320" y="5322960"/>
            <a:ext cx="180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2903400" y="5322960"/>
            <a:ext cx="180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59"/>
          <p:cNvSpPr/>
          <p:nvPr/>
        </p:nvSpPr>
        <p:spPr>
          <a:xfrm>
            <a:off x="3903840" y="5322960"/>
            <a:ext cx="144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60"/>
          <p:cNvSpPr/>
          <p:nvPr/>
        </p:nvSpPr>
        <p:spPr>
          <a:xfrm>
            <a:off x="4903920" y="5322960"/>
            <a:ext cx="144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61"/>
          <p:cNvSpPr/>
          <p:nvPr/>
        </p:nvSpPr>
        <p:spPr>
          <a:xfrm>
            <a:off x="5904000" y="5322960"/>
            <a:ext cx="144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62"/>
          <p:cNvSpPr/>
          <p:nvPr/>
        </p:nvSpPr>
        <p:spPr>
          <a:xfrm>
            <a:off x="6913440" y="5322960"/>
            <a:ext cx="1800" cy="5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63"/>
          <p:cNvSpPr/>
          <p:nvPr/>
        </p:nvSpPr>
        <p:spPr>
          <a:xfrm>
            <a:off x="1864800" y="5459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64"/>
          <p:cNvSpPr/>
          <p:nvPr/>
        </p:nvSpPr>
        <p:spPr>
          <a:xfrm>
            <a:off x="2817000" y="5459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65"/>
          <p:cNvSpPr/>
          <p:nvPr/>
        </p:nvSpPr>
        <p:spPr>
          <a:xfrm>
            <a:off x="3817080" y="5459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66"/>
          <p:cNvSpPr/>
          <p:nvPr/>
        </p:nvSpPr>
        <p:spPr>
          <a:xfrm>
            <a:off x="4817520" y="5459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67"/>
          <p:cNvSpPr/>
          <p:nvPr/>
        </p:nvSpPr>
        <p:spPr>
          <a:xfrm>
            <a:off x="5817600" y="5459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68"/>
          <p:cNvSpPr/>
          <p:nvPr/>
        </p:nvSpPr>
        <p:spPr>
          <a:xfrm>
            <a:off x="6788520" y="545940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69"/>
          <p:cNvSpPr/>
          <p:nvPr/>
        </p:nvSpPr>
        <p:spPr>
          <a:xfrm>
            <a:off x="186840" y="4869000"/>
            <a:ext cx="85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v.besni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0"/>
          <p:cNvSpPr/>
          <p:nvPr/>
        </p:nvSpPr>
        <p:spPr>
          <a:xfrm>
            <a:off x="160920" y="4221000"/>
            <a:ext cx="152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v.malih bogi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71"/>
          <p:cNvSpPr/>
          <p:nvPr/>
        </p:nvSpPr>
        <p:spPr>
          <a:xfrm>
            <a:off x="127080" y="3557520"/>
            <a:ext cx="169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bacil tuberkulo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72"/>
          <p:cNvSpPr/>
          <p:nvPr/>
        </p:nvSpPr>
        <p:spPr>
          <a:xfrm>
            <a:off x="7237440" y="3057480"/>
            <a:ext cx="1655640" cy="145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73"/>
          <p:cNvSpPr/>
          <p:nvPr/>
        </p:nvSpPr>
        <p:spPr>
          <a:xfrm>
            <a:off x="7304040" y="3151080"/>
            <a:ext cx="10476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74"/>
          <p:cNvSpPr/>
          <p:nvPr/>
        </p:nvSpPr>
        <p:spPr>
          <a:xfrm>
            <a:off x="7466400" y="3098880"/>
            <a:ext cx="106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inaparent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75"/>
          <p:cNvSpPr/>
          <p:nvPr/>
        </p:nvSpPr>
        <p:spPr>
          <a:xfrm>
            <a:off x="7304040" y="3435480"/>
            <a:ext cx="104760" cy="11412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76"/>
          <p:cNvSpPr/>
          <p:nvPr/>
        </p:nvSpPr>
        <p:spPr>
          <a:xfrm>
            <a:off x="7465680" y="3382920"/>
            <a:ext cx="37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bla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77"/>
          <p:cNvSpPr/>
          <p:nvPr/>
        </p:nvSpPr>
        <p:spPr>
          <a:xfrm>
            <a:off x="7304040" y="3718080"/>
            <a:ext cx="104760" cy="115560"/>
          </a:xfrm>
          <a:prstGeom prst="rect">
            <a:avLst/>
          </a:prstGeom>
          <a:solidFill>
            <a:srgbClr val="86d1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8"/>
          <p:cNvSpPr/>
          <p:nvPr/>
        </p:nvSpPr>
        <p:spPr>
          <a:xfrm>
            <a:off x="7467480" y="366552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umereno tež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79"/>
          <p:cNvSpPr/>
          <p:nvPr/>
        </p:nvSpPr>
        <p:spPr>
          <a:xfrm>
            <a:off x="7304040" y="4000680"/>
            <a:ext cx="104760" cy="115560"/>
          </a:xfrm>
          <a:prstGeom prst="rect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80"/>
          <p:cNvSpPr/>
          <p:nvPr/>
        </p:nvSpPr>
        <p:spPr>
          <a:xfrm>
            <a:off x="7467840" y="3949560"/>
            <a:ext cx="1325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težak nefatal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81"/>
          <p:cNvSpPr/>
          <p:nvPr/>
        </p:nvSpPr>
        <p:spPr>
          <a:xfrm>
            <a:off x="7304040" y="4284720"/>
            <a:ext cx="104760" cy="114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82"/>
          <p:cNvSpPr/>
          <p:nvPr/>
        </p:nvSpPr>
        <p:spPr>
          <a:xfrm>
            <a:off x="7466400" y="4232160"/>
            <a:ext cx="61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fatal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običajeni gradijent infekcije 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menj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se 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tokom vremen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(lepra i sifilis su u prošlosti imale veoma tešku kliničku sliku).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omene 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zahvaljujući vakcinacij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(male boginje kod vakcinisanih imaju blag oblik).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Različitost i u 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pojedinim delovima svet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(m. boginje u razvijenom svetu imaju blažu kliničku sliku i letalitet od 0.2-0.3%, tj 100 puta niže nego u zemljama u razvoju, posebno onde gde vlada neuhranjenost i nedostatak vitamina 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Fenomen ledenog breg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značava odnos ukupnog obolevanja koji otkriva ili ne otkriva zdravstvena služba.</a:t>
            </a:r>
            <a:br>
              <a:rPr sz="2800"/>
            </a:br>
            <a:br>
              <a:rPr sz="10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ziva se i “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ajkulino peraj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” i “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uvo nilskog konj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”.</a:t>
            </a:r>
            <a:br>
              <a:rPr sz="2800"/>
            </a:br>
            <a:br>
              <a:rPr sz="10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jveći broj obolelih ne biva evidentiran. 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jveći deo “podvodnog dela ledenog brega”:</a:t>
            </a:r>
            <a:br>
              <a:rPr sz="2800"/>
            </a:br>
            <a:br>
              <a:rPr sz="10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slučajevi koji nisu dospeli do lekar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(osobe sa lakšom kl. slikom ili blagom simptomatologijom koje nisu tražile pomoć)</a:t>
            </a:r>
            <a:br>
              <a:rPr sz="2800"/>
            </a:br>
            <a:br>
              <a:rPr sz="10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pregledani bolesnic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ali im tačna dijagnoza nije postavljena ili nije zabeleže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Fenomen ledenog bre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7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8"/>
          <p:cNvSpPr/>
          <p:nvPr/>
        </p:nvSpPr>
        <p:spPr>
          <a:xfrm flipV="1">
            <a:off x="611280" y="2492280"/>
            <a:ext cx="79930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Freeform 14"/>
          <p:cNvSpPr/>
          <p:nvPr/>
        </p:nvSpPr>
        <p:spPr>
          <a:xfrm>
            <a:off x="1042920" y="4581360"/>
            <a:ext cx="7185240" cy="5432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Freeform 15"/>
          <p:cNvSpPr/>
          <p:nvPr/>
        </p:nvSpPr>
        <p:spPr>
          <a:xfrm>
            <a:off x="1044720" y="5006880"/>
            <a:ext cx="7184880" cy="4651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Freeform 16"/>
          <p:cNvSpPr/>
          <p:nvPr/>
        </p:nvSpPr>
        <p:spPr>
          <a:xfrm>
            <a:off x="1042920" y="3324240"/>
            <a:ext cx="7034400" cy="6602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Freeform 17"/>
          <p:cNvSpPr/>
          <p:nvPr/>
        </p:nvSpPr>
        <p:spPr>
          <a:xfrm>
            <a:off x="1001880" y="3900600"/>
            <a:ext cx="7292880" cy="6890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Freeform 18"/>
          <p:cNvSpPr/>
          <p:nvPr/>
        </p:nvSpPr>
        <p:spPr>
          <a:xfrm>
            <a:off x="522360" y="5595840"/>
            <a:ext cx="7947000" cy="5954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Freeform 19"/>
          <p:cNvSpPr/>
          <p:nvPr/>
        </p:nvSpPr>
        <p:spPr>
          <a:xfrm>
            <a:off x="1109520" y="2938320"/>
            <a:ext cx="6705720" cy="6318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Freeform 21"/>
          <p:cNvSpPr/>
          <p:nvPr/>
        </p:nvSpPr>
        <p:spPr>
          <a:xfrm>
            <a:off x="979560" y="4313160"/>
            <a:ext cx="7445160" cy="4762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Freeform 22"/>
          <p:cNvSpPr/>
          <p:nvPr/>
        </p:nvSpPr>
        <p:spPr>
          <a:xfrm>
            <a:off x="1066680" y="3416400"/>
            <a:ext cx="7162920" cy="7858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Freeform 23"/>
          <p:cNvSpPr/>
          <p:nvPr/>
        </p:nvSpPr>
        <p:spPr>
          <a:xfrm>
            <a:off x="792000" y="5280120"/>
            <a:ext cx="7567920" cy="4953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Kretanje mikroorganizma od svog</a:t>
            </a:r>
            <a:br>
              <a:rPr sz="3600"/>
            </a:b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Izvor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domaćin u kome živi)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roz 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sredinu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putevi prenošenja)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o novog organizma  (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osetljiva populacij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01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ARAKTERISTIKE EPIDEMIJA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A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IH BOLESTI</a:t>
            </a:r>
            <a:br>
              <a:rPr sz="3600"/>
            </a:br>
            <a:br>
              <a:rPr sz="2400"/>
            </a:b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EPIDEMIJA zarazne bolesti jeste porast broja obolelih od zarazne bolesti veći od uobičajenog u određenoj populaciji i određenom vremenu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4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01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pidemiolo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š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ka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klasifikacija zaraznih bolesti se zasniva na ulaznom mestu infekcije</a:t>
            </a: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Epidemijsko javljanje može biti:</a:t>
            </a: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epidemija zajedničkog izvora</a:t>
            </a: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prog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sivne (propagirajuće) epidemije</a:t>
            </a: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Međutim, u našoj praksi je uobičajeno da se epidemije dele podrobnije na osnovu glavnog puta prenošenja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3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4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298440" y="345960"/>
          <a:ext cx="8640720" cy="6135840"/>
        </p:xfrm>
        <a:graphic>
          <a:graphicData uri="http://schemas.openxmlformats.org/drawingml/2006/table">
            <a:tbl>
              <a:tblPr/>
              <a:tblGrid>
                <a:gridCol w="2676600"/>
                <a:gridCol w="2446200"/>
                <a:gridCol w="3517920"/>
              </a:tblGrid>
              <a:tr h="132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pidemiološka klasifikaci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zaraznih bolesti (prema ulaznom mest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ip epidemi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dela epidemija prema putu širen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e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jedničkog izv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drične (indirektan prenos vodo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e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jedničkog izv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imentarne (indirektan prenos hrano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e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esi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nt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tne (direktan prenos dodirom, tj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ljavim rukama i indirektni prenos prek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dmet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pirator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esivne ili zajedničkog izvora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erogene (indirektan prenos vazduhom, tj. nukleosima i prašino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pirator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esi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pljične (direktni prenos kapljicam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žne i druge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esi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ntaktne (direktni prenos dodiro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ktors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esi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ktorske (indirektan prenos vektorim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lne, urinarne, oč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resiv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ntaktne (direktan prenos dodirom, indirektan prenos instrumentim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24000" y="291600"/>
            <a:ext cx="8229600" cy="601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KONTAKTNE EPIDEMIJE</a:t>
            </a:r>
            <a:br>
              <a:rPr sz="3600"/>
            </a:br>
            <a:br>
              <a:rPr sz="10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1. Nema eksplozivnosti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2. Ukupan broj obolelih, po pravilu nije veliki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Slučajevi oboljenja su međusobno povezani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  rodbinskom ili poslovnim vezama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4. 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pidemija dugo traj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5. А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ko se epidemija prikaže grafički,  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   epidemijska krivulja je plitka i razvučena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Inkubacija obično odgovara trajanju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   prosečne inkubacije za tu bolest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7. 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pidemija je lokalizovana na kuću, zaselak, 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   deo naselja i sl.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Kontaktne epidemije nisu vezane za sezonu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9.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Kontaktne epidemije su uvek monotip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Line 3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78920" y="291600"/>
            <a:ext cx="8496360" cy="601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HIDRIČNE EPIDEMIJE</a:t>
            </a:r>
            <a:br>
              <a:rPr sz="1800"/>
            </a:br>
            <a:br>
              <a:rPr sz="1200"/>
            </a:b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1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. Promena organoleptičkih svojstava vode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2. Prisustvo indikatora fekalnog zagađenja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3. Nalaz patogenih uzročnika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4. Pojava vodene bolesti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5. Produžena inkubacija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6. Eksplozivnos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7. Kontrolne grupe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8. U hidričnoj epidemiji obolevaju samo osobe koje su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    konzumirale zagađenu vodu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9. Trajanje hidrične epidemije se poklapa s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    vremenom maksimalne inkubacije za dotičnu boles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0. Kontaktni rep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1. Hidrične epidemije, po pravilu, nemaju sezonski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     karakter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2. Epidemije hidričnog porekla su najčešće politip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Line 3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436240" cy="601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EPIDEMIJE ALIMENTARNOG POREKLA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1. Eksplozivnos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2. Dramatičnos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3. Kratka inkubacija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4. Kratko trajanje epidemij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5. Kontrolne grup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6. Monotipnos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7. Nalaz istog uzročnika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8. Nema kontaktnog repa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9. Sudsko-medicinski značaj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01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EPIDEMIJE  KAPLJIČNOG POREKLA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1. Brzina prenošenja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2. Eksplozivnost epidemij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3. Nagli porast i brzi pad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4. Veliki broj zdravih kliconoš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5. Sezonski karakter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6. Periodičnost ili cikličnost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7. Dečji karakter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8. Koncentrično širen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Line 3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VEKTORSKE EPIDEMIJE</a:t>
            </a:r>
            <a:br>
              <a:rPr sz="3600"/>
            </a:br>
            <a:br>
              <a:rPr sz="16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Epidemije bolesti prenetih hematofagnim artropodama imaju izrazito sezonski karakter koji zavisi od: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- biološkog ciklusa vektora (ritam ishrane, hibernacija i sl.)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- aktivnosti čoveka (sezona poljskih radova, kampovanje itd.)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- ekoloških uslova (kišne ili sušne godine, toplija ili hladnija leta i dr.)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Komarci, krpelji i muve su najaktivniji u toplim mesecima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Vaši koje borave u naborima odeće, nejpovoljniji su hladni meseci.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Povećanje populacije vektora je u direktnoj vezi sa povoljnim klimatskim uslovima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Malarija (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kraljica tropskih bolesti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”)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u velikom delu sveta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U zemljama Evrope najčešće transmisivne bolesti su lajmska i krpeljski meningoencefal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3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3800" spc="-1" strike="noStrike">
                <a:solidFill>
                  <a:srgbClr val="ffff00"/>
                </a:solidFill>
                <a:latin typeface="Times New Roman"/>
              </a:rPr>
              <a:t>Epidemijski proces može biti:</a:t>
            </a:r>
            <a:r>
              <a:rPr b="0" lang="sr-Latn-C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800"/>
            </a:br>
            <a:br>
              <a:rPr sz="36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600" spc="-1" strike="noStrike">
                <a:solidFill>
                  <a:srgbClr val="ff3300"/>
                </a:solidFill>
                <a:latin typeface="Times New Roman"/>
              </a:rPr>
              <a:t>Jednostavan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(morbili)</a:t>
            </a:r>
            <a:br>
              <a:rPr sz="3600"/>
            </a:b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600" spc="-1" strike="noStrike">
                <a:solidFill>
                  <a:srgbClr val="ff3300"/>
                </a:solidFill>
                <a:latin typeface="Times New Roman"/>
              </a:rPr>
              <a:t>Komplikovan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(antropozoonoz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ffff00"/>
                </a:solidFill>
                <a:latin typeface="Times New Roman"/>
              </a:rPr>
              <a:t>Jednostavan epidemijski proces (morbili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3"/>
          <p:cNvSpPr/>
          <p:nvPr/>
        </p:nvSpPr>
        <p:spPr>
          <a:xfrm>
            <a:off x="1619280" y="2851200"/>
            <a:ext cx="28728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1619280" y="342756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1619280" y="4003560"/>
            <a:ext cx="2872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1619280" y="4579920"/>
            <a:ext cx="287280" cy="289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3851280" y="249084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3851280" y="306720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3851280" y="3643200"/>
            <a:ext cx="2872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14"/>
          <p:cNvSpPr/>
          <p:nvPr/>
        </p:nvSpPr>
        <p:spPr>
          <a:xfrm>
            <a:off x="3851280" y="4146480"/>
            <a:ext cx="287280" cy="289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15"/>
          <p:cNvSpPr/>
          <p:nvPr/>
        </p:nvSpPr>
        <p:spPr>
          <a:xfrm>
            <a:off x="3851280" y="479592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6"/>
          <p:cNvSpPr/>
          <p:nvPr/>
        </p:nvSpPr>
        <p:spPr>
          <a:xfrm>
            <a:off x="5580000" y="249084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5580000" y="3067200"/>
            <a:ext cx="28728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8"/>
          <p:cNvSpPr/>
          <p:nvPr/>
        </p:nvSpPr>
        <p:spPr>
          <a:xfrm>
            <a:off x="5580000" y="4146480"/>
            <a:ext cx="287280" cy="289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19"/>
          <p:cNvSpPr/>
          <p:nvPr/>
        </p:nvSpPr>
        <p:spPr>
          <a:xfrm>
            <a:off x="5580000" y="4795920"/>
            <a:ext cx="287280" cy="28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20"/>
          <p:cNvSpPr/>
          <p:nvPr/>
        </p:nvSpPr>
        <p:spPr>
          <a:xfrm>
            <a:off x="7451640" y="2490840"/>
            <a:ext cx="28728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21"/>
          <p:cNvSpPr/>
          <p:nvPr/>
        </p:nvSpPr>
        <p:spPr>
          <a:xfrm>
            <a:off x="7451640" y="4003560"/>
            <a:ext cx="2872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6588000" y="29224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Osetljiva oso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6443640" y="436392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Neosetljiva oso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1763640" y="31384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1763640" y="37148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7"/>
          <p:cNvSpPr/>
          <p:nvPr/>
        </p:nvSpPr>
        <p:spPr>
          <a:xfrm>
            <a:off x="1763640" y="42908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8"/>
          <p:cNvSpPr/>
          <p:nvPr/>
        </p:nvSpPr>
        <p:spPr>
          <a:xfrm flipV="1">
            <a:off x="1908000" y="2634840"/>
            <a:ext cx="194328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29"/>
          <p:cNvSpPr/>
          <p:nvPr/>
        </p:nvSpPr>
        <p:spPr>
          <a:xfrm flipV="1">
            <a:off x="1908000" y="3211200"/>
            <a:ext cx="1943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0"/>
          <p:cNvSpPr/>
          <p:nvPr/>
        </p:nvSpPr>
        <p:spPr>
          <a:xfrm>
            <a:off x="1908000" y="3571920"/>
            <a:ext cx="1943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31"/>
          <p:cNvSpPr/>
          <p:nvPr/>
        </p:nvSpPr>
        <p:spPr>
          <a:xfrm>
            <a:off x="4140360" y="26352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32"/>
          <p:cNvSpPr/>
          <p:nvPr/>
        </p:nvSpPr>
        <p:spPr>
          <a:xfrm>
            <a:off x="4140360" y="321156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33"/>
          <p:cNvSpPr/>
          <p:nvPr/>
        </p:nvSpPr>
        <p:spPr>
          <a:xfrm flipV="1">
            <a:off x="1908000" y="4290840"/>
            <a:ext cx="19432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34"/>
          <p:cNvSpPr/>
          <p:nvPr/>
        </p:nvSpPr>
        <p:spPr>
          <a:xfrm>
            <a:off x="1908000" y="4795920"/>
            <a:ext cx="194328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35"/>
          <p:cNvSpPr/>
          <p:nvPr/>
        </p:nvSpPr>
        <p:spPr>
          <a:xfrm>
            <a:off x="4140360" y="429084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36"/>
          <p:cNvSpPr/>
          <p:nvPr/>
        </p:nvSpPr>
        <p:spPr>
          <a:xfrm>
            <a:off x="4140360" y="493884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ffff00"/>
                </a:solidFill>
                <a:latin typeface="Times New Roman"/>
              </a:rPr>
              <a:t>Komplikovan epidemijski proc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glodar 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hr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Rezervo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zaraze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vektor 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čovek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čov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(divlji glodar)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(put prenošenja)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v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1979640" y="3933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3203640" y="3284640"/>
            <a:ext cx="2305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5940360" y="2781360"/>
            <a:ext cx="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7307280" y="3933720"/>
            <a:ext cx="360360" cy="35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6443640" y="335772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 flipV="1">
            <a:off x="8172360" y="3933360"/>
            <a:ext cx="360360" cy="35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8604360" y="3500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882000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 flipV="1">
            <a:off x="8532720" y="3499920"/>
            <a:ext cx="28728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Za nastanak bolesti su odgovorni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odnosi koji vladaju između:</a:t>
            </a:r>
            <a:br>
              <a:rPr sz="3600"/>
            </a:b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agensa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domaćin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sred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Ti odnosi se mogu šematizovano prikazati kao modeli nastanka bolesti: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Model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ekološkog trijas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(Gordonov trijas)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Model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lanca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Model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točka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Model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mreže uzro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Model ekološkog trijasa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 (Gordonov trijas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                                 ( model terazija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                                    (model klackal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Agens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Domać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Sred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1619280" y="4149720"/>
            <a:ext cx="619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2556000" y="357336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6659640" y="357336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4500720" y="4149720"/>
            <a:ext cx="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06:17:37Z</dcterms:created>
  <dc:creator>Z V</dc:creator>
  <dc:description/>
  <dc:language>en-US</dc:language>
  <cp:lastModifiedBy>Tasman</cp:lastModifiedBy>
  <dcterms:modified xsi:type="dcterms:W3CDTF">2009-10-29T11:07:54Z</dcterms:modified>
  <cp:revision>102</cp:revision>
  <dc:subject/>
  <dc:title>EPIDEMIOLOGIJA ZARAZNIH BOLESTI</dc:title>
</cp:coreProperties>
</file>