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76A8-47C4-41A9-91A8-CFC883632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CDC7-7800-4722-BC58-5F75D7B4E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BB30-53C0-48F9-AEC5-D64DD639F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D552-3983-44A0-A079-9C6EAF85A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3516F8-41BE-49AF-825D-C57A10B17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D20725-2AA5-4BEA-81ED-D4C65AC3D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74D9A6-1ED2-4AD9-918B-B492EA3F3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3D5117-9F49-4CBA-A8CA-FD3D0A77B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5716A1-0613-4536-99E2-09B1BACF7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C37AC9-F240-4A0E-AD4A-C8EF185E2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7B271C-2529-4883-939A-67AADB429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4128-4C4D-42A8-A2E7-9251AA785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42154D-2257-445C-A57B-A6B1BB880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FFCC29-2B11-4113-9DD6-5858BA37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7FA619-44A1-4B75-98C2-6B2D3D8DC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503E6B-37A9-407E-AADE-88255A6C7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8FBEAE-07E4-4B22-BC85-461921584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95F4-7EEB-4879-84B5-E37360F50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21D0-A5EE-4A9D-A6C7-20EAC5C08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6C7C-3CB1-4EC7-B294-BDB4D6945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CF5D-186D-4CB2-8D44-8E06DD49A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9E26-4874-47FA-8E58-32330D997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A10D-0A3F-499E-B84D-CA31B17A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73CD-C472-4E1C-A681-2E809B9D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3B574-6B53-4752-B919-89077B186D05}" type="slidenum">
              <a:rPr b="0" lang="sr-Latn-C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C12B2-290A-4C82-A578-8032A9B17245}" type="slidenum">
              <a:rPr b="0" lang="sr-Latn-C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cc00"/>
                </a:solidFill>
                <a:latin typeface="Times New Roman"/>
              </a:rPr>
              <a:t>EPIDEMIOLOŠKI RAD U VANREDNIM SITUACIJAM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9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cc00"/>
                </a:solidFill>
                <a:latin typeface="Times New Roman"/>
              </a:rPr>
              <a:t>Prof. dr Zoran Veličkovi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7993080" cy="55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Neposredno nakon katastrofe preduzimaju se najpre tzv. urgentne mere: </a:t>
            </a:r>
            <a:br>
              <a:rPr sz="3200"/>
            </a:b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- evakuacija i smeštaj ugroženog stanovništva,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- obezbeđenje higijenski ispravne vode za piće i ishrane,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- pronalaženje i sahranjivanje umrlih,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- borba protiv psihičkih poremećaja,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- pravovremeno, stalno i pravilno informisanje stanovništv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79930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osle ovih urgentnih mera sprovodi se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- popravka oštećenih stambenih objekata,</a:t>
            </a:r>
            <a:br>
              <a:rPr sz="3200"/>
            </a:b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- sanacija vodnih objekata i kanalizacije,</a:t>
            </a:r>
            <a:br>
              <a:rPr sz="3200"/>
            </a:b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- sanitacija uže okoli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799308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U svim vanrednim situacijama formiraju se posebni štabovi koji rukovode, koordiniraju i usmeravaju celokupan rad na otklanjanju, odnosno umanjivanju posledica katastrof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10920" y="856800"/>
            <a:ext cx="79930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Zavisno od priroda nesreće u sastavu štaba nalaze se različiti profili stručnjaka, ali je uvek pored predstavnika društvene zajednice obavezno prisutan i lekar specijalista epidemiologije i higije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9152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anredna situacija,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 u epidemiološkom smislu, predstavlja stanje kada na određenom prostoru,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iznenada i za kratko vreme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dođe do takve ugroženosti zdravlja ili života ljudi, čije se posledice ne mogu otkloniti u poželjno vreme i sa postojećom organizacijom zdravstvene služb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79930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Vanredne situacije mogu se podeliti na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a) prirodne elementarne nesreće</a:t>
            </a:r>
            <a:br>
              <a:rPr sz="3200"/>
            </a:b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b) nesreće koje su posledica delovanja čoveka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79930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sr-Latn-CS" sz="3200" spc="-1" strike="noStrike">
                <a:solidFill>
                  <a:srgbClr val="ffff00"/>
                </a:solidFill>
                <a:latin typeface="Times New Roman"/>
              </a:rPr>
              <a:t>Osnovne karakteristike vanredne situacije su: </a:t>
            </a:r>
            <a:br>
              <a:rPr sz="3200"/>
            </a:b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- pogađaju veliki broj ljudi, 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- izazivaju velika oštećenja, 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- postoji potreba za pomoći, 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- najčešće govori o masovnim nesrećama ili katastrofam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79930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Masovne nesreće se razlikuju po</a:t>
            </a:r>
            <a:r>
              <a:rPr b="0" lang="sr-Latn-CS" sz="2800" spc="-1" strike="noStrike">
                <a:solidFill>
                  <a:srgbClr val="ffff00"/>
                </a:solidFill>
                <a:latin typeface="Times New Roman"/>
              </a:rPr>
              <a:t>:</a:t>
            </a:r>
            <a:br>
              <a:rPr sz="2800"/>
            </a:br>
            <a:br>
              <a:rPr sz="2800"/>
            </a:b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uzroku nastanka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(zemljotres, poplava, eksplozivne materije, epidemije, ratna katastrofa);</a:t>
            </a:r>
            <a:br>
              <a:rPr sz="2800"/>
            </a:br>
            <a:br>
              <a:rPr sz="2800"/>
            </a:b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prostranstvu koje zahvataju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(uža ili šira teritorija ili je neposredno ugrožavaju);</a:t>
            </a:r>
            <a:br>
              <a:rPr sz="2800"/>
            </a:br>
            <a:br>
              <a:rPr sz="2800"/>
            </a:b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intenzitet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u (obim materijalnog razaranja i broj žrtav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79930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osle katastrofalnog događaja dolazi do nagle i drastične promene života. Poseban značaj imaju:</a:t>
            </a:r>
            <a:br>
              <a:rPr sz="3200"/>
            </a:b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- pogoršanje uslova stanovanja,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- poremećeno snabdevanje vodom za piće i       životnim namirnicama,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- pogoršanje sanitarnih prilika,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- fizička i psihička iscrpljenos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79930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Normalne aktivnosti u praćenju i suzbijanju zaraznih bolesti su veoma otežane što dodatno otežava i onako pogoršanu epidemiološku situaciju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0920" y="714240"/>
            <a:ext cx="7993080" cy="44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Izmenjeni uslovi života veoma pogoduju nastanku i širenju zaraznih bolesti, važno je intenzivirati epidemiološko izviđanje i osmatranje terena, a ukoliko je potrebno i epidemiološko ispitivanj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79930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Zaštita zdravlja u vanrednim situacijama predstavlja produžetak svih oblika zaštite zdravlja koji se primenjuju u svakodnevnom radu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09:44:06Z</dcterms:created>
  <dc:creator>zoran</dc:creator>
  <dc:description/>
  <dc:language>en-US</dc:language>
  <cp:lastModifiedBy>Tasman</cp:lastModifiedBy>
  <dcterms:modified xsi:type="dcterms:W3CDTF">2009-11-04T08:44:14Z</dcterms:modified>
  <cp:revision>91</cp:revision>
  <dc:subject/>
  <dc:title>PROFILAKSA ZARAZNIH BOLESTI</dc:title>
</cp:coreProperties>
</file>