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E4D-2426-4874-9111-3A7C1B73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FF4-3561-4A5E-81B3-EC3E179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365-431C-48FF-9D2E-D35D1319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A33-8BA7-4F4E-B834-99A4896E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5E29-23AF-447C-8492-A6764257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F794-E0BB-4490-BEA6-E31D763C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6251-DB2A-480B-A7A5-FFDEA79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57F-A5DE-4DC9-8C06-EC549142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3938-B2A4-4D6A-BBED-0ACBE9EE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B95-2918-4FC6-841F-88B978B0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FD56-4938-4B0C-84A1-E65B854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A4F-A651-4B57-AB93-AC4F5DEF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E4BC-7EED-4CA0-AE27-43C11C1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B91D-EE36-42F1-93EC-C6194C6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3542-060A-43C3-9D34-AB17BD9A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C15-F71B-4C66-8715-A0F337B2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48CF-D287-43C1-8BA8-CA701ABE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7CC-F260-4B83-8D6A-DF27C3F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D35-3385-4F5E-BD64-E3CADB06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9EA-051D-4A03-961A-D1A47B2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065-A121-4B65-8786-EFA8215B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102-6846-49D0-B069-40CA6AE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B01-2B97-4A57-9CF2-799023F6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062-D762-4EC8-BBA8-65687FD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B58-EC01-4E6C-97F5-6C9DA918E66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508-8FAA-4600-A130-3387A64676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KARDIOVASKULARNE BOLESTI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Prof dr Branislav Petrović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Mortalit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KVB predstavljaju vodeći uzrok umiranja u svim delovima sveta osim u subsaharskoj Africi, gde dominiraju zarazne boles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U Evropi su vodeći uzrok umiranj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Oko 30% izgubljenih godina života u Evropi nastalo je zbog KV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Najveće stope smrtnosti od KVB  su u Rusiji i drugim bivšim socijalističkim zemljama Evr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Najniže stope su u Japanu i Francuskoj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IBS, posebno posmatrana, je vodeći uzrok smrti u celom svetu (12%), osim u Africi i na zapadnom Pacifiku. Vodeći je uzrok smrti u Evropi (2 miliona godišnje) –oko 50%o od svih KV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Srbija – IBS u strukturi mortaliteta od KVB učestvuje sa oko 19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Tr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Na početku 20. Veka   KVB su u svetu učestvovale u ukupnom mortalitetu sa manje od 1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Krajem dvadesetog veka KVB u mortalitetu učestvuju od 25% (zemlje u razvoju) do 50% (razvijene zemlj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2020. U celom svetu učešće KVB u ukupnom mortalitetu iznosiće oko 36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Arial"/>
              </a:rPr>
              <a:t>U zadnjoj četvrtini 20. Veka dolazi do opadanja trenda umiranja od KVB u Americi, Australiji i nekim evropskim zemlja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bd189"/>
                </a:solidFill>
                <a:latin typeface="Arial"/>
              </a:rPr>
              <a:t>Trend incidencije i letaliteta od KVB (Monica projekat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8480" y="1682640"/>
          <a:ext cx="7530840" cy="812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682640"/>
                    <a:ext cx="7530840" cy="812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90720" y="1828800"/>
          <a:ext cx="8001000" cy="4654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800100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bd189"/>
                </a:solidFill>
                <a:latin typeface="Arial"/>
              </a:rPr>
              <a:t>Karakteristike obolelih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Uzrast i po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Arial"/>
              </a:rPr>
              <a:t>Spadaju u najvažnije faktore rizi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Socioekonomske i etničke razlik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Arial"/>
              </a:rPr>
              <a:t>Polovinom 20. Veka više su obolevale osobe iz višeg socio-ekonomskog statusa, a danas iz nižeg (manja fizička aktivnost, pušenj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Arial"/>
              </a:rPr>
              <a:t>Najveći rizik obolevanja ima crna rasa u Americi (gojazniji su, imaju viši krvni pritisak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Faktori rizik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Glavni faktori rizi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zrast i pol</a:t>
            </a:r>
            <a:r>
              <a:rPr b="0" lang="sr-Latn-CS" sz="2400" spc="-1" strike="noStrike">
                <a:solidFill>
                  <a:srgbClr val="eaeaea"/>
                </a:solidFill>
                <a:latin typeface="Arial"/>
              </a:rPr>
              <a:t> – Muškarci obolevaju češće nego žene, ali žene posle menopauze češće od muškaraca (gubi se protektivno dejstvo estrogene); sa starošću rizik se povećav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ušenje</a:t>
            </a:r>
            <a:r>
              <a:rPr b="0" lang="sr-Latn-CS" sz="2400" spc="-1" strike="noStrike">
                <a:solidFill>
                  <a:srgbClr val="eaeaea"/>
                </a:solidFill>
                <a:latin typeface="Arial"/>
              </a:rPr>
              <a:t> – povećava rizik za 70%, a pušenje više od 40 cigareta dnevno uvećava ga 200-300%; Prestanak pušenja smanjuje rizik za oko 50% u toku jedne godine , a za 10-15 godina izjednačava se sa rizikom kod nepušač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Faktori rizik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ovećan nivo LDL</a:t>
            </a:r>
            <a:r>
              <a:rPr b="0" lang="sr-Latn-CS" sz="3200" spc="-1" strike="noStrike">
                <a:solidFill>
                  <a:srgbClr val="eaeaea"/>
                </a:solidFill>
                <a:latin typeface="Arial"/>
              </a:rPr>
              <a:t> holestero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ovećanje ukupnog holestero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manjenje HDL holestero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Zadovoljavajući nivo holesterola  do 5mm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Granične vrednosti 5-6.5 mmol/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Visoke vrednosti više od 6.5 mmol/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Kod žena u postmenopauzi holesterol ras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Faktori rizik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rterijska hipertenzi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Porast pritiska za 20/10 udvostručava rizi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Kod mladjih osoba važan je i sistolni i dijastolni krvni pritisak, a kod starijih važniji je sistol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Dijabe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75-80% dijabetičara umire zbog KV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Žene sa dijabetesom imaju 3-7 puta veći rizik, a muškarci 2-3 puta od nastanka IB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Ostali faktori rizik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Nasledni faktor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Gojaznost (abdominalni ti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Fizička neaktivno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Nepravilna ishr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Oralni kontraceptiv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sihosocijalni faktor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Metabolički sindrom (hipertenzija, gojaznost, dijabetes, hipertrigiceridemija, sniženje HD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Infekcije (Clamidia pneumonije, CMV, Helicobacter pylori..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PREVENCIJ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rimordijalna prevenci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Sprečavanje nastanka i uspostavljanje sredinskih, ekonomskih, socijalnih i bihevijoralnih uslova u populaciji za koje se zna da povećavaju rizik obolevanja (način ishrane, pušenj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Očuvanje dobrih navika stanovništva (fizička aktivnost, nepušenje, ishrana siromašna mastima i s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PREVENCIJ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rima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Cilj je smanjenje incidenci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Orijentacija na opštu populaciju (izmena načina života pojedinaca – pušenje, ishrana i fizička neaktivnos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Orijentacija na osobe sa velikim rizikom (lečenje hiperholesterolemije, hipertenzije, infekcija, smanjenje gojaznosti i s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RDIOVASKULARNA OBOLJENJA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Predstavljaju veliki epidemiolo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ki problem zbog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1.visokog mortaliteta (na prvom mestu medju definisanim uzrocima smrt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2.visokog morbiditeta, koji ima karakteristike epidemije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3.velikih ekonomskih posledica ( u smislu gubitka radne sposobnosti i le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enja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Ove bolesti u svetu, uglavnom, pokazuju  trend porasta, koji je, pre svega posledica na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ina 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ivota i rada ( nepravilna ishrana, fizi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ka neaktivnost i str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bd189"/>
                </a:solidFill>
                <a:latin typeface="Arial"/>
              </a:rPr>
              <a:t>PREVENCIJ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ekunda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Sprečavanje recidiva neke KVB, progresije bolesti, i snižavanje mortalit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Skrining: rano otkrivanje bolesti u asimptomatskoj fazi (EKG i test opterećenj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Arial"/>
              </a:rPr>
              <a:t>Rano otkrivanje faktora rizika (hipertenzije, odredjivanje nivoa holesterola, šećer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228240"/>
            <a:ext cx="78487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Klini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ki oblici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1.Koronarna bolest srca (u svetu je u porastu, posebno kod mladjih ljud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2.Hipertenzija (takodje u porastu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3.Reumatsko oboljenje srca (u nerazvijenim zemljama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 u porastu,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 u 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ostalim 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u 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opadanju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4.Urodjene sr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ane ma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5.Arterioskleroza (u porastu je, a u neposrednoj vezi je sa hipertenzijom i koronarnom bole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u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Smrtnost od KVB je u razvijenim zemljama u padu, a u nerazvijenim u porastu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U razvijenim zemljama 40-50% smrtnosti je zbog KVB (najvi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e u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estvuju apopleksije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cc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Visok pritisak je uobi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ajena bolest u svim zemljama.Direktno uti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e na pojavu koronarne bolesti, sr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anog i mo</a:t>
            </a:r>
            <a:r>
              <a:rPr b="1" lang="sr-Latn-CS" sz="2400" spc="-1" strike="noStrike">
                <a:solidFill>
                  <a:srgbClr val="ccff33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danog udar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torijski pregl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Period velikih studija koje su pove</a:t>
            </a: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e nivo </a:t>
            </a: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nja o etiologiji KVB </a:t>
            </a: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50-</a:t>
            </a: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198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Arial"/>
              </a:rPr>
              <a:t>Framingemska studij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Arial"/>
              </a:rPr>
              <a:t>Projekat sedam zemalj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2. Eksperimentalna potvrda kauzalne povezanosti hiperholesterolemije i hipertenzije sa koronarnim rizikom (1980-199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Arial"/>
              </a:rPr>
              <a:t>MONIC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3. Period publikovanja mnogobrojnih preporuka za prevenciju KVB (posle 199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bd189"/>
                </a:solidFill>
                <a:latin typeface="Arial"/>
              </a:rPr>
              <a:t>Epidemiološki znača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Vodeći uzrok umiranja u većini razvijenih zemal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Svake godine u svetu umre 70 miliona ljudi (preko 30% mortalitet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1/3 umrlih je u srednjem životnom dob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Značajan uzrok radne nesposobn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Uzrok velikom troškovima zdravstvene zašt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Vodeći uzropk preveremene smrtnosti (pre 65. godin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Arial"/>
              </a:rPr>
              <a:t>U razvijenim zemljama dolazi do snižavanja stopa mortaliteta, a u nerazvijenim je u porast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bd189"/>
                </a:solidFill>
                <a:latin typeface="Arial"/>
              </a:rPr>
              <a:t>Rasprostranjenost i učestalos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Arial"/>
              </a:rPr>
              <a:t>Najčešće KVB u fazama epidemiološke tranzici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2438280"/>
          <a:ext cx="7619760" cy="431496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az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češće KVB u svim uzrocima smr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jčešće KV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šasti i glad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umatska bolest srca, kardiomiopatije zbog infekcija i malnutricij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vlačenje pandemij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35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umatsko oboljenje srčanih valvula, hipertenzij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generativnih i ponašajnih boles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5-65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hemijska bolest srca moždani ud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dložene pojave degenerativnih bole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ždani udar ishemijska bolest srca kongestivna srčana slabos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bd189"/>
                </a:solidFill>
                <a:latin typeface="Arial"/>
              </a:rPr>
              <a:t>Incidencij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Arial"/>
              </a:rPr>
              <a:t>Ni u jednoj zemlji ne postoji redovno prikupljanje podataka o incidenciji KV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Arial"/>
              </a:rPr>
              <a:t>Uglavnom se koriste podaci MONICA studi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eaeaea"/>
                </a:solidFill>
                <a:latin typeface="Arial"/>
              </a:rPr>
              <a:t>Najčešće se prati ishemijska bolest sr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ebd189"/>
                </a:solidFill>
                <a:latin typeface="Arial"/>
              </a:rPr>
              <a:t>Prosečne godišnje stope incidencije koronarnih dogadjaja 1990-1995 (MONICA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1600200"/>
          <a:ext cx="7610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610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Standardizovane stope mortaliteta muškaraca od KVB u pojedinimj zemljama krajem 20. veka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828800"/>
          <a:ext cx="8153640" cy="45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815364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06:56:56Z</dcterms:created>
  <dc:creator>bb</dc:creator>
  <dc:description/>
  <dc:language>en-US</dc:language>
  <cp:lastModifiedBy>IZJZ</cp:lastModifiedBy>
  <dcterms:modified xsi:type="dcterms:W3CDTF">2009-01-14T09:04:36Z</dcterms:modified>
  <cp:revision>12</cp:revision>
  <dc:subject/>
  <dc:title>KARDIOVASKULARNE BOLESTI</dc:title>
</cp:coreProperties>
</file>