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EE2-AD8F-4537-BA0A-65C36129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66A-6B7D-424B-A236-ED0E806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8F4-6D78-428D-A00E-6653B911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5C0-3D02-4B8E-8D0A-055D4202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330B-3589-4BF1-8EEF-046E12F1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1231-F950-477D-BF68-89E5F3EF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CFE7-40BC-4736-BC7C-2B553A1D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A2EF-648B-4F87-8C49-5F7AC41B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46D2-3855-41E9-A961-018264FE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8CC6-C952-40D1-9865-11F69AE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5A63-E383-49F0-9FCE-0F9078C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F87-9979-42AE-9268-A9EF21D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943E-91EA-4DB2-9FEE-03C5B0B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2560-EB35-42E4-A8A2-9358C03C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E536-BC2A-4E9B-89DC-4AF4982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47E-AC3C-4502-818F-09DB61F5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3C68-3688-429C-B6AD-2B6C5B46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484-779A-436C-BDCC-7A439D33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A01-98FF-447A-A118-27EDCDAA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A127-18FB-4148-8DA8-14E7A37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47A-5431-463F-9D9E-0517C1C3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EA2-937C-4DC0-A62B-B8F0B659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F8B-5451-402D-A47A-09B4D84C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FEA-81DD-4B36-8AD9-C4E0B19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5C9-4039-4A6E-9195-A4A82809B9F7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AFD-14E2-43FE-8043-F2E43F04C325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99640" y="4292640"/>
            <a:ext cx="72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f. dr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Zoran Veličk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sr-Latn-CS" sz="5400" spc="-1" strike="noStrike">
                <a:solidFill>
                  <a:srgbClr val="ffff00"/>
                </a:solidFill>
                <a:latin typeface="Times New Roman"/>
              </a:rPr>
              <a:t>ANAC INFEKCIJ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928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</a:rPr>
              <a:t>kao bolesnik</a:t>
            </a:r>
            <a:br>
              <a:rPr sz="5400"/>
            </a:br>
            <a:br>
              <a:rPr sz="28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a) inkuacij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) prodromalni period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c) razvijena faza bolesti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- tipičn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- atipičn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- laka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               - teška   </a:t>
            </a:r>
            <a:br>
              <a:rPr sz="3200"/>
            </a:b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d) rekonvalescen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7581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</a:rPr>
              <a:t>kao kliconoša</a:t>
            </a:r>
            <a:br>
              <a:rPr sz="4800"/>
            </a:b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a) zdravo (asimptomatsko)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privremeno (tranzitorno)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hronično</a:t>
            </a:r>
            <a:br>
              <a:rPr sz="3600"/>
            </a:br>
            <a:br>
              <a:rPr sz="1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b) inkubatorno</a:t>
            </a:r>
            <a:br>
              <a:rPr sz="3600"/>
            </a:br>
            <a:br>
              <a:rPr sz="8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c) rekonvalescentn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ZLAZNO MESTO</a:t>
            </a:r>
            <a:br>
              <a:rPr sz="3600"/>
            </a:br>
            <a:br>
              <a:rPr sz="2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Iz organizma domaćina infektivni agens različitim sekretom (pljuvačka, suze, mleko) ili ekskretom (stolica, mokraća, gnoj) dospeva u spoljnu sredinu. Ovo je uslovljeno organom ili sistemom organa koji su zahvaćeni infektivnim proces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</a:rPr>
              <a:t>Sluznica</a:t>
            </a:r>
            <a:br>
              <a:rPr sz="4800"/>
            </a:br>
            <a:br>
              <a:rPr sz="1400"/>
            </a:b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a) respiratorna (respiratorne z.b.)</a:t>
            </a:r>
            <a:br>
              <a:rPr sz="4000"/>
            </a:b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b) digestivna (crevne z.b.)</a:t>
            </a:r>
            <a:br>
              <a:rPr sz="4000"/>
            </a:b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c) genitalna (polne b.)</a:t>
            </a:r>
            <a:br>
              <a:rPr sz="4000"/>
            </a:b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d) urinarna (infekcija mokraćnih organa)</a:t>
            </a:r>
            <a:br>
              <a:rPr sz="4000"/>
            </a:b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e) konjuktive (očne z.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sr-Latn-CS" sz="4800" spc="-1" strike="noStrike">
                <a:solidFill>
                  <a:srgbClr val="ffff00"/>
                </a:solidFill>
                <a:latin typeface="Times New Roman"/>
              </a:rPr>
              <a:t>Koža</a:t>
            </a:r>
            <a:br>
              <a:rPr sz="4800"/>
            </a:br>
            <a:br>
              <a:rPr sz="1200"/>
            </a:br>
            <a:br>
              <a:rPr sz="12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a) intaktna (kožne i druge ifekcije)</a:t>
            </a: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b) povređena (vektorske, ubod igle,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hirurška intervencija, transfuzij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PUTEVI  PRENOŠENJA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- direkta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</a:rPr>
              <a:t>- indirek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DIREKTAN</a:t>
            </a:r>
            <a:br>
              <a:rPr sz="4000"/>
            </a:br>
            <a:br>
              <a:rPr sz="16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irektni kontak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dodir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br>
              <a:rPr sz="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rukovanje – crevne, respiratorne i kožne z.b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oljubac – inf. mononukleoza, osipne groznice i dr.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olni odnos – polno prnosive infekcije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porođaj – prolaz kroz porođajni kanal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ujed ili lizanje besne životinje)</a:t>
            </a:r>
            <a:br>
              <a:rPr sz="2400"/>
            </a:br>
            <a:br>
              <a:rPr sz="1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kapljice nazofaringealnog sekret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kontakt sa zemljište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ff3300"/>
                </a:solidFill>
                <a:latin typeface="Times New Roman"/>
              </a:rPr>
              <a:t>transplacetarn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sifilis, kongenitalna  rubeola, CMV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toksoplazmoza, HBV, HCV, HIV i dr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425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INDIREKTAN</a:t>
            </a:r>
            <a:br>
              <a:rPr sz="4000"/>
            </a:br>
            <a:br>
              <a:rPr sz="1400"/>
            </a:b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predmet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indirektni dodir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 maramice, peškiri, odeća, igračke, pribor za jelo,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medicinski instrumenti, posteljina, kvake, novac, baterije za vodu, knjige, novine i sl.)</a:t>
            </a:r>
            <a:br>
              <a:rPr sz="2800"/>
            </a:br>
            <a:br>
              <a:rPr sz="9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biološki produkti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krv, trnspl. organa – sifilis, HIV, HBV, HCV, malarija, CJ bolest)</a:t>
            </a:r>
            <a:br>
              <a:rPr sz="2800"/>
            </a:br>
            <a:br>
              <a:rPr sz="9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hran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voda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vazduh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vektor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Koža:</a:t>
            </a:r>
            <a:br>
              <a:rPr sz="32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Raznih vektorskih bolesti, koje ubodom ili kontaminacijom prenose zglavkari (malarija, pegavi tifus, lajmska bolest, razne hemoragijske groznice itd.),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olesti koje se prenose zemljištem (tetanus, gasna gangrena, rudarska glista),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olesti koje se prenose vodom (leptospiroza, neki paraziti) 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- Bolesti koje se prenose kontaktom (gljivične i druge infekcije kož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2372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ULAZNO MES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Sluzokoža:</a:t>
            </a: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Sluzokoža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respiratornog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trakta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Sluzokoža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digestivnog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trakta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Sluzokoža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genitourinarnog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 sistema</a:t>
            </a:r>
            <a:br>
              <a:rPr sz="3600"/>
            </a:br>
            <a:r>
              <a:rPr b="1" lang="sr-Latn-CS" sz="3600" spc="-1" strike="noStrike">
                <a:solidFill>
                  <a:srgbClr val="ffffff"/>
                </a:solidFill>
                <a:latin typeface="Times New Roman"/>
              </a:rPr>
              <a:t>- Sluzokoža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konjuk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nac ifekcij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Za održavanje zaraznih bolesti neophodno je da biološki agens kruži od rezervoara zaraze, preko odgovarajućih puteva do osetljivih domaćina. Uobičajeno je da se prikazuje sledećih šest karika lanca infekcije: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. Infektivni agens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2. Rezervoar i izvor infekcije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3. Izlazno mesto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4. Putevi prenošenja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5. Ulazno mesto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6. Osetljiv domać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435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eri povezanosti izlaznog mesta, puta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širenja i ulaznog m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96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hom, druga zapaljenja konjunk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juk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48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prenos (dod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579276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junktiva (suze, drugi sekret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96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filis, gonoreja, sida, hepatitis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alna sluz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8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ksualni konta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515304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talna sluznica (sekr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96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nojnice, gljivična oboljenja; hepatitis B,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8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dodir) 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ktni prenos (igle, brizgalice is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129200"/>
            <a:ext cx="2124000" cy="102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 (inficirana i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vređe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ja, pegavac, papataći groz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8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kt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489480"/>
            <a:ext cx="2124000" cy="63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ža (ubod vekt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96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zenterija, trbuš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fus, hepatitis 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vne parazito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digesti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nog trak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48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dodir) i indirektni prenos </a:t>
            </a:r>
            <a:r>
              <a:rPr b="1" lang="sl-SI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rana,voda, predme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2332080"/>
            <a:ext cx="2124000" cy="115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digestivnog trakta (stol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96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iki kašalj, grip, tuberkuloza, zauš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respira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rnog trak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48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ni (kaplj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indirektni pre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ukleusi, praši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17680"/>
            <a:ext cx="212400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uznica respira-tornog trakta (sluz, pljuvač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96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rimer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l-SI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</a:t>
            </a:r>
            <a:r>
              <a:rPr b="1" lang="sl-SI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Ulazno m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48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ut širen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052640"/>
            <a:ext cx="2124000" cy="36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zlazno m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05264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670716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20000" y="1052640"/>
            <a:ext cx="180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4176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8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1052640"/>
            <a:ext cx="144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96000" y="1052640"/>
            <a:ext cx="1800" cy="565452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3320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48948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12920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15304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5792760"/>
            <a:ext cx="849600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4360" y="673200"/>
            <a:ext cx="8064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EPIDEMIOLOŠKA KLASIFIKACIJ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00"/>
                </a:solidFill>
                <a:latin typeface="Times New Roman"/>
              </a:rPr>
              <a:t>ZARAZNIH BOLE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Na osnovu glavnog ulaznog mest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- respiratorne zarazne bole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- crevne zarazne bole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- vektorske, kožne i infekcije 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- očne bole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- urinogenitalne bole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11280" y="128160"/>
            <a:ext cx="7221600" cy="63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ff00"/>
                </a:solidFill>
                <a:latin typeface="Times New Roman"/>
              </a:rPr>
              <a:t>OSETLJIV DOMAĆ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ffff"/>
                </a:solidFill>
                <a:latin typeface="Times New Roman"/>
              </a:rPr>
              <a:t>Na verovatnoću zaražavanja utič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1. faktori dispozicija i ekspozicij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-  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uzr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rasna, etnička i verska pripad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socijalno-ekonomski polo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ishr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psihičke i fizičke trau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l-SI" sz="2800" spc="-1" strike="noStrike">
                <a:solidFill>
                  <a:srgbClr val="ffffff"/>
                </a:solidFill>
                <a:latin typeface="Times New Roman"/>
              </a:rPr>
              <a:t>-  druge bolesti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2. nivo kolektivnog imuniteta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nfektivni agens</a:t>
            </a:r>
            <a:br>
              <a:rPr sz="4000"/>
            </a:br>
            <a:br>
              <a:rPr sz="10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trogi (obligantni) paraziti 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oginje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pid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meningit, polne inf. (gonoreja,sifilis), besnilo itd.</a:t>
            </a:r>
            <a:br>
              <a:rPr sz="2800"/>
            </a:br>
            <a:br>
              <a:rPr sz="1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ju neko vreme izvan, ali se ne razmnožavaju (velike i ovče boginje, tuberkuloza, difterija, šarlah)</a:t>
            </a:r>
            <a:br>
              <a:rPr sz="2800"/>
            </a:br>
            <a:br>
              <a:rPr sz="1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taju živi i mogu se razmnožavati (trb. tifus, kolera, bacilarna dizenterija)</a:t>
            </a:r>
            <a:br>
              <a:rPr sz="2800"/>
            </a:br>
            <a:br>
              <a:rPr sz="1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4. Često se nalaze izvan organizma (stafilokok, streptokok itd.)</a:t>
            </a:r>
            <a:br>
              <a:rPr sz="2800"/>
            </a:br>
            <a:br>
              <a:rPr sz="1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5. Prelaze u otporne oblike - spore (tetanus, botulizam, gasna gangrena, antra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atoge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agensa da izazove manifestnu bolest)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agensu izloženi osetljivi (I) = O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nfekt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sposobnost prodiranja, održavanja i raznmožavanja) - lakoća kojom se bolest prenosi - kontagioznost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araženi (Z) / izloženi osetljivi (I) = Z/I</a:t>
            </a:r>
            <a:br>
              <a:rPr sz="2800"/>
            </a:br>
            <a:br>
              <a:rPr sz="2800"/>
            </a:b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irulencija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- stepen patogenosti odnosno sposobnost agensa da izazove manifestnu bolest u inficiranom domaćinu</a:t>
            </a:r>
            <a:br>
              <a:rPr sz="2800"/>
            </a:b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linički oboleli (O) / ukupni broj zaraženih (Z) = O/Z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sr-Latn-CS" sz="4400" spc="-1" strike="noStrike">
                <a:solidFill>
                  <a:srgbClr val="ffff00"/>
                </a:solidFill>
                <a:latin typeface="Times New Roman"/>
              </a:rPr>
              <a:t>Faktori virulencije</a:t>
            </a:r>
            <a:br>
              <a:rPr sz="4000"/>
            </a:br>
            <a:br>
              <a:rPr sz="2800"/>
            </a:br>
            <a:br>
              <a:rPr sz="1400"/>
            </a:b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invazivnost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oni koji agensu omogućuju adherenciju (prijanjanja) na tkiva, prodiranja u njih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množavanje i širenje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toksič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- izazivaju oštećenja tkiva domaćina pod dejstvom toksin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ffff00"/>
                </a:solidFill>
                <a:latin typeface="Times New Roman"/>
              </a:rPr>
              <a:t>nfektivna doza ili inokulum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39640" y="1600200"/>
          <a:ext cx="8147160" cy="4513320"/>
        </p:xfrm>
        <a:graphic>
          <a:graphicData uri="http://schemas.openxmlformats.org/drawingml/2006/table">
            <a:tbl>
              <a:tblPr/>
              <a:tblGrid>
                <a:gridCol w="4032360"/>
                <a:gridCol w="4114800"/>
              </a:tblGrid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ole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Minimalan broj klic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bušni tif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lmonelozno trovanje hran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– 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cilarna dizenterij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ptosporidij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2 cis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9423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REZERVOAR I IZVOR ZARAZE</a:t>
            </a:r>
            <a:br>
              <a:rPr sz="3200"/>
            </a:br>
            <a:br>
              <a:rPr sz="28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REZERVOAR  mest gde živi i razmnožava se,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ože se definisati i kao 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prirodno stanište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Ljudi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morbili, pertusis, rubeola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Životinje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tetanus, antraks, besnilo)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judi i životinje (salmonele) pacovi, miševi, živina i sl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Neživa priroda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(zemljište, bare, reke i dr.)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sr-Latn-CS" sz="3600" spc="-1" strike="noStrike">
                <a:solidFill>
                  <a:srgbClr val="ffffff"/>
                </a:solidFill>
                <a:latin typeface="Times New Roman"/>
              </a:rPr>
              <a:t>Rudarska glista</a:t>
            </a:r>
            <a:br>
              <a:rPr sz="3600"/>
            </a:br>
            <a:br>
              <a:rPr sz="3600"/>
            </a:br>
            <a:r>
              <a:rPr b="1" lang="sr-Latn-CS" sz="3600" spc="-1" strike="noStrike">
                <a:solidFill>
                  <a:srgbClr val="ff3300"/>
                </a:solidFill>
                <a:latin typeface="Times New Roman"/>
              </a:rPr>
              <a:t>Poznavanje staništa – preventivne mere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dezinfekcija vode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- vakcinacija životin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21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REZERVOAR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ZVOR</a:t>
            </a:r>
            <a:r>
              <a:rPr b="1" lang="sr-CS" sz="3200" spc="-1" strike="noStrike">
                <a:solidFill>
                  <a:srgbClr val="ff3300"/>
                </a:solidFill>
                <a:latin typeface="Times New Roman"/>
              </a:rPr>
              <a:t>”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fektivnog agensa je konkretan pojam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znavanje izvora zaraze ima veći značaj u praktičnom radu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ovek kao izvor:</a:t>
            </a:r>
            <a:br>
              <a:rPr sz="3200"/>
            </a:br>
            <a:br>
              <a:rPr sz="20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1. kao bolesnik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2. kao kliconoš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06:17:37Z</dcterms:created>
  <dc:creator>Z V</dc:creator>
  <dc:description/>
  <dc:language>en-US</dc:language>
  <cp:lastModifiedBy>zoran</cp:lastModifiedBy>
  <dcterms:modified xsi:type="dcterms:W3CDTF">2008-11-09T08:22:51Z</dcterms:modified>
  <cp:revision>106</cp:revision>
  <dc:subject/>
  <dc:title>EPIDEMIOLOGIJA ZARAZNIH BOLESTI</dc:title>
</cp:coreProperties>
</file>