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2B2-AA95-4905-AB30-E6BEDEE4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DFE-247D-493C-9438-94605DD5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48B4-CD6E-4A08-9AFD-2D1253AA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D94-47CA-48DE-B8E3-B5A44BC4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1C2D-C0AA-4BFE-AC71-F074F4C5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25817-BA50-4250-AB72-355A5D2C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44298-2226-499A-86E1-DB0B5FCE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8BFE-66ED-4A33-8739-D5FD5A5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CB4E8-23A4-44B8-96C8-E64E2B46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C7E6B-6ED4-439D-A360-69EED25E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EA0A2-D55F-4C80-B538-9DCF6742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0E1B-1B8D-4927-AC7E-DEA03DB3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41587-611F-4C81-8ED9-5FD95366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68224-7496-407B-A76A-04D9152F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C4085-B4A7-4388-978C-A39E7D7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A7579-DE44-4724-A704-6EA43E4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151A7-CBBF-4ED5-B805-72AC4B3C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17F-F2BB-42FB-A052-56234C390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5C6-2A1B-47A4-93F1-587A9CE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76D-26E1-4CC3-A4E1-6EF99AC9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804-C818-47D4-8C79-0B9878EA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C6B-4CBE-4BF2-AEBB-29CE5101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F01-8ECB-4882-9BC4-FAF7FFD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744-DAD5-45C5-A153-BBA8D79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F8C6-209D-4081-98B9-DDF3AB4202F8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1D69-AEF5-4992-BE85-5BA4B70DC461}" type="slidenum">
              <a:rPr b="0" lang="sr-Latn-C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266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PRIRODNO</a:t>
            </a: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Ž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AR</a:t>
            </a:r>
            <a:r>
              <a:rPr b="1" lang="sr-Latn-CS" sz="4400" spc="-1" strike="noStrike">
                <a:solidFill>
                  <a:srgbClr val="ffcc00"/>
                </a:solidFill>
                <a:latin typeface="Times New Roman"/>
              </a:rPr>
              <a:t>IŠNE INFEKCIJ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of. dr Zoran Veličkov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Žarišta se gase ljudskom aktivnošću u toku osvajanja prirode (krčenje šuma) ili smišljenom borbom protiv žarišta (dezinsekcija, deratizacija)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im udaljavanja prirodnih žarišta od čoveka, moguće je i njihovo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približavanje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čoveku, što se dešava kada se životinje primiču ljudskim naseljima u potrazi za hranom (u jesen nakon žetve, približavcanje glodara zbog razbacane hrane oko logora ili naselja itd.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883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Epidemijski proces se u prirodnom žarištu odvija nezavisno od čoveka. Ukoliko čovek slučajno dospe u žarište, obavljajući profesionalne ili druge aktivnosti (šumari, naučno-istraživačke ekipe, lovci, planinari) on će biti napadnut kao novi izvor hrane. Čovek se najčešće zaražava preko vektora, a ređe ostalim putevima. Od dužine boravka ljudi u žarištu, broja ljudi i “apetita” vektora zavisi učestalost zaražavanja ljud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88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e vrste mikroorganizama mogu biti uzročnici infekcija. Najčešći uzročnici su virusi, a zatim rikecije i spirohete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visno od kriterijuma, postoje različite podele prirodnožarišnih infekcij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48836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ada se govori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 ovim infekcijama uvek se misli na zoonoze, tj. zarazna oboljenja životinja (divljih i domaćih), koja se u prirodnim uslovima mogu preneti na ljude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anas se zna da zoonoze čine više od trećine svih zaraznih bolesti od kojih mogu da obole ljudi, odnosno računa se da postoji blizu dve stotine prirodnožarišnih infekcija i ovaj broj se stalno povećav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137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d nas se za neka žarišta zna, neka su još nedovoljno ispitana, a neka upavo nastaju promenom geomorfološkog sastava životne sredine. Od poznatijih bolesti, kod nas su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sutna žarišta bruceloze, tularemije,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Q-groznice, hemoragijske groznice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a bubrežnim sindromom, krimsko-kongo hemoragijske groznice, trihineloze i drugih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aštita od ovih oboljenja sastoji se, u principu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maksimalnom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smanji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il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onemogućavan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kontakt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ljudi sa rezervoarima i prenosiocima uzročnika infekcije, kao i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smanjivanju brojno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i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rezervoara i prenosilac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uzročnika na tolerantan nivo, kada se praktično prekida prenošenje uzročnik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sim navedene opšte zaštite u borbi, postoji i tzv. specifična zaštita, odnosno upotreba odgovarajućih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seruma i vakci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3023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Times New Roman"/>
              </a:rPr>
              <a:t>Podela prirodnožarišnih infekc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195560"/>
          <a:ext cx="8424720" cy="5113080"/>
        </p:xfrm>
        <a:graphic>
          <a:graphicData uri="http://schemas.openxmlformats.org/drawingml/2006/table">
            <a:tbl>
              <a:tblPr/>
              <a:tblGrid>
                <a:gridCol w="2519280"/>
                <a:gridCol w="590544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riterijum za pode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rsta prirodnžarišnih infekc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4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tiolog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kterijska: bruceloza, tularemija, leptospiroze, antraks, kuga, sakag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rusna: besnilo, virusne hemoragijske groznice, sezonski meningoencefalitisi, ornitoza-psitako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kecijska: Q-groznica, marseljska groznica, murini pegav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tozoalna: toksoplazmoza, lajšmanijaza, šistozomija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lmintoza: trihineloza, ehinokokoza, tenijaz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j vrsta uzročni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UZROČNA I VIŠEUZROČ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j vrsta domać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domaćinska i višedomaćins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roj vrsta vektor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ednovektorska i viševektorsk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353440" cy="587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drazumeva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e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votna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jednica u kojoj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uzročnici bolesti neprestano cirkulišu između divljih životinje kao davalaca i primalaca infekcije i zglavkara kao prenosioca.</a:t>
            </a:r>
            <a:br>
              <a:rPr sz="3600"/>
            </a:b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ridna žarišta predstavljaju, teritorije na kojima među divljim životinjama tinjaju zarazne bolesti životinja (zoonoze), opasne i za ljude kao i za neke vrste domaćih životinj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84872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ostojanje prirodnih žarišta u divljoj prirodi nezavisno je od prisustva čoveka. Ona su nastala u davnoj prošlosti i održala su se do danas u divljoj prirodi zbog toga što su uzročnici bolesti uspeli da cirkulišu u beskonačnom nizu generacije zglavkara kao prenosioca infekcij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36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ivotnu zajednicu (biocenozu) prirodnog žarišta čine četiri člana: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1. divlja životinja, nosilac uzročnika, kao davalac (donor) ili izvor zaraze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2. patogeni uzročnik koji kruži u prirodi;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3. živi prenosilac (razne vrste insekata i krpelja) koji siše krv davaoca, zaražava se i prenosi infekciju na zdrave životinje i</a:t>
            </a:r>
            <a:br>
              <a:rPr sz="2800"/>
            </a:b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4. zdrava divlja životinja kao primalac (recipijent), koji prima uzročnika od prenosioca i 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</a:rPr>
              <a:t>že postati davalac (donor) u daljem kruženju uzročnika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84360" y="260280"/>
            <a:ext cx="7773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CIKLUS KRETANJA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 UZROČNIKA U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PRIRODNOM 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Ž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AR</a:t>
            </a:r>
            <a:r>
              <a:rPr b="1" lang="sr-Latn-CS" sz="3200" spc="-1" strike="noStrike">
                <a:solidFill>
                  <a:srgbClr val="ffcc00"/>
                </a:solidFill>
                <a:latin typeface="Times New Roman"/>
              </a:rPr>
              <a:t>IŠ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250920" y="1557360"/>
            <a:ext cx="8713800" cy="4680000"/>
            <a:chOff x="250920" y="1557360"/>
            <a:chExt cx="8713800" cy="4680000"/>
          </a:xfrm>
        </p:grpSpPr>
        <p:grpSp>
          <p:nvGrpSpPr>
            <p:cNvPr id="90" name="Group 10"/>
            <p:cNvGrpSpPr/>
            <p:nvPr/>
          </p:nvGrpSpPr>
          <p:grpSpPr>
            <a:xfrm>
              <a:off x="250920" y="1557360"/>
              <a:ext cx="8713800" cy="4680000"/>
              <a:chOff x="250920" y="1557360"/>
              <a:chExt cx="8713800" cy="468000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50920" y="1557360"/>
                <a:ext cx="8713800" cy="46800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2" name="Group 8"/>
              <p:cNvGrpSpPr/>
              <p:nvPr/>
            </p:nvGrpSpPr>
            <p:grpSpPr>
              <a:xfrm>
                <a:off x="395280" y="1771560"/>
                <a:ext cx="8424720" cy="3975120"/>
                <a:chOff x="395280" y="1771560"/>
                <a:chExt cx="8424720" cy="3975120"/>
              </a:xfrm>
            </p:grpSpPr>
            <p:pic>
              <p:nvPicPr>
                <p:cNvPr id="93" name="Picture 3" descr="spir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5280" y="1771560"/>
                  <a:ext cx="8424720" cy="397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Line 7"/>
                <p:cNvSpPr/>
                <p:nvPr/>
              </p:nvSpPr>
              <p:spPr>
                <a:xfrm flipH="1">
                  <a:off x="8532720" y="5157720"/>
                  <a:ext cx="144720" cy="358920"/>
                </a:xfrm>
                <a:prstGeom prst="line">
                  <a:avLst/>
                </a:prstGeom>
                <a:ln w="38160">
                  <a:solidFill>
                    <a:srgbClr val="00000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5" name="Oval 9"/>
              <p:cNvSpPr/>
              <p:nvPr/>
            </p:nvSpPr>
            <p:spPr>
              <a:xfrm>
                <a:off x="3735360" y="2171880"/>
                <a:ext cx="287280" cy="287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6" name="Text Box 11"/>
            <p:cNvSpPr/>
            <p:nvPr/>
          </p:nvSpPr>
          <p:spPr>
            <a:xfrm>
              <a:off x="3675240" y="2127240"/>
              <a:ext cx="36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200" spc="-1" strike="noStrike">
                  <a:solidFill>
                    <a:srgbClr val="000008"/>
                  </a:solidFill>
                  <a:latin typeface="Arial Unicode MS"/>
                </a:rPr>
                <a:t>Č</a:t>
              </a:r>
              <a:endParaRPr b="0" lang="en-US" sz="2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799308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ritorije na kojima se održavaju prirodna žarišta nazivaju se biotopima.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Biotopi mogu biti prostorno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ograničen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lokalizovani) ili </a:t>
            </a: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ifuzn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Lokalizovana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se nazivaju i elementarnim žarištima i to su obično rupe glodara, jazbine ili pećine u kojima žive zajedno uzročnik, domaćin i vektor (prenosilac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Difuz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a predstavljaju širi geografski predeli kao što su livade, pašnjaci, šume, savane, džungle i sl.</a:t>
            </a:r>
            <a:br>
              <a:rPr sz="3200"/>
            </a:br>
            <a:r>
              <a:rPr b="0" lang="sr-Latn-CS" sz="3200" spc="-1" strike="noStrike">
                <a:solidFill>
                  <a:srgbClr val="ffcc00"/>
                </a:solidFill>
                <a:latin typeface="Times New Roman"/>
              </a:rPr>
              <a:t>Aktivnost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pr.žarišta je različita tokom pojedinih godišnjih doba u odnosu na vektore, uzročnike i razmnožavanje divljih životinja (naročito glodara), kao i tokom pojedinih godina.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ako je, van tropskog pojasa, brojnost vektora najveća u prolećno-letnjim mesecima, a poznate su tzv. “mišje godine” kada je populacija miševa i pacova izrazito brojna (ratovi, poplave, potresi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5075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Velika brojnost vektora, mikroorganizama i divljih životinja, posebno glodara, može da utiče na učestalost nekih zoonoza i među ljudima (hemoragijske groznice, tularemija, kuga i dr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507520" cy="39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Prirodna žaršta i oboljenja vezana</a:t>
            </a:r>
            <a:r>
              <a:rPr b="0" lang="sr-Latn-C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za njih mogu da menjaju i svoj geografski raspored. Žarište može da se </a:t>
            </a:r>
            <a:r>
              <a:rPr b="0" lang="sr-Latn-CS" sz="3600" spc="-1" strike="noStrike">
                <a:solidFill>
                  <a:srgbClr val="ffcc00"/>
                </a:solidFill>
                <a:latin typeface="Times New Roman"/>
              </a:rPr>
              <a:t>ugasi</a:t>
            </a:r>
            <a:r>
              <a:rPr b="0" lang="sr-Latn-CS" sz="3600" spc="-1" strike="noStrike">
                <a:solidFill>
                  <a:srgbClr val="ffffff"/>
                </a:solidFill>
                <a:latin typeface="Times New Roman"/>
              </a:rPr>
              <a:t> spontano, ako ne postoe uslovi za nesmetano kruženje uzročnika bolesti ili se gasi delovanjem čovek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9:44:06Z</dcterms:created>
  <dc:creator>zoran</dc:creator>
  <dc:description/>
  <dc:language>en-US</dc:language>
  <cp:lastModifiedBy>Tasman</cp:lastModifiedBy>
  <dcterms:modified xsi:type="dcterms:W3CDTF">2009-11-27T07:28:26Z</dcterms:modified>
  <cp:revision>70</cp:revision>
  <dc:subject/>
  <dc:title>PROFILAKSA ZARAZNIH BOLESTI</dc:title>
</cp:coreProperties>
</file>