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B83-1539-44E9-9DF8-4A1BF252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284-989B-4C54-988E-949ECD72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8C0-13FD-4024-BB36-3940CE42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932-C942-4189-B95B-7C8B4F2B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F81BC-8F24-4E3B-A5C7-CA3CA560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1E228-4805-4083-881D-09292C47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44878-2A39-4B57-BC72-A8D83D2A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CE51A-C9B7-4A5A-B09A-CEC95EF8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EB23B-F913-4CE7-8581-2A196EED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D6CBE-5F8F-4243-A4D6-5B6F77A3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2F547-4DE4-4344-A9B9-0E6D9AD2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D53-8190-44B0-8ABB-96D42861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14BC0-78C1-4DE5-9FD0-602F0BA5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040A4-D1F7-434F-B7F3-B9B99B78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9F745-7197-46F4-BDCE-057DC827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26AE2-6655-4F63-9567-8801286D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2A8ED-E678-406F-A278-664E9628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D18-8045-4BEC-9741-C142D949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D57-E168-405E-94FA-AB13C455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658-B0B5-43DC-BE90-395B558B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F64-D5FF-4994-A2EA-28B91454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3AB-FECD-415B-AD2C-43BE9047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525-105C-482C-9439-537FE3CA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4AC-2BE6-43E1-BF84-8D6BEC2A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78E4-0221-4D8E-A0F1-266E5023F98F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3CF0-60C7-4F63-9EBD-0ABBF45B8D52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PROFILAKSA ZARAZNIH BOLE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Prof. dr Zoran Veličkov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7488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VAKCINOPROFILAKS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redstavlja najmoćniju meru u profilaksi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asovne imunizacije su najbolji put za sniženje morbiditeta, eliminaciju, pa čak i eradikaciju nekih zaraznih bolesti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 našoj zemlji su mnoge vakcine obavezne po zakonu i one se de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7488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1. obavezna aktivna imunizacija lica određenog uzrasta;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2. obavezna imunizacija lica eksponiranih određenim zaraznim bolestima;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3. aktivna imunizacija lica po kliničkim indikacijama;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4. aktivna imunizacija putnika u međunarodnom saobraća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488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Vakcinoprofilaksa štiti pojedinca tako da predstavlja u tom smislu paliativnu meru, ali kod sistematskog sprovođenja vakcinacije kada se obuhvati veliki procenat stanovništva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(95-100%) ova mera može biti radikalna.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4883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SEROPROFILAKS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redstavlja primenu preparata krvi (seruma ili drugih frakcija), koji sadrži antitela stvorena u nekom drugom organizmu (čoveku ili životinji)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a ovaj način nastaje veštački pasivni imunitet. Ovaj postupak se koristi u slučajevima kada je potrebno stvoriti brzo zaštitu ugroženih lica ili kada nema drugih mogućnosti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Zavisno od porekla, serumi mogu da budu animalni i human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Heterologna antitela (animalnog porekla) imaju kraći život, jer se stvaraju antitela na strane belančevine i brze razgradnje unetih antitela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avanje novih količina heterolognog seruma u ciju produženja zaštite nema svrhe, jer se povećava opasnost od anafilaktičkih reakci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84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unoglobulini se dobijaju iz plazme ili seruma odraslih osoba, rekonvalescenata ili iz placente. Ukoliko preparat sadrži imunoglobuline – antitela protiv više različitih zaraznih bolesti nazivaju se standardnim ili opštim imunoglobulinom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pecifični imunoglobulini sadrže imunoglobuline prema određenoj bolesti u visokoj koncentraciji (tetanus, besnilo, hepatitis viroza B)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84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rimena homolognog imunoglobulina ne daje alergijske reakcije, uneta antitela traju duže i u slučaju potrebe produženja zažtite može se ponoviti aplikacija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848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asivna zaštita koja se postiže serumima nastupa brzo, ali je kratkotrajna (2-3 nedelje animalnim) i (4-6 nedelja humanim). Brzina zaštite zavisi od načina aplikacije. Brže I.V. (za ovo se koriste samo namenski preparati), nešto sporije – ako je aplikacija I.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848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 obzirom da se prilikom davanja seruma animalnog prekla mogu da jave serumske reakcije (serumska bolest i anafilaktički šok) neophodna je prevencija istih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anamnestički podaci,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intrakutani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8487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Zakon o zaštiti stanovništva od zaraznih bolesti propisuje obaveznu zaštitu specifičnim imunoglobulinima u profilaksi tetanusa, besnila i hepatitisa B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ored navedenih koriste se i u profilaksi virusnih infekcija (virusnog hepatitisa A, morbila, rubeole, varičele) kod nevakcinisanih teških bolesnika, rekonvalescennata, trudnica, u dečijim kolektiv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edstavljaju prave mere profilakse</a:t>
            </a:r>
            <a:br>
              <a:rPr sz="3600"/>
            </a:b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             I  Opšte mere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            II  Specifične m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HE</a:t>
            </a: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MIOPROFILAKS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astoji se u korišćemju lekova u zaštiti od zaraznih bolesti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bavezna zaštita lekovima (hemioprofilaksa) vrši se na propisan način za sva lica koja se izložena zarazi od tuberkuloze i malarije. Po epidemiološkim indikacijama vrši se i za lica izložena drugim zaraznim bolestima (strept.inf.,menigokokne inf., bolesn. pod imunosupresivnom t., operisanih itd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PROFILAKTIČNA DEZINFEKCIJA, DEZINSEKCIJA I DERATIZACIJ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ezinfekcij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se svakodnevo sprovodi: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svakodnevno pranje ruku i održavanje lične higijene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dezinfekcija vode za piće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pasterizacija mleka i drugih prehrambenih proizvoda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dezinfekcija i sterilizacija medicinskih instrumenata i materijala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dezinfekcija u zdravstvenim ustanovama, dečjim kolektivima, javnim objektima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dezinfekcija u sredstvima javnog prevoza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va mera se svakodnevno sprovodi u periodu pre pojave bolesti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provodi se istim merama i tehničkim postupcima kao i pri izvođenju dezinfekcije u protivepidemijske svrh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ezinsekcij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je mera kojom se uništavaju prenosioci (vektori) uzročnika zaraznih bolesti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provodi se u sezoni najveće gustine i najviše biološke aktivnosti vektora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va mera se sprovodi u objektima za proizvodnju  promet životnih namirnica, zdravstvenim ustanovama, predškolskim i školskim objektima, javnim površinama i t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9912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eratizacija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e sprovodi u cilju uništavanja pacova i drugih glodara kao prenosioca uzročnika određenih zaraznih bolesti (salmoneloze, leptospiroze, tularemija i td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ZDRAVSTVENI PREGLEDI ODREĐENIH KATEGORIJA ZAPOSLENIH, DRUGIH LICA I KLICONOŠA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baveznom zdravstvenom pregledu na propisan način podležu: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1. davaoci krvi, semene tečnosti, oocita, tkiva i delova ljudskog tela koje se presađuje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HBs Ag, anti-HCV, anti-HIV antitel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2. trudnice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 prva tri meseca trudnoće, pregled krvi na rubeolu, toksoplaznozu i HIV prema epidemiološkim indikacijama, a u poslednjem mesecu trudnoće pregled krv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;</a:t>
            </a: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3. lica na lečenju hemodijalizom 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egled krvi na HBsAg, anti-HCV i anti-HIV antitela pre započinjanja dijalize i jedanput godišnje u tok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ijalize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)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4. zaposleni u prozvodnji i prometu namirnica i snabdevanju stanovništva vodom za piće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5. zaposleni u predčkolskim, čkolskim i drugim ustanovama za decu i omladinu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6. zaposleni na poslovima zdravstvenih pregleda, lečenja i nege bolesnika i na poslovima održavanja higije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7. zaposleni u proizvodnji, pripremi i izdavanju lekova i lica kojana drugi način u toku rada dolaze u neposredan dodir sa lekovima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8. zaposleni na poslevima higijenske nege stanovništva 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erbernice, frizerski i kozmetičk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aloni, javna kupatila i dr.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) i u proizvodnji i prometu kozmetičkih sredstava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9. zaposleni na pslovima pružanja usluga i tradicionalne medicine 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unpukture, homeopatije, hiropraksije i dr.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10. lica koja dolaze iz zemalja u kojima ima kolere, kuge ili malarije, a po epidemiološkim indikacijama – lica koja mogu uneti i druge zarazne bolest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ZDRAVSTVENO VASPITANJE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ajbitnije je podizati opštu kulturu, a kao deo toga i zdravstvenu kulturu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 borbi protiv bilo koje zarazne bolesti sprovodi se i ova veoma važna mera. Potrebno je upoznati stanovništvo sa najvažnijim činjenicama i faktorima značajnim za nastanak i širenje određenih bolesti u obimu koji je potreban da se spreči pojava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6994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fekat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4000"/>
            </a:b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- radikalne,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- palijativ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36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Radikalne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su mere trajnog karaktera, koje rešavaju problem zaraznih bolesti.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U borbi protiv variolie vakcinoprofilaksom je bolest iskorenjena.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bezbeđenje stanovništva ispravnom vodom za piće, kao i higijensko otklanjanje otpadnih materija, održavanje lične higijene itd, predstavljaju radikalne mere u borbi protiv mnogih crevnih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zaraznih bolesti.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8836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Palijativne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su ograničenog trajanja, odnosno traju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noliko dugo koliko se profilaksa i sprovodi (ili nešto duže). Na primer u borbi protiv trbušnog tifusa vakcinacija je palijativna me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PŠTE MERE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za zaštitu stanovništva od zaraznih bolesti predstavljaju prvenstveno sanitarno-higijenske mere. Radi se o komunalnim merama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obezbeđenje zdravstveno ispravne vode za piće, životnih namirnica i predmeta opšte upotrebe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obezbeđvanje sanitarno-tehničkih i higijenskih uslova u objektima pod sanitarnim nadzorom i drgim objetima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uklanjanje ljudskih i životinjskih izlučevina, leševa, organa i tkiva, otpadnih voda na način da ne ugrožavaju zdravlje stanovništva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sprovođenje DDD u naseljenim mestima, na javnim površinama i u drgim objek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pšte mere mere organizuju i sprovode nadlezni organi i druga pravna lica, kao i nadležne zdravstvene ustanove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taranje o izvršavanju opštih mera je u domenu sanitarnih inspektorat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pšte profilaktičke mere kod nekih bolesti predstavljaju radikalne mere npr. kod crevnih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3200"/>
            </a:b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SPECIFIČNA PROFILAKSA</a:t>
            </a:r>
            <a:br>
              <a:rPr sz="3200"/>
            </a:b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ere koje su usmerene na zštitu stanovništva od pojedinih zaraznih bolesti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 mere specifične profilakse spadaju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7488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1. Vakcinoprofilaksa;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2. Seroprofilaksa;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3. Hemioprofilaksa;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4. Profilaktična dezinfekcija, dezinsekcija i deratizacija;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5. Otkrivanje i obeskličavanje zdravih nosilaca uzročnika zaraznih bolesti;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6. Zdravstveno vaspitanje stanovništ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9:44:06Z</dcterms:created>
  <dc:creator>zoran</dc:creator>
  <dc:description/>
  <dc:language>en-US</dc:language>
  <cp:lastModifiedBy>v zoran</cp:lastModifiedBy>
  <dcterms:modified xsi:type="dcterms:W3CDTF">2008-11-28T07:19:39Z</dcterms:modified>
  <cp:revision>44</cp:revision>
  <dc:subject/>
  <dc:title>PROFILAKSA ZARAZNIH BOLESTI</dc:title>
</cp:coreProperties>
</file>