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9A1-A6B7-4B11-819C-6266A448D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3B1-368C-466E-B705-1DFDCA8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A55-04BF-4051-BA7B-125CE2E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994-A699-46E0-A02F-0AA90E7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6F2A-FB0C-494F-9C97-8AB7D9BA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555C-9B86-4DE3-8793-8C04A7D6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2BB-C7C6-4046-B49A-FABAB71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CA85-F2FB-4CCD-AC78-27150B53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255-823C-45F8-BB4A-06A632C1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D0D0-2E53-4A58-B29F-0B79591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2DCC-1C84-4561-9B28-D01AAAA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1EF-5BB3-4CDF-9771-919C5DAF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9057-4D81-4476-83E3-DFD1030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3EE6-1241-484F-98A9-5363945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5962-85A7-41C2-ABEC-8AC4DEA1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A6C7-FB35-41F1-A3E2-0E31CF07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E41D-F99A-4C13-B440-FB6197AF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736-20F1-45C4-BE5A-7A2D19E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775-7968-4747-BD04-AEE441C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AFF-A1F0-4D70-9079-536D2808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923-9F4D-436B-920B-8D4EFA28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568-BF0A-4CE4-9EAC-0E6321B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B54-5F67-40BC-A3E6-A860A1B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800-2BAA-49E1-818F-66C8F49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3F69-C042-4826-AE3B-BD8CC49311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7D60-FD7E-4B6C-B837-F40C6B6B9F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ho.int/wer/2006/wer8128.pdf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Doc.dr Vladimir Petrovi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inski fakultet Novi 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VENCIJA IMUNIZACIJ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Trenutno dostupni rezultati kliničkih ispitivanja 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 Focetri</a:t>
            </a: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e koja su u tok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26800" y="6354720"/>
            <a:ext cx="673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Product Information as approved by the CHMP on 18 February 2010, pending endorse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by the</a:t>
            </a:r>
            <a:r>
              <a:rPr b="1" i="1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European Commission </a:t>
            </a:r>
            <a:r>
              <a:rPr b="1" i="1" lang="sr-Latn-CS" sz="1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ANNEX I SUMMARY OF PRODUCT CHARACTERISTIC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24280" y="1752480"/>
            <a:ext cx="4419720" cy="2133360"/>
            <a:chOff x="4724280" y="1752480"/>
            <a:chExt cx="4419720" cy="21333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4724280" y="1833480"/>
              <a:ext cx="4419720" cy="20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6676200" y="2594880"/>
              <a:ext cx="66276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76200" y="3126960"/>
              <a:ext cx="69984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70360" y="2594880"/>
              <a:ext cx="66276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0360" y="3082320"/>
              <a:ext cx="69984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23440" y="1752480"/>
              <a:ext cx="1288800" cy="26568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0" y="1752480"/>
            <a:ext cx="4419720" cy="2133360"/>
            <a:chOff x="0" y="1752480"/>
            <a:chExt cx="4419720" cy="213336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0" y="1844280"/>
              <a:ext cx="441972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915200" y="276408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51920" y="336204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6080" y="326988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46080" y="2718000"/>
              <a:ext cx="66276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4680" y="1752480"/>
              <a:ext cx="1878120" cy="2757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0" y="4038480"/>
            <a:ext cx="4495680" cy="2361960"/>
            <a:chOff x="0" y="4038480"/>
            <a:chExt cx="4495680" cy="236196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0" y="4093560"/>
              <a:ext cx="4495680" cy="30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0" y="4038480"/>
              <a:ext cx="4495680" cy="2361960"/>
              <a:chOff x="0" y="4038480"/>
              <a:chExt cx="4495680" cy="23619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394160"/>
                <a:ext cx="4495680" cy="200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1985400" y="504648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85400" y="573660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09080" y="504648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746520" y="5736600"/>
                <a:ext cx="674280" cy="31824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5520" y="4038480"/>
                <a:ext cx="1273680" cy="265320"/>
              </a:xfrm>
              <a:prstGeom prst="ellipse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"/>
          <p:cNvGrpSpPr/>
          <p:nvPr/>
        </p:nvGrpSpPr>
        <p:grpSpPr>
          <a:xfrm>
            <a:off x="4648320" y="4038480"/>
            <a:ext cx="4495680" cy="2361960"/>
            <a:chOff x="4648320" y="4038480"/>
            <a:chExt cx="4495680" cy="2361960"/>
          </a:xfrm>
        </p:grpSpPr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4648320" y="4086720"/>
              <a:ext cx="4495680" cy="23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945200" y="5146200"/>
              <a:ext cx="67428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45200" y="5787360"/>
              <a:ext cx="67428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70920" y="4038480"/>
              <a:ext cx="1311120" cy="3495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aeaea"/>
                </a:solidFill>
                <a:latin typeface="Tahoma"/>
              </a:rPr>
              <a:t>Ciljevi </a:t>
            </a:r>
            <a:r>
              <a:rPr b="0" lang="sr-Latn-CS" sz="4400" spc="-1" strike="noStrike">
                <a:solidFill>
                  <a:srgbClr val="eaeaea"/>
                </a:solidFill>
                <a:latin typeface="Tahoma"/>
              </a:rPr>
              <a:t> vanredne </a:t>
            </a:r>
            <a:r>
              <a:rPr b="0" lang="sr-CS" sz="4400" spc="-1" strike="noStrike">
                <a:solidFill>
                  <a:srgbClr val="eaeaea"/>
                </a:solidFill>
                <a:latin typeface="Tahoma"/>
              </a:rPr>
              <a:t>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edukovanje obolevanja i umir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aštita integriteta zdravstvenog sistema i kritičnih infrastruktura u zemlj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edukcija transmisije  pandemijskog virusa u zajedn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KAMPANJA VANREDNE 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U EU vakcine stižu prekasno i u nedovoljnim količinama da bi se prekinula transmisija u populaci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rategija vakcinacije je usmerena na grupe u riz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REZULTATI IMUNIZACIJE U EVROP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Do 08.08.2010. godine distribuirano je oko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170 miliona do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, a dato je preko </a:t>
            </a: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46,2 miliona doza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vakcina protiv pandemijskog gri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eko 38,9 miliona doza tri centralno registrovane vakcine ( Focetria 6,5 milio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oko 5,2 miliona vakcina koje su registrovane za nacionalni n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Imunizovano je oko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361.000 trud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buhvat populacije kreće se od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0% (Poljska)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do 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reko 70% (Šveds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NEŽELJENE REAKCIJE NAKON IMUNIZACIJ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Ogromna većina registrovanih reakcija su iz reda blagih i očekivani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Među težim neželjenim događajima registrovani broj je manji ili u nivou očekivane incidencije poremećaja koji se prirodno javljaj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renutno nema dokaza da bilo koja od primenjivanih vakcina povećava rizik nastanka demijelinizirajućih poremećaja uključujuči i G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daci ukazuju da nema povezanosti vakcina sa pojavom pobačaja, intrauterine smrti ploda, prveremenog rođenja ili bilo kog drugog sa trudnoćom povezanog događa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ahoma"/>
              </a:rPr>
              <a:t>Distribucija izveštaja o neželjenim reakcijama u skladu sa uzrasto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232920" y="6564240"/>
            <a:ext cx="510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Twenty-second pandemic pharmacovigilance update EMA/527985/201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5321160" cy="4413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642360" y="28004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15619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IZVEŠ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Neželjeni događaji kod vakcinisnih trudnic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840200" cy="4668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SADRŽAJ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reporuke za imunizaciju protiv pandemijskog gri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andemijske vakc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Dostupni rezultati kliničkih ispitivanja vak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Ciljevi i rezultati imunizacije u Evro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Neželjeni događaji nakon imunizacije  - EM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Vanredna imunizacija u Srb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Demijelinizirajući poremećaji kod vakcinisanih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050920" y="2035080"/>
            <a:ext cx="5905800" cy="4443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576840"/>
            <a:ext cx="354348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ORGANIZACIJA VANREDNE IMUNIZACIJE U SRBIJI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anredn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imunizacij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provodili su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fiksn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i po potrebi mobilne ekipe Domov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zdravl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ZABRANI LEKAR I MEDICINSKA SEST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AKCINALNI PUNKTO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rganizaciju, koordinaciju i nadzor nad sprovođenjem kampanje imunizacije sprovodi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 je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teritorijalno nadležni IZJZ/ZZJ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PRIORITETNE GRUPE ZA VAKCINACIJU U SRBIJ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Osobe starosti preko 6 meseci sa hroničnim poremećajima zdravlja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hronične plućne bolesti - uključujući astmu, kardiovaskularne bolesti - izuzev hipertenzije, hronična oboljenja bubrega, jetre, neurološke/neuromuskularne bolesti, hematološki i  metabolički poremećaji - uključujući šećernu bolest i prekomernu gojaznost, imunodeficijencije - uključujući imunosupresiju uzrokovanu lekovima i HIV-om)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Trudnice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(zbog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povećanog rizika od teške forme obolevanja, koja potencijalno može da rezultuje spontanim pobačajem/smrtnim ishodom, posebno tokom drugog i trećeg trimestra trudnoće), isključujući aplikovanje u prvom trimestru trudnoće, uz konsultaciju ginekologa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Zdrava deca starija od 6 meseci do 2 godin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, uz  konsultaciju pedijatra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zaposlena u objektima u kojima se obavlja zdravstvena delatnost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smeštena i zaposlena u ustanovama za socijalnu zaštitu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Lica zaposlena na poslovima osnovnih funkcija zajednic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(zaposleni u državnim organima na lokalnom, pokrajinskom i republičkom nivou, zaposleni u javnim službama - proizvodnja i distribucija lekova, hrane, vode, električne energije, dispozicija otpada, javni transport, službe za sahranjivanje, osoblje jaslica, dečijih vrtića i škola, PTT saobraćaj i telekomunikacije, zaposleni u javnom medijskom servisu, finansijske ustanove, zdravstvena zaštita životinja i dr., zaposleni u pravosuđu i zaposleni i lica koja izdržavaju kaznu u zavodima za izvršenje krivičnih sankcija) prema posebnim planovima organa državne uprave i lokalnih samouprava, koje dostavljaju teritorijalno nadležnom institutu/zavodu za javno zdravlj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a deca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od 3 do 14 godina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starosti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mlađi odrasli (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15-49 godina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odrasli uzrasta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50-64 godin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Zdravi odrasli starosti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65 godina i više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PRIORITETNE GRUPE ZA VAKCINACIJU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  <a:ea typeface="Calibri"/>
              </a:rPr>
              <a:t>Izvođenje imunizacije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700280"/>
          <a:ext cx="9144000" cy="4876560"/>
        </p:xfrm>
        <a:graphic>
          <a:graphicData uri="http://schemas.openxmlformats.org/drawingml/2006/table">
            <a:tbl>
              <a:tblPr/>
              <a:tblGrid>
                <a:gridCol w="4575240"/>
                <a:gridCol w="4568760"/>
              </a:tblGrid>
              <a:tr h="379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Prioritetna gru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Izvođenje imunizaci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Sve osobe starosti preko 6 meseci sa hroničnim poremecajima zdravl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zaposlena u objektima u kojima se obavlja zdravstvena delat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smeštena i zaposlena u ustanovama za socijalnu zaštit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Lica zaposlena na poslovima osnovnih funkcija zajedn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i druge ustanove primarne zdravstvene zašti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Trudni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a deca (6 meseci-14 godin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mlađi odrasli (15-49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odrasli (50-6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Zdravi odrasli (65+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  <a:ea typeface="Calibri"/>
                        </a:rPr>
                        <a:t>Domovi zdravlja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Obuhvat vanrednom imunizacijo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824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iljna populacija: 1.500.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roj vakcinisanih: 149.882 + 20.000 vojs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Obuhvat ciljne populacije: ~1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Opšta populacija: 7.498.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Obuhvat opšte populacije: 2,32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Utrošak vakcina: 232120 od 855.000 do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eaeaea"/>
                </a:solidFill>
                <a:latin typeface="Tahoma"/>
              </a:rPr>
              <a:t>OBUHVAT IMUNIZACIJOM PO VEĆIM REGIONIM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00280"/>
          <a:ext cx="914400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Vakcinacija u ciljnim grupa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Najveći udeo među vakcinisanim osobama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59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% čine osobe sa hroničnim oboljenjim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31,1% čine zdrave osobe,zdravstveni radnici čine 4%, a sve ostale ciljne grupe 5,2%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osmatrano prema uzrastu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44,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%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vakcinisanih su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osobe starije od 65 godina život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30 % osobe dobne grupe od 50 do 64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godin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najmanje su vakciinisana deca uzrasta 6 meseci do 2 godine sa učešćem od 0,4%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TOK IMUNIZACIJE U SRBIJI U CELIN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870200"/>
          <a:ext cx="896472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70200"/>
                    <a:ext cx="89647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TOK IMUNIZACIJE PO VEĆIM REGIONI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1986120"/>
          <a:ext cx="914400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6120"/>
                    <a:ext cx="91440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PREPORUKE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O-SAGE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ZA PRIMENU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pandemijskih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(H1N1) 2009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vakcina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- </a:t>
            </a:r>
            <a:r>
              <a:rPr b="1" lang="sr-Latn-CS" sz="2800" spc="-1" strike="noStrike">
                <a:solidFill>
                  <a:srgbClr val="eaeaea"/>
                </a:solidFill>
                <a:latin typeface="Tahoma"/>
              </a:rPr>
              <a:t>07.07.2009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Zdravstveni radnici treba da budu prvi prioritet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kako bi se sačuvala esencijalna infrastruktura u zdravstvenom siste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akcinacija grupa u riziku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ristupom “korak po korak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GE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reporučuje da se sledeće grupe razmotre kao prioritet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svaka zemlja mopra da donese odluku o redosledu prioritet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na osnovu epidemiološke situacije i specifičnih uslova unutar zemlj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rudni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ronični bolesnici stariji od 6 mesec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e osobe uzrast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od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a dec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i odrasli uzras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64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godin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Zdravi odrasli straiji od 65 godi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otreban je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ostmarketinški nadzor najvišeg mogućeg kvalite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rza razmena podataka o imunogenosti, bezbednosti o efektivnosti vakcin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 effectiveness stud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romocija proizvodnje i upotreba vakcina sa adjuvansom na bazi emulzije ulja u vodi i živih atenuisanih vakcina protiv grip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ijavljene su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84 osob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, kod kojih su registrovane neželjenih reakcija posle imunizacije sa Focetria vakcinom (ukupno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363 reakcij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jčešće prijavljivano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vreme od aplikacije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vakcine do pojave neželjene reakcije je </a:t>
            </a:r>
            <a:r>
              <a:rPr b="1" lang="pl-PL" sz="2800" spc="-1" strike="noStrike">
                <a:solidFill>
                  <a:srgbClr val="ffffff"/>
                </a:solidFill>
                <a:latin typeface="Tahoma"/>
              </a:rPr>
              <a:t>jedan dan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 (Mod=1da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Najveći broj prijava je iz Grada Beograda, Južnobačkog, Podunavskog i Sremskog okrug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registrovane neželjene reakcije pripadaju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opštim poremećajima: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temperatura, malaksalost, umor i groznic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Prijavljeno je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et alergijskih reakcija,od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 kojih je 1 anafilaktična rekcija. Kod dve osobe sa alergijskim reakcijama primenjena je odgovarajuća terapij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registrovane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reakcije na mestu davanja vakcine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su bol, otok i crvenilo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reakcija koje pripadaju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oremećajima na koži i potkožnom tkivu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prijavljivane reakcije su znojenje i svrab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gastrointestinalnih poremećaja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prijavljivane reakcije su mučnina i povraćanj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d </a:t>
            </a:r>
            <a:r>
              <a:rPr b="1" lang="pl-PL" sz="1600" spc="-1" strike="noStrike">
                <a:solidFill>
                  <a:srgbClr val="ffffff"/>
                </a:solidFill>
                <a:latin typeface="Tahoma"/>
              </a:rPr>
              <a:t>poremećaja mišićno-skeletnog i vezivnog tkiva na nivou kostiju </a:t>
            </a: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najčešće su prijavljene mijalgija i artralgija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ahoma"/>
              </a:rPr>
              <a:t>Evidentirane neželjene reakcije posle primene Focetria vakcine u periodu od</a:t>
            </a:r>
            <a:br>
              <a:rPr sz="2800"/>
            </a:br>
            <a:r>
              <a:rPr b="1" lang="pl-PL" sz="2800" spc="-1" strike="noStrike">
                <a:solidFill>
                  <a:srgbClr val="eaeaea"/>
                </a:solidFill>
                <a:latin typeface="Tahoma"/>
              </a:rPr>
              <a:t>17.12.2009. do 31.03.2010. godin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Najčešće registrovane neželjene reakcije koje se odnose na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remećaj nervnog sistema 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su glavobolja, parestezija i neuralgij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Kod jedne osobe prijavljena je sumnja na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eventualni početak Giljen Bareovog sindroma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 koja je epidemiološki i klinički ispita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Prisustvo identičnih tegoba i u periodu pre aplikovanja vakcine protiv pandemijskog gripa (prethodni izveštaji specijaliste neurologa), neurološki nalaz nakon aplikacije vakcine (živahni refleksi ,negativan Lazarevićev test), kratko vreme između vakcinacije i pojave subjektivnih smetnji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isključili su sumnju na postvakcinalni Giljen Bareov sindrom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</a:rPr>
              <a:t>Od strane nadležnog Stručnog tima za utvrđivanje trajne kontraindikacije donet je zaključak o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</a:rPr>
              <a:t>postojanju teže neželjene reakcije na Focetria vakcinu zbog pojave mialgije i artralgije koje su trajale prolongirano mesec da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eaeaea"/>
                </a:solidFill>
                <a:latin typeface="Tahoma"/>
              </a:rPr>
              <a:t>Zaključa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8172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Obuhvat imunizacijom nije dovoljan da utiče na negativne posledice eventualnog epidemijskog talasa (smanjenje broja smrtnih ishoda, smanjenje broja hospitalizovanih, poremećaj zdravstvene infrastrukture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Obuhvat ciljnih prioritetnih grupa, posebno trudnica, dece i zdravstvenih radnika je nizak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Nisu registrovane teže neželjene reakcije nakon primene vakcine i među vakcinisanima je potvrđen dobar bezbednosni profil, kao i u Evropi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ahoma"/>
              </a:rPr>
              <a:t>Razlozi niskog obuhvata su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a globalnom nivou</a:t>
            </a:r>
            <a:r>
              <a:rPr b="1" lang="sr-CS" sz="1400" spc="-1" strike="noStrike">
                <a:solidFill>
                  <a:srgbClr val="ffffff"/>
                </a:solidFill>
                <a:latin typeface="Tahoma"/>
              </a:rPr>
              <a:t>, pa i u našoj zemlji </a:t>
            </a: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su antivakcinalne poruke iz Amerike i zapadne Evrope na početku kampanje imunizacije</a:t>
            </a:r>
            <a:r>
              <a:rPr b="1" lang="sr-Latn-CS" sz="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zabrinutost zbog bezbednosti vakcine i nedovoljna informisanost među zdravstvenim radnicima što se prenelo na pacijen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edovoljna edukacija zdravstvenih radnika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uticaj antivakcinalnih lobija koji je trajao duže od medijske kampanje za vanrednu imunizacij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ffffff"/>
                </a:solidFill>
                <a:latin typeface="Tahoma"/>
              </a:rPr>
              <a:t>negativan uticaj paramedicinskih tema u medijima koje su pratile imunizacij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6600" spc="-1" strike="noStrike" u="sng">
                <a:solidFill>
                  <a:srgbClr val="ffffff"/>
                </a:solidFill>
                <a:uFillTx/>
                <a:latin typeface="Tahoma"/>
              </a:rPr>
              <a:t>HVALA NA PAŽNJI 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PREPORUKE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WHO-SAGE </a:t>
            </a: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OD 28.10.2009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ROJ DOZ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EPIDEMIOLOŠKA SITUAC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I drugi javnozdravstveni razlozi ukazuju na potrebu i podržavaju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primenu jedne doze vakcine kod starijih od 10 godin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pod uslovom da to dozvole regulatorna te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U uslovima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voljnih količin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vakcine, prioritet treba da bude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obezbeđenje jedne doze vakcine što većem broju dece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kada se ovaj prioritet definiše nacionalnim plan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Bezbednost kod trudnica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u odsustvu specifičnih kontraindikacij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od strane regulatornih tela bilo koja registrovana pandemijska vakcina može se primenjivati za ztaštitu trudn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imultana imunizacij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ada su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sezonska i pandemijska vakcina iz grupe mrtvih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ili ako je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jedna mrtva a druga živa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one se mogu dati simulta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Global_VaccineManufacturers_200906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179280" y="3141720"/>
            <a:ext cx="927360" cy="598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179280" y="2492280"/>
            <a:ext cx="655920" cy="560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3132000" y="2781360"/>
            <a:ext cx="709920" cy="560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877080" y="5516640"/>
            <a:ext cx="654120" cy="560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3708360" y="836640"/>
            <a:ext cx="655560" cy="55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1628640"/>
            <a:ext cx="768600" cy="560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Influenza Vaccine Virus Types: Whole Virus, Split Virus, Subunit (surface antigen), Live Attenuated"/>
          <p:cNvPicPr/>
          <p:nvPr/>
        </p:nvPicPr>
        <p:blipFill>
          <a:blip r:embed="rId1"/>
          <a:stretch/>
        </p:blipFill>
        <p:spPr>
          <a:xfrm>
            <a:off x="0" y="0"/>
            <a:ext cx="9144000" cy="197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0" y="2060640"/>
          <a:ext cx="9143640" cy="4797000"/>
        </p:xfrm>
        <a:graphic>
          <a:graphicData uri="http://schemas.openxmlformats.org/drawingml/2006/table">
            <a:tbl>
              <a:tblPr/>
              <a:tblGrid>
                <a:gridCol w="2286360"/>
                <a:gridCol w="2286360"/>
                <a:gridCol w="2284920"/>
                <a:gridCol w="2286000"/>
              </a:tblGrid>
              <a:tr h="479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xter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mmnivest 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Hungary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 </a:t>
                      </a:r>
                      <a:r>
                        <a:rPr b="1" lang="sr-Latn-CS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izvođač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, (China)  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CSL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stralia; 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Sanofi Pasteur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n Cross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re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GSK ASO3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  Canad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Novartis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–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0 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dozno pakovanj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vartis+M59 adjuvant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ME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MedImmune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- 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intrana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zalni</a:t>
                      </a:r>
                      <a:r>
                        <a:rPr b="1" lang="en-GB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spr</a:t>
                      </a:r>
                      <a:r>
                        <a:rPr b="1" lang="sr-Latn-CS" sz="19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ej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crogen (</a:t>
                      </a: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ussia</a:t>
                      </a:r>
                      <a:r>
                        <a:rPr b="1" lang="en-GB" sz="19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9920" y="6327720"/>
            <a:ext cx="829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Johansen K, Nicoll A, Ciancio BC, Kramarz P. Pandemic influenza A(H1N1) 2009 vaccines in the European Un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Euro Surveill.2009;14(41):pii=19361. Available online: http://www.eurosurveillance.org/ViewArticle.aspx?ArticleId=193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6780240" cy="6092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9920" y="6327720"/>
            <a:ext cx="829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Johansen K, Nicoll A, Ciancio BC, Kramarz P. Pandemic influenza A(H1N1) 2009 vaccines in the European Un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Euro Surveill.2009;14(41):pii=19361. Available online: http://www.eurosurveillance.org/ViewArticle.aspx?ArticleId=1936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eaeaea"/>
                </a:solidFill>
                <a:latin typeface="Tahoma"/>
              </a:rPr>
              <a:t>Zabrinutost javnosti oko bezbednosti pandemijskih vakcin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687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uillain–Barré synd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300" spc="-1" strike="noStrike">
                <a:solidFill>
                  <a:srgbClr val="ffff00"/>
                </a:solidFill>
                <a:latin typeface="Tahoma"/>
              </a:rPr>
              <a:t>(GACVS 2009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razlozi povezanosti registrovani 1976 su nepoznati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od tada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ili nije utvrđena povezanost ili je utvrđena u malom broju studija gde je veoma mali rizik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lučaj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/1.000.000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vakcinisanih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značajn je nadzor nad GBS i dostupnost istorijskih podatak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juvant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 v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ne </a:t>
            </a:r>
            <a:r>
              <a:rPr b="0" i="1" lang="en-US" sz="1300" spc="-1" strike="noStrike">
                <a:solidFill>
                  <a:srgbClr val="ffff00"/>
                </a:solidFill>
                <a:latin typeface="Tahoma"/>
              </a:rPr>
              <a:t>(GACVS 2009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relativno malo iskustava posebno u grupama u riziku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viša reaktogenost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značajno je obratiti pažnju na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autoimune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događaje nakon imunizacije iako nisu povezani sa vakcinom jer je negativna kampanja na njih usmerena</a:t>
            </a:r>
            <a:br>
              <a:rPr sz="1300"/>
            </a:b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600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kvale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(GACVS 2006)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trahovi da skvalen u vakcini indukuje stvaranje štetnih anti-skvalenskih antitela su neosnovani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iskustva sa vakcinama koja sadrže skvalen su samo u starijim dobnim grupama</a:t>
            </a:r>
            <a:r>
              <a:rPr b="0" lang="en-GB" sz="15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0" lang="en-GB" sz="1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who.int/wer/2006/wer8128.pdf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omersal </a:t>
            </a:r>
            <a:r>
              <a:rPr b="0" i="1" lang="en-US" sz="1400" spc="-1" strike="noStrike">
                <a:solidFill>
                  <a:srgbClr val="ffff00"/>
                </a:solidFill>
                <a:latin typeface="Tahoma"/>
              </a:rPr>
              <a:t>(GACVS 2008)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nema dokaza o toksičnosti kod dece, ili odraslih nakon izlaganja tiomersalu u vakcinam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zici u određenim grupa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rudnoć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Odnos koristi i rizika je potreban u svakom slučaju kod trudnica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s obzirom na visok rizik po majku i fetus  koji nosi sama bolest i 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do sada poznat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sr-Latn-CS" sz="1500" spc="-1" strike="noStrike">
                <a:solidFill>
                  <a:srgbClr val="ffffff"/>
                </a:solidFill>
                <a:latin typeface="Tahoma"/>
              </a:rPr>
              <a:t>mali potencijalni rizik od sezonske vakcine data je preporuka u julu 2009. god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6:17:45Z</dcterms:created>
  <dc:creator>IZZZ</dc:creator>
  <dc:description/>
  <dc:language>en-US</dc:language>
  <cp:lastModifiedBy>Petrovic Vladimir</cp:lastModifiedBy>
  <dcterms:modified xsi:type="dcterms:W3CDTF">2010-09-17T20:57:57Z</dcterms:modified>
  <cp:revision>9</cp:revision>
  <dc:subject/>
  <dc:title>REZULTATI IMUNIZACIJE PROTIV PANDEMIJSKOG GRIPA U VOJVODINI</dc:title>
</cp:coreProperties>
</file>