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59F-8D3A-48AC-A23B-DF2A74BD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F402-1448-41AE-8574-2ACC114E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B1F-1135-4569-B13A-4D139753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154-0FF7-4DBC-9ED1-8FD89338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7D2CB-1BB3-4A90-B693-4DA97C5E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A2D0F-8133-489C-A562-E5BEBF82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F4646-6A80-4141-AF45-2050706C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9CCE0-8998-4B8A-B7E0-199DB67C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31D53-6427-4020-ADE9-DEE72760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4FA9C-977F-4F78-AB84-5DB5655F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A5E27-DD97-436F-9E8B-2B239897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7D3-73E5-4018-99DD-1E13C593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08D9C-FA10-4637-A7EC-F80CD0BD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7EFEA-AACF-4304-8950-2AE89E3E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6A184-4D30-47BF-95F0-EACE6E97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D6A33-A301-43FB-A3C2-70C4987E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941C1-C0C2-40CB-A660-751511AD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304-477D-4228-B1AB-32A9E762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880-E20F-4BBA-8C75-CA546B99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FBD-42FF-4DBD-B76F-81468C87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F18-C722-428B-8A7F-0A678433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C7E-0638-46B9-9B97-ED5F5FC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67AB-3168-4068-B28F-B65DA5F8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322-914D-410E-BE94-7CADC705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7F21-3BBD-496F-98C7-C71A7178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F523-20E2-4415-B3C8-E169B48C02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Epidemiologija </a:t>
            </a:r>
            <a:br>
              <a:rPr sz="4400"/>
            </a:b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respiratornih bole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ssistent dr sc. med Nataša Ranč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dicinski fakultet Ni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niverzitet Ni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pšte i specifične mere profilak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pšte mere imaju poseban značaj u dečijim kolektivima, u svim ustanova za kolektivan smeštaj dece i odrasli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opšte profilaktičke mere spadaju: provetravanje, vlažno čišćenje, dezinfekcija, opšta i lična higijena, smanjivanje gustine smeštaja, izbegavanje velikih skupova i s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Specifična profilak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akcin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r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emioprofila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no otkrivanje izvora zara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filaktička dezinf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dravstveno vaspi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era izbora: delovanje na dispozic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Karakteristike epidemija </a:t>
            </a:r>
            <a:br>
              <a:rPr sz="4000"/>
            </a:b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kapljičnog porekl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Brzina prenoše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Eksploziv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Nagli porast i brzi pad oboleli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Veliki broj zdravih kliconoš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ezonski karak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eriodičnost ili ciklič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avljaju se uglavnom u dečijim kolektiv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Koncentrično šire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imes New Roman"/>
              </a:rPr>
              <a:t>Osnovne epidemiološke karakteristik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utna respiratorna obolenja spadaju u najrasprostranjenija i najmasovnija obolenja u humanoj populaci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ut prenošenja: vazdu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novne zapaljenske promene lokalizovane su na sluznici respiratornog trak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tiologija: virusi i bakterije. Dominantni uzročnici su virusi; adenovirusi (41), virus influence (1-3), parainfluence (1-4), rinovirusi (89),  hemolitički streptokok grupe A, meningokok, haemofulus influence tip B it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vor (rezveroar) zaraze je čovek; inficiran, bolestan-u svim fazama bolesti, zdrav kliconoš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ovek je najzarazniji pred kraj inkuba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i akutno kliconoštvo, a hronično kliconoštvo ne postoj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esto je postojanje zdravog kliconošt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oonoze: Q-groznica, kuga, bruceloza. Kod ovih bolesti izvor zaraze je životin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Glavni put prenošenja je vazdušno-kapljični, manje kontakt (poljubac, pribor za jelo, maramice) i hrana (mleko, mladi si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Fenomen bačenog kame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-koncentričan način širenja, po tipu geometrijske progresij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lazno mesto: sluznica disajnih puteva, intaktna konjuktiva, ređe povre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etljivost: opš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znate pod nazivom 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«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ečije zarazne boles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»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Kontagioznost, nema specifičnog imuniteta, put prenoše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Posle bolesti ostaje specifičan imunitet različitog traja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d jednog broja respiratornih zaraznih bolesti ostaje kratkotrajan imunitet, ili kratkotrajan tip specifičana (Gri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d drugih se stvara doživotan (male boginj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nkubacija: kratka (1-2) il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rednje duga (14 dan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jveći broj bolesti nema tipičnu kliničku sliku (blagi simptomi, atipične kliničke form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ali broj bolesti iz ove grupe ima tipične kliničke simtome:male boginje, veliki kašalj, zauške, varičela, rubeo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 tačnu dijagnozu je osim kliničke slike i lokalizacije potrebna i laboratorijska dijagnost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kazuju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ezonsko kretanje, veći broj obolelih u hladnijim mese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alasasto kretanje-porast broja obolelih posle određenog broja godina (posle 2, 5, 7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avljaju se kao sporadični slučajevi, endemo-epidemijski, pandemijs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8:19:29Z</dcterms:created>
  <dc:creator>Intel</dc:creator>
  <dc:description/>
  <dc:language>en-US</dc:language>
  <cp:lastModifiedBy>Natasa Rancic</cp:lastModifiedBy>
  <dcterms:modified xsi:type="dcterms:W3CDTF">2014-03-04T11:38:41Z</dcterms:modified>
  <cp:revision>23</cp:revision>
  <dc:subject/>
  <dc:title>Epidemiologija  respiratornih bolest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