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0E08-3BCD-40CA-B710-5900766B3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86CD-6FD5-4BAA-B34D-0A4C05544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E2A7-5E56-41E6-B98D-C59C8EFC1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49F4-3838-43C5-8C56-A2AD80B28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6D0D-B542-4C32-9B5C-D283A9C3E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D57B-554D-469E-9055-C17409471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FB8E-C0BC-46F9-A30B-BDF4BE55E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EE01-3D40-4008-AC30-AE8E1E73E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9EA5-BA93-485F-8DF8-791DC9976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DAF8-AA81-4339-B669-15C24360C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E47B-5A54-4367-872D-D50062072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CC66-FA10-478C-B775-C18DD8C38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7B4FF-2FF3-4A35-98BB-91F9F2CA72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Službeni glasnik RS” broj </a:t>
            </a:r>
            <a:r>
              <a:rPr b="1" lang="sr-Latn-CS" sz="4400" spc="-1" strike="noStrike">
                <a:solidFill>
                  <a:srgbClr val="000000"/>
                </a:solidFill>
                <a:latin typeface="Arial"/>
              </a:rPr>
              <a:t>98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od 15. novembra 2005. god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AVIL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 prijavljivanju zaraznih bolesti i drugih slučajeva utvrđenih Zakonom o zaštiti stanovništva od zaraznih bole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K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Prijava zarazne bolesti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- doktor medicine koji utvrdi oboljenje (na osnovu kliničke ili laboratorijske dijagnoz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Prijava epidemije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doktor medicine, epidemiolog instituta/zavoda koji utvrdi postojanje epidem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Odjava epidemij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- doktor medicine, epidemiolog instituta/zavoda koji utvrdi prestanak epidem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Mogućnost infekcije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virusom besnila – doktor medicine koji tu mogućnost ustano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Prijava bolničke infekcij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– doktor medicine zdravstvene ustanove u kojoj je bolnička ionfekcija NASTA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Prijava o laboratorijski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tvrđenom uzročniku zarazne bolesti – mikrobiolog laboratorije u koja je obavljena izolacija uzročn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Oboljevanje ili smrt od TBC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– doktor medicine koji je postavio dijagnozu, odnosno započeo leče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KAD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Prijava zarazne bolesti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 24 sata od postavljanja kliničke/laboratorijske dijagno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Zbirna prijav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– jedanput nedeljno, 48 sati od poslednjeg dana prethodne nedel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Prijava epidemije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 najkasnije tri dana od utvrđivanja epidem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Odjava epidemij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- nakon dvostrukog najdužeg perioda inkubacije za bolest koja je izazvala epidemij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Mogućnost infekcije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virusom besnila - odmah po završetku antirabičnog tretm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Prijava bolničke infekcij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- tri dana nakon potvrde bolničke infek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Prijava o laboratorijski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tvrđenom uzročniku zarazne bolesti - 24 časa od izolacije uzročnika za bolesti sa pojedinačne prijave; sedam dana za bolesti sa zbirne prij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Oboljevanje ili smrt od TBC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– 24 časa nakon postavljanja dijagnoze/potvrde smr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KAK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ultom prijav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birnom prijav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Hitnom prijav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Aler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ojedinačnom prijav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1. Nulta prija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dsustvo akutne flakcidne paralize, malih boginja, kongenitalne rubeole i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eđunarodne konvencije, ugovori ili progra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rogrami za odstranjivanje ili iskorenjivanje zaraznih bole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tručno-metodološka uputstv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2. Zbirna prija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ar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olna hlamidija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včije boginje-variče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u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treptokokni faringitis i tonzili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Gr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apaljenje pluć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3. Hitna prija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umnja na postojan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olere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uge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velikih boginja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žute groznice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virusnih hemoragičkih groznica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liomijelitisa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ifterije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alih boginja 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botuliz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dmah po postavljanju sumnje telefonom , telegramom, teleksom, elektronskom poštom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4. Alert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Epidemija zaraznih bolesti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(elementarne nesreće,katastrofe, masovna okupljanj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Širenje epidem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ove ili nedovoljno poznate bole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edovoljno defiinisani simptomi i st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Biološki agens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(sumnja na njegovu upotrebu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eritoriju,organizaciju ,učesnike, postupke i trajanje Alerta određuje institut/zavod za zaštitu zdravlja ili Bat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5. Pojedinačnom prijav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boljenje od zarazne bole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mrt od zarazne bole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mrt od zarazne bolesti koja nije navedena u pravilni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umnja da postoji oboljenje od zarazne bolesti (utvrđene u članu 7. stav1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zlučivanje uzročnika trbušnog tifusa, paratifusa, drugih salmoneloza, šigeloza, jersinioza, kampilobakterio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osilaštvo HB-s antigena, anti-HCV i anti-HIV antitela i nosilaštvo parazita-uzročnika malar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Obrasci za prijavljivan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brasci na kojima se vrši prijavljivanje zaraznih bolesti na način propisan ovim pravilnikom, štampani su uz ovaj pravilnik i čine njegov sastavni de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opunjavaju se čitko (štampanim slovima), svim traženim podacima 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bez brojeva knjižice, šifre delatnosti,registarskog broja i drugih nepotrebnih podataka);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dijagnoza se ispisuje na latinskom jeziku i šifrira po važećoj Međunarodnoj klasifikaciji bolesti sa četvorosimbolnom šifrom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Pravilnik pokušava da odgovori na pitanj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Š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K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KAD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KAK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prijavljuje iz oblasti zaraznih boles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ŠTA?</a:t>
            </a:r>
            <a:br>
              <a:rPr sz="3200"/>
            </a:b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Obaveznom prijavljivanju podlezu sledeći slučajev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Oboljenj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odnosno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smrti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od zaraznih bolesti pobrojanih u članu 2.stav 1) Praviln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Smrt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d zarazne bolesti koja nije navedena u članu 2. Zak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Sumnj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da postoji određeno oboljenj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Epidemij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zarazne bole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Izlučivanje uzročnik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određenih zaraznih bole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Mogućnost infekcij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virusom besn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Bolnička infekcij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(infekcija unutar zdravstvenih ustanov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Rezistencija bakterija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a antimikrobne lek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Laboratorijski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tvrđen uzročnik zarazne bole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Akutna flakcidna parali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Sumnj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na upotrebu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biološkog agen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1. Oboljenja, odnosno smrti od zaraznih bole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A 00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kolera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(Choler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A 01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trbušni tifus i paratifus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(Typhus abdominalis et Paratyphu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A 02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druge salmoneloze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(Salmonelloses alia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A 03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šigeloze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(Shigellos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A 04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druge bakterijske crevne infekcije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(Infectiones intestinales bacteriales alia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A 06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amebijaza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(Amoebia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A 07.1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lamblijaza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(Lamblia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A 07.2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kriptosporidijaza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(Cryptosporidia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A 09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proliv i želudačno-crevno zapaljenje, verovatno zaraznog porekla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(Diarrhoea et gastroenteritis, causa infectionis suspec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A 15-A 19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Tuberkuloza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(Tuberculo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A 20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kuga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(Pest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A 21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tularemija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(Tularaem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A 22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antraks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(Antra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A 23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bruceloza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(Brucello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A 27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leptospiroza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(Leptospiro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560" y="304560"/>
            <a:ext cx="838188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A 32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listerioza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(Listerio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A 33-A 35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tetanus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(Tetanu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A 36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difterija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(Diphther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A 37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veliki kašalj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(Pertus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A 38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šarlah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(Scarlatin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A 39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meningokokna bolest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(Infectio meningococc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A 40-A 41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sepsa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(Septicaem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A 48.1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legioneloza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(Legionello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A 50-A 53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sifilis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(Syphil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A 54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gonoreja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(Infectio gonococc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A 56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polna hlamidijaza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(Infectio sexualis chlamydial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A 69.2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lajmska bolest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(Morbus Ly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A 70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ornitoza,psitakoza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(Ornithosis, Psittaco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A 78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kju-groznica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(Q-febr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A 80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dečja paraliza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(Poliomyelitis anterior acu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A 81.0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Krojcfeld-Jakobova bolest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(CJ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A 82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besnilo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(Rabies-Lyss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A 84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krpeljski virusni encefalitis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(Encephalitis viralis ixodibu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A 87.0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enterovirusni memimgitis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(Meningitis enteroviral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A 95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žuta groznica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(Febris flav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A 96.2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umarajuća groznica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(Febris lass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65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560" y="457200"/>
            <a:ext cx="84582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A 98.0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Krimska-Kongo hemoragička groznica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(Febris haemorrhagica Crim-Cong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A 98.3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Marburška bolest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(Morbus viralis Marbur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A 98.4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bolest Ebola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(Morbus viralis Ebol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A 98.5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hemoragička groznica sa bubrežnim sindromom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(Febris haemorrhagica cum syndroma renal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B 01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ovčije boginje-varičele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(Varicell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B 03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velike boginje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(Variola ver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B 05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male boginje-morbili (Morbill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B 06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crvenka-rubeola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(Rubeol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P 35.0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kongenitalna rubeola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(Syndroma rubeolae congenita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B 15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akutni virusni hepatitis A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(Hepatitis acuta 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B 16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akutni virusni hepatitis B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(Hepatitis acuta 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B 17.1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akutni virusni hepatitis C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(Hepatitis acuta 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B 17.2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akutni virusni hepatitis E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(Hepatitis acuta 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B 18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hronični virusni hepatitis B, C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(Hepatitis viralis chronica B,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B 19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neodređeni virusni hepatitis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(Hepatitis viralis, non specifica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B 20-B 24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HIV bolest (Morbus HI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B 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zauške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(Parotit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B 27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infektivna mononukleoza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(Mononucleosis infectiv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B 50-B 54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malarija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(Malar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B 55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lajšmanijaza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(Leishmania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B 58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toksoplazmoza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(Toxoplasmo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B 67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ehinokokoza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(Echinococco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B 75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trihineloza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(Trichinello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B 86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šuga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(Scab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B 96.3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bolest čiji je nuzročnik hemofilus influence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(Haemophilus influenza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G 00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bakterijski meningitis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(Meningitis bacterial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J 02.0, J 03.0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streptokokni faringitis i tonzilitis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(Pharyngitis et Tonsillitis streptococc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J 10-J 11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grip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(Influenz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J 12, J 12.9, J 13, J 14, J 15, J 84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zapaljenje pluća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(Pneumonia viralis et bacterial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2. Smrt od zarazne bolesti koja nije navedena u članu 2. Zakona</a:t>
            </a:r>
            <a:br>
              <a:rPr sz="2800"/>
            </a:br>
            <a:br>
              <a:rPr sz="2800"/>
            </a:b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Sumnja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da postoji oboljenje od:</a:t>
            </a:r>
            <a:br>
              <a:rPr sz="2800"/>
            </a:b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kolere</a:t>
            </a:r>
            <a:br>
              <a:rPr sz="2800"/>
            </a:b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kuge</a:t>
            </a:r>
            <a:br>
              <a:rPr sz="2800"/>
            </a:b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velikih boginja</a:t>
            </a:r>
            <a:br>
              <a:rPr sz="2800"/>
            </a:b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žute groznice</a:t>
            </a:r>
            <a:br>
              <a:rPr sz="2800"/>
            </a:b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virusnih hemoragičkih groznica</a:t>
            </a:r>
            <a:br>
              <a:rPr sz="2800"/>
            </a:b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oliomijelitisa</a:t>
            </a:r>
            <a:br>
              <a:rPr sz="2800"/>
            </a:b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difterije</a:t>
            </a:r>
            <a:br>
              <a:rPr sz="2800"/>
            </a:b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alih boginja </a:t>
            </a:r>
            <a:br>
              <a:rPr sz="2800"/>
            </a:b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botulizma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6840" y="304920"/>
            <a:ext cx="84582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4. Epidemija zarazne bole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5. a)Izlučivanje uzročnik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trbučnog tifusa i paratifusa (Z 22.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drugih salmonelo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šigelo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jersinio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kampilobakterioza (Z 22.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b)Nosilaštv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ntigena virusnog hepatitisa B (Z 22.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ntitela na virusni hepatitis C (Z 22.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ntitela na HIV (Z 2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arazita-uzročnika malarije (Z 22.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9T16:48:11Z</dcterms:created>
  <dc:creator>Mateja</dc:creator>
  <dc:description/>
  <dc:language>en-US</dc:language>
  <cp:lastModifiedBy>Zoran</cp:lastModifiedBy>
  <dcterms:modified xsi:type="dcterms:W3CDTF">2006-01-10T09:12:02Z</dcterms:modified>
  <cp:revision>5</cp:revision>
  <dc:subject/>
  <dc:title>Službeni glasnik RS broj 98 od 15. novembra 2005. godine</dc:title>
</cp:coreProperties>
</file>