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5F5-AC90-40A8-B1B5-0EF4E48F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9EFF-2EB8-4D08-98CE-EA0D7D31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C26-6533-4031-AA69-154BF2ED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F8F-1A9E-4249-8D84-AF537144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785-7BBE-4A95-BDAE-243A30FF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EDAE-8F43-48BE-B8F2-57CCA41A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ADF1-4C69-435B-967C-E9CA466F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5B4E-8F23-46F9-80F1-0AF682B4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257-EDC7-4FED-8DD8-EE6B2212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5AEC-03B5-4562-B2D0-4248C4F4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44F-1130-49D1-99B2-E774F5FB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A4A-ED07-40F9-9410-609FE888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5158-31D3-459E-A877-F48E1EF88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EDB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NACIONALNOM PROGRAMU ZDRAVSTVENE ZAŠTITE ŽENA, DECE I OMLAD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"Sl. glasnik RS", br. 28/2009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stent dr sc.med Nataša Ranč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ga za osetljive grupacij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češće zajednic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češće pojedinaca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tvo za zdravlje (međusektorska saradnja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alitet rada službi za zdravstvenu zaštitu žena, dece i omladine i jedinstven zdravstveni informacioni si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SKE C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dravstvena zaštita žena u vezi sa planiranjem porodice, trudnoćom, porođajem i materinstv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dravstvena zaštita novorođene dece i odojčadi s posebnim osvrtom na smanjenje perinatalne, neonatalne i smrtnosti odojča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dravstvena zaštita male de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avstvena zaštita dece predškolskog i mlađeg školskog uzras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avstvena zaštita adolescen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dravstvena zaštita mladih posle punolet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avlje dece, omladine i žena tokom trudnoće, porođaja i materinstva, jeste jedan od prioriteta sistema zdravstvene zaštite Republike Srbi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a popisu stanovništva iz 2002. godine od ukupno 7.498.001 stanovnika u Republici Srbij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% čine žene fertilnog doba, deca uzrasta od 0 do šest godina 6,9% i od sedam do 19 godina 14,8% ili ukupno deca do 19 godina čine 21,7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a ukupnog fertiliteta opada, te je sa 1,72 u 1991 opala na 1,42 u 2007. godi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Prosečna starost stanovnika Republike Srbije 1991. godine bila je 35,0 (osoba muškog pola-33,9 i ženskog-36,0), a prema podacima za 2007. godinu iznosi 40,9 godina, (osoba muškog pola-39,6 i ženskog-42,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 1991. do 2007. godine beleži se stalno smanjenje stope rađanja i porast opšte stope smrt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Opšta stopa smrtnosti (na 1000 stanovnika) porasla je sa 12,9 u 1997. godini na 13,9 u 2007. godini, a stopa nataliteta opala sa 10,5 na 9,2 na 1000 stanovnik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Navedena demografska kretanja u Republici Srbiji uzrokuju smanjenje prirodnog priraštaja sa vrednošću od oko minus četiri na 1000 stanovnika u poslednjoj posmatranoj godi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konska regul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konom i Zakonom o zdravstvenom osiguranju ("Službeni glasnik RS", br. 107/05 i 109/05) utvrđeni su uslovi za obezbeđivanje zdravstvene zaštite žena, dece i omlad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nu zdravstvenu zaštitu u domu zdravlja (član 98. Zakona), u oblasti zdravstvene zaštite ovih populacionih grupacija, pruža izabrani lekar, koji može biti: doktor medicine ili specijalista opšte medicine, specijalista pedijatrije, specijalista ginekologije i akušerstva, i doktor stomatologi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Republici Srbiji u 2007. godini zdravstvena zaštita stanovništva na primarnom nivou obezbeđivana je kroz delatnost domova zdravlja, sa razvijenom mrežom zdravstvenih stanica i ambula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DEĆI PRINCIPI PROGRAM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i na kojima je Program zasnovan jesu: praćenje životnog toka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akost i pristupačnos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rasno i rodno senzitivni (orijentisani) pristup u pružanju zdravstvene zaštit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štita ljudskih prava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3:32:06Z</dcterms:created>
  <dc:creator>AZURE</dc:creator>
  <dc:description/>
  <dc:language>en-US</dc:language>
  <cp:lastModifiedBy>AZURE</cp:lastModifiedBy>
  <dcterms:modified xsi:type="dcterms:W3CDTF">2011-04-18T03:43:41Z</dcterms:modified>
  <cp:revision>2</cp:revision>
  <dc:subject/>
  <dc:title>UREDBA O NACIONALNOM PROGRAMU ZDRAVSTVENE ZAŠTITE ŽENA, DECE I OMLADINE</dc:title>
</cp:coreProperties>
</file>