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FE1-0E44-45C0-9319-9F5A3030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4BA-604D-4DD8-87AD-CBC4E8D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445-C2BF-4820-8624-C102E5E3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FD2-023A-4AD2-A035-52654D95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183DA-C067-4DE3-B2A3-CFF15D8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0B42-3D21-4C79-97F1-08703B69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2230C-3BD0-4053-9DA3-D266EA8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FB2E-B3A9-41DA-A654-9F4C4885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30AD4-AA3A-42D2-9060-9BE83CF0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BAB99-8042-4009-9EE3-22E465E3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F2C2E-6EB5-41B9-B2BC-67E994F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DE2-DA99-4E49-AC0F-2336EC7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B7C8B-54B8-4062-B1ED-C9570F1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E1DD9-5744-4EF4-9D06-B4CF639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5D798-909A-4FE6-ACBE-519AA682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44139-09A6-47F1-8861-7264D0A3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73330-D40E-4E9B-B4D9-E40E9495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6B1-0FB8-45E4-A577-74F9926F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25B-17B8-4AA9-AFB9-150D67CC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32F-A4B4-404F-8025-4CD8B449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EBF-8869-4F45-8D08-9D5DE74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6E5-E8CA-4C96-9691-B48814EF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9F7-E7C1-4336-9626-1E566B7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AFD-B630-44B1-B667-64D55CA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BCF0-3561-446E-95D9-21DEBA34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4F88-CD9E-4F48-B15A-661FEE6F6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Organizacija obaveznih vakcinacija lica određenog uzrasta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обавезну активну имунизацију лица одређеног узрас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обавезну активну и пасивну имунизацију лица изложених одређеним заразним болести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обавезну активну и пасивну имунизацију лица у посебном ризик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бавезну активну и пасивну имунизацију лица запослених у здравственим установам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) обавезну активну имунизацију путника у међународном саобраћају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) препоручену активну имунизацију лица одређеног узраст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) препоручену активну и пасивну имунизацију лица по клиничким индикацијам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препоручену активну имунизацију путника у међународном саобраћају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) обавезну активну и пасивну имунизацију против беснила референтне здравствене устано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lan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imunizacija je imunizacija lica određenog uzrasta, kao i drugih lica određenih zakonom, koju lice koje treba da se imunizuje, kao ni roditelj, odnosno staratelj,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ož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odbije, osim u  slučaju postojanja privremene ili trajne kontraindikacije koju utvrđuje doktor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IZACIJA LICA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ODREĐENOG UZRASTA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tuberkuloz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ečije paral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difter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Aktivna imunizacija protiv tetanu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Aktivna imunizacija protiv pertrusisa (velikog kašl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6. Aktivna imunizacija protiv malih boginja (morbil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7. Aktivna imunizacija protiv zaušaka  (mum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8. Aktivna imunizacija protiv rubeole (crvenk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BAVEZNA AKTIVNA 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MUNIZACIJA LICA ODREĐENOG UZRAS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akutnog virusnog hepatitis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1. Aktivna imunizacija protiv streptokokusa pneumon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BAVEZNA AKTIVNA I PASIVNAIMUNIZACIJA</a:t>
            </a:r>
            <a:br>
              <a:rPr sz="2400"/>
            </a:b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LICA EKSPONIRANIH ODREĐENIM ZARAZNIM BOLESTIMA</a:t>
            </a:r>
            <a:br>
              <a:rPr sz="32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utnog virusnog hepatitisa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og virusnog hepatitisa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3. Besni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t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5. Trbušni tif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бавезна активна и пасивна имунизација лица у посебном ризик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ffffff"/>
                </a:solidFill>
                <a:latin typeface="Tahoma"/>
              </a:rPr>
              <a:t>1) хепатитис Б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ffffff"/>
                </a:solidFill>
                <a:latin typeface="Tahoma"/>
              </a:rPr>
              <a:t>2) грип; 3) менингококна болест; 4) обољења изазвана Стрептококом пнеумоније; 5) обољења изазвана Хемофилусом инфлуенце тип б; 6) варичела; [!] 7) инфекције изазване респираторним синцицијалним вирус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Обавезна активна и пасивна имунизација лица запослених у здравственим установам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епатитис Б; 2) грип; 3) мале богиње; 4) рубела; 5) заушке; 6) дифтерија;7) велики кашаљ; 8) менингококна болест; 9) варичела;10) друге заразне болести према епидемиолошким индикација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епоручена активна имунизација лица одређеног узраст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ffffff"/>
                </a:solidFill>
                <a:latin typeface="Arial"/>
                <a:ea typeface="Arial"/>
              </a:rPr>
              <a:t>1) варичела; 2) обољења изазвана хуманим папилома вирусима; 3) хепатитис А; 4) хепатитис Б; 5) грип; 6) обољења изазвана Стрептококом пнеумоније; 7) зостер; 8) рота вирусне инфекције; 9) менингококна болест; 10) дифтерија; 11) тетанус; 12) велики кашаљ; 13) рубела; 14) крпељски менингоенцефалитис; 15) друге заразне болести у складу са законом по епидемиолошким индикација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predstavlja specifičnu i efikasnu meru u sprečavanju i suzbijanju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je najefikasnija i najjeftinija mera profilakse zaraznih bole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munizacija se vrši vakcinama (vakcinacija, vakcinoprofilaks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specifičnim imunoglobulinima (seroprofilaks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епоручена активна и пасивна имунизација лица по клиничким индикацијам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разне болести против којих се спроводи препоруч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актив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унизација лица по клиничк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ндикацијама су: 1) хепатитис А; 2) хепатитис Б; 3) грип; 4) обољења изазвана Стрептококом пнеумоније; 5) друге заразне болести у складу са законом. (5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разне болести против којих се спроводи препоручена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аси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мунизација лица по клиничким индикацијама су: 1) мале богиње; 2) овчије богиње; 3) инфекција цитомегаловирусом; 4) друге заразне болести у складу са закон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епоручена активна имунизација путника у међународном саобраћај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кlаdu sа Prаvilniкоm о imunizаciјi i nаčinu zаštitе lекоvimа (Službеni glаsniк RS, br. 88/2017, 11/2018, 14/2018, 45/2018, 48/2018 i 58/2018) i Mеđunаrоdnim zdrаvstvеnim prаvilniко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nici u mеđunаrоdnоm sаоbrаćајu sе vакcinišu ако putuјu u zеmljе које zаhtеvајu оdrеđеnu vакcinаciјu i prеmа еpidеmiоlоšкim indiкаciјаmа, prоtiv slеdеćih bоlеsti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žutе grоznicе; mеningококnоg mеningitis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gih zаrаznih bоlеsti (hеpаtitisа А, hеpаtitisа B, trbušnоg tifusа, dеčј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аrаlizе, diftеriје, tеtаnusа, mаlih bоginjа, vаričеlе i dr.)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IMUNIZACIONOG STATUSA U SKLADU SA ZAKONO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va se pri svakoj poseti doktroru a obavezno zbo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isa u sve vrste predškolskih ustan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upisa u sve vrste škola (od osnovne do visoke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štaja u ustanove za decu bez roditeljskog staran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u Vojsku Republike Srbi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ema dece i omladine na bolničko leče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pošljavanje i pre obavljanja prakse u zdravstvenim ustanov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era vekcinalnog statusa protiv tetanusa i rubele kod žena generativnog peri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htev nadležnog zavoda/institu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drugim slučaje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 se može sprovodit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za druge zarazne bolesti koju doktor medicine ili specijalista odgovarajuće grane medicine nije dužan da preporuči ili koja se traži na lični zahtev pacijen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To je primena vakcina u profilaksi (prevenciji)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Dispozi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sklonost organizma da oboli od nek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Imunitet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tpornost organizma prema zaraznim bolest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munitet se ogleda u stvaranju antitela, koja su specifična i odgovaraju svakom uzročniku bolesti sa kojim je organizam dolazio u kontakt i koji je podstakao njegovo stvaran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rodna otpornost (rezistencija)-nesposobnost jedne biološke vrste da oboli od pojedinih zaraznih bolesti druge biološke vrste (svinjska kuga, štenećak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načinu sticanja imunitet se može podeliti na nekoliko gru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munitet: prirodni  i  veštač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ema načinu nastanka imunitet može bit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AKTIVAN i  PAS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rodan: akt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eštački: aktiv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asiv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Prirodni aktivni imunite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u vrstu imuniteta stvara sam organiz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staje 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</a:rPr>
              <a:t>posle prirodnog kontakt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omaćina sa uzročnikom zarazne bolesti, posle preležane bolesti koja je izražena u punoj kliničkoj formi, kao i  posle atipičnih, subkliničkih i inaparentnih kliničkih slika zarazne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vara se i posle većeg broja infekcija sa minimalnim količinama patogenih uzročnika koji nisu u stanju da izazovu nikakve kliničke manifestacije bolesti ("latentno prokuživanje"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Pririodni aktivni imunitet može bi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oživotan imunite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posle preležane bolesti može da se stvori trajan,doživotan imunitet: male boginje, velike boginje, žuta groz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Solid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d kojih se stvara dugotrajan imunitet koji nije doživotan, odnosno, postoji mogućnost ponovnog obolevanja (trbušni tifus, pegavac, pertusis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ratkotrajan imunitet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bolesti koje ostavljaju kratkotrajan imunitet i od kojih može da se oboli više puta u životu (kole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i zaštitu lekovima (u daljem tekstu: hemioprofilaksu) protiv određenih zaraznih bolesti upotrebljavaju se imunobiološki preparati (vakcine i specifični imunoglobulini) i lekovi za koje je izd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ozvola za stavljanje u promet od stra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encije za lekove i medicinska sredstva Srbi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ratkotrajan, tip specifičan imunite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-postoji kratkotrajan imunitet samo prema određenom tipu uzročnik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posle kojih se uopšt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e stvar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imunitet: sifilis, gonoreja, povratna groznica, malar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e bolesti ko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većavaju sklonost k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bole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: crveni vetar, streptokokne angine, herp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Latentno stečen imunit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 je prirodni aktivni imun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avara se posle atipičnih formi zaraznih bolesti: poliomojelitis, šarlah, difte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vara se i posle latentnog prokuživanja: parotitis, poliomijelitis, difterij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Prirodni pas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lacentarno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ijaplacentarno) prenošenje antitela sa majke na plo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om intrauterinog razvoja ploda, antitela majke prelaze u krvotok ploda i štite plod od infekcija i posle rođen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imunitet je kratkotrajan i traje 6 meseci, a dojenjem se produža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itela sa velikom molekularnom težinom (protiv pertusisa) ne prolaze transplacentarnu barijer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Veštački imunitet:</a:t>
            </a:r>
            <a:r>
              <a:rPr b="1" lang="sr-Latn-C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ktivni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asivn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EŠTAČKI AKTIVNI IMUNIT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staje posle vakcinacije; odnosno, posle unošenja različitih antigena na koje organizam reaguje stvaranjem antitel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kcinacij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: namerno unošenje prouzrokovača neke zarazne bolesti (njegovih delova ili produkata-toksina) u organizam, s ciljem da organizam sam stvori specifičnu otpornost prema tom prouzrokovač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likom sprovođenja vakcinacije ne  nastaje obolenj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č vakcina vodi poreklo od latinske reči vacca-što znači: kra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Naziv potiče od Edvarda Dženera koji je uzimao sadržaj pustula kravljih boginja da bi stvorio vakcinu protiv velikih boginj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-imunobiološki preparat koji unet u organizam čoveka može da izazove stvaranje specifičnih antitel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riste se i termini: antigen, profilaktik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OSNOVNE KARATERISTIK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i koje luči, </a:t>
            </a:r>
            <a:r>
              <a:rPr b="0" lang="sr-Latn-CS" sz="2800" spc="-1" strike="noStrike">
                <a:solidFill>
                  <a:srgbClr val="ffcc00"/>
                </a:solidFill>
                <a:latin typeface="Times New Roman"/>
              </a:rPr>
              <a:t>MORAJU d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budu apatogeni, odnosno atoksični za čovekov organizam, ali da pri tom zadrže antigenu moć i izazovu stvaranje specifičen otporno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zročnik, njegov deo ili produkt, ne sme ni pod kakvim uslovima da povrati svoju patogenost, odnosno, toksičnos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 antigenom sastavu vakcina mora da bude što približnija antigenom sastavu odgovarajućeg uzročnika ili toks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istovremenog davanja više injekcionih vakcina, vakcine se daju u različite ekstremit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različite mrtve ili jedne mrtve i jedne žive vakcin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su potreb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k između davanja različitih živih virusnih vakcina, ukoliko se ne daju istovremeno, mora biti najmanje četiri nedelje, osim oralne polio vakcine koja može da se da u bilo kom razmaku ili istovremeno sa drugim živim vakcin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može bit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ivna i pasivn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vakcinacijom, odnosno revakcinacij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protiv zaraznih bolesti sprovodi se tokom cele godin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tivna imunizacija sprovodi se sve dok se ne imunizuju sva lica za koja je propisana imunizacija, osim lica kod kojih su utvrđene trajne kontraindika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vakc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dve doze iste vakci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 smeju biti kraći od preporučeni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nih intervala između do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maci između davanja mrtvih vakcina i imunoglobulina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su potrebn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živih vakcina i imunoglobu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bni su u sledećim slučajevim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ukoliko su transfuzija, derivati krvi koji sadrže antitela ili imunoglobulini dati 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u kraćem od 14 da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kon davanja žive virusne vakci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živa vakcina se mora dati ponovo u predviđenom razmaku nakon imunoglobulina, osim oralne polio vakcine koja se u tom slučaju ne mora ponovit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zmak između davanja živih vakcina i imunoglobu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ako je data transfuzija, derivati krvi koji sadrže antitela ili imunoglobulin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živa vakcina se može dati najranije posle tri meseca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prema savetu imunologa, osim oralne polio vakcine koja može da se da u bilo kom razmaku posle davanja navedenih prepara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cc00"/>
                </a:solidFill>
                <a:latin typeface="Times New Roman"/>
              </a:rPr>
              <a:t>Vrste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u svom sastavu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aju izazivač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naziv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puskularnim vakcinam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one mogu biti dvojak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rtv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uzročnike bolesti (mrtve vakc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bakterijske (protiv trbušnog tifusa, pertusisa, kole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virusne (protiv gripa, poliomijelitisa-Salkova vakci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akcine koje sadrž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atenuisane-oslabljene) žive uzročnike bolesti-ž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akterijske (BC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virusne (OP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6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mogu da budu pripremljene samo od delova uzročnika bolesti, antigena ili grupe antigena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akterijske vakcine–protiv pneumokoka i meningokoka za čije dobijanje se koristi visokoprečošćeni korpuskularni polisaharidni antigeni (polisaharidne vakcin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irusne vakcine-protiv gripa i hepatitisa B koje sadrže samo antige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e na bazi anatoksina (toksoida)-sadrže samo produkte lučenja bakterija: difterični i tetanusni anatoksin ili toksoi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ntraindika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razne bolesti protiv koje se sprovodi imunizacij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je kontraindikaci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imunizaciju lica protiv te boles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AINDIKACIJE ZA DAVANJE VAKCI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pšte kontraidikacije za sve vakcinacije s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1. akutne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2. febrilna sta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3. anafilaksa na komponente vakc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ntraindikacije koje se odnose samo na primenu živih virusnih vakcin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stanja oslabljenog imuniteta (imunodeficitarna stanja usled malignih bolesti, zbog primene velikih doza kortikosteroida, ili zbog radijacij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udnoć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uniz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aktivnu imunizaciju protiv određenih zaraznih bolesti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kci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izvedene od mrtvih ili živih, ali oslabljenih uzročnika zaraznih bolesti ili njihovih proizvoda i vakcine dobijene na bazi genetske tehn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pasivnu imunizaciju upotrebljavaju 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čni imunoglobulini humanog porekl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 sprovodi se po indik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ada je u pitanju vakcinacija protiv tetanusa i besnila nema kontraidikacija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Po trajanju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kontraindikacije mogu bi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Privremene 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traj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"Lažne kontraindikacij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nfekcije gornjih respiratornih puteva, dijare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stma, polenska kijavi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vulzije u porodičnoj anamnez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rapija antibioticima, malim doza kortikosteroidaili lokalnih kortikoster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ronična oboljenja jetre, bubrega, pluća, sr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rmatoze ili lokalne kožne infekciježutica posle rođen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bilna neurološka oboljenja (cerebralna paraliza) i Daunov sindr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utica posle rođ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donesenost, mala težina u odnosu na uzrast det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ije preležane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davanja (aplikacije) vakci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oralno (polimijelit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nazalno (gri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kut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karifikacija (velike bogin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dermalno (BCG-tuberkuloz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uboko subkutano (DPT,MM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tramuskularno(Hepatitis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se mogu davati jednokratno-samo u jednoj dozi (MM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išekratno (frakcionirano)- kada je za kompletnu vakcinaciju potrebno je dati 2,  3 ili više doza u određenim vremenskim razmacima (DPT-3 doze, poliomijelitis-3 doze, trbušni tifus-2 doz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Revakcinac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štački aktivni imunitet koji je storen vakcinacijom, posle odreženog vremena počinje postepeno da opada,a da bi se održeo neophodno je podsticati organizam da stvar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se ranije vakcinisanoj osobi posle određenog vremena, ponovo aplikuje samo jedna doza iste vakcine tada dolazi do brzog i višestrukog povećanja zaštitnih antitela u cirk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dnokratno davanje vakcine već vakcinisanoj osobi zove se revakcinacija, a doza vakcine koja se daje zove se stimulišuća doza, rapel ili buster do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  pripremna faza imuniz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  izođenje imunizacij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III sumiranje rezult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Pripremna faza imunizacij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onošenje Programa imunizaci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ređivanje zdravstvene ustanove koja treba da izvede imunizacij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ezbeđivanj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evidencio-dokumentacionog materijal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onošenje Plana imunizacije (odobrava Plan Zavod ili Institut za javno zdravlj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ezbeđenje finansijskih sredsta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ebovanje vakcine i ostalog materijala potrebnog za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Formiranje ekip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dravstveno vaspitni r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 (25.2.2016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НИК О ИМУНИЗАЦИЈИ И НАЧИНУ ЗАШТИТЕ ЛЕКОВ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л. гласник РС бр. ) 88/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и текст на снази од 30/09/2017 , у примени од 30/09/20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cc00"/>
                </a:solidFill>
                <a:uFillTx/>
                <a:latin typeface="Times New Roman"/>
              </a:rPr>
              <a:t>IMUNIZACIJA PROTIV ODREĐENIH ZARAZNIH BOLE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e obavezn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11:20Z</dcterms:created>
  <dc:creator>Home</dc:creator>
  <dc:description/>
  <dc:language>en-US</dc:language>
  <cp:lastModifiedBy>Korisnik</cp:lastModifiedBy>
  <dcterms:modified xsi:type="dcterms:W3CDTF">2018-10-26T08:15:59Z</dcterms:modified>
  <cp:revision>73</cp:revision>
  <dc:subject/>
  <dc:title>Organizacija obaveznih vakcinacija lica određenog uzrasta  (sistematska vakcinacija)</dc:title>
</cp:coreProperties>
</file>