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A5C-BFF0-43D8-8FAC-9968CB3C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AC7-F81C-4762-9736-87A5B925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61A-BF1E-490B-B060-32FED985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28A-DDF0-4F00-BF26-36B99CFF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EF5D-2180-43B9-A7E1-D5AC9F64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1FA2-C186-4015-9B0F-E3C241E8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C9EB-C929-4F24-9A67-57C3E6D5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2E6A-56BA-48FB-BDE2-D2D2C351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E1DE-B520-4B0A-A0B5-DD2CE4A4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EFE2-ED42-49D8-9E3E-E8D1A6A4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663B-F434-49A1-94CE-BA564610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0DB-F9E3-4168-B23B-4AC3EB9B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D41F-EBDD-4FF2-A6A0-3BBCC7EA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E637-AE8A-452B-A4B8-973E6F43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8DB2-5461-4A79-B66A-70A880BD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1451-87A2-408B-A268-6CBFC8E9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A0EB-DC83-498A-B100-058D0372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B33-2DEA-4536-A3C6-E0163FF7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00E-1372-475B-B4AA-34E608AC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A43-6D60-42CF-AE34-6641EFBE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F40-269F-4ECD-9B55-452AA4E3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B7E-2EA3-4A40-9AB2-94BC5C2E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07E-DBBE-4217-9EF5-6ABC5FA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23A-CD47-41C1-88E7-20870B3D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2F54-1BCD-4731-BEF4-BBFD412E22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CC6E-FBDA-44AF-A764-09B153E5D02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Times New Roman"/>
              </a:rPr>
              <a:t>ČUVANJE I TRANSPORT VAKCINA "HLADNI LANAC"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ransport i čuvanje vakcina pod određenim temperaturnim uslovima od proizvođača preko distributera do krajnjeg korisnika zove se hladni lana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 1997. (Odluka o imunizacijama, Službeni list SRJ 27/97) odredbe o hladnom lanc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ežim hladnog lanca strožiji je kada su u pitanju žive vakcine, naročito od osetljivih virusa kao što su morbili, parotitis i rubeola, kao i za poliovirusnu vakcin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Blaži kriterijumi za BCG vakcinu, mrtve vakcine i toksoide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Jedina stabilna vakcina na višim temperaturama vakcina protiv akutnog hepatitisa B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e vakcine treba da se čuvaju u specijalnim frižiderima, ali ako ih nema, onda u običnim frižiderima za domaćinstvo, ali je obavezno prisustvo termomet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mperatura mora da bude između 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 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ladni lanac se kontroliše primenom određenih indikatora promene temperature tzv. monitorim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aka zdravstvena ustanova mora da koristi rashladne uređaje za čuvanje i transport vakcina, a u tim uređajima moraju da postoje indikatori temperature (termometri ili monitor-kartic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nitor-kartica je karton u kome se upisuju podaci o vakcini (datum, vrsta i serija, lokacija), počevši od proizvođača, preko distributera do krajnjeg korisnika(onog ko primenjuje vakcinu), tj. na svim karikama hladnog lan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i i jedna specijalna traka sa otvorima obeleženim slovima A, B, C i D. Ova traka se aktivira kada vakcina počinje put od proizvođača koji je aktivira, ka korisniku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 kartica je neprekidno uz vakcinu, do utroška poslednje doze. Hemijska traka je osteljiva na temperaturu iznad 1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stepeni i počinje da dobija plavu boju, od mesta gde je aktivirana, odnosno od otvora 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ma širenju plave boje može se zaljkučiti koliko dugo je vakcina transportovana i kojoj temeraturi je bila izlože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vori A,B,C odnose se na temperature iznad 12° 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tvor D je specifičan i pokazuje da li je vakcina bila čak i kratkotrajno (najmanje 2 sata) izložena temperaturi višoj od 34° 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vi podaci na monitor kartici o kritičnoj temperaturi u toku transporta odnose se samo na više nedozvoljene temperatu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se radi o nižim temeperaturama ispod 0°C, onda se to kontroliše specijalnim dodatkom tzv. «friz voč» monitorom, jednom cevčicom sa rezervoarom napunjenim crvenim mastilom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aj «friz voč» se nalepi na monitor karticu, a koristi se u toku zimskih meseci kada se očekuju niske tempera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ehanizam ove kontrole je takav da cevčica puca na temperaturi ispod minus 4°C u toku jednog sata i oboji crveno ograničeno polje na monitor kartic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va kontrola temperature niže od 0°C bitna je zbog opasnosti od zamrzavanja mrtvih i toksoidnih vakcina u tečnom stanju, koje ne smeju da se zamrzavaj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o je «friz voč» proliven, odnosno, ako je neka od ovih vakcina bila zamrznuta, ona nije više za upotreb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49:53Z</dcterms:created>
  <dc:creator>Intel</dc:creator>
  <dc:description/>
  <dc:language>en-US</dc:language>
  <cp:lastModifiedBy>Intel</cp:lastModifiedBy>
  <dcterms:modified xsi:type="dcterms:W3CDTF">2009-11-10T10:04:41Z</dcterms:modified>
  <cp:revision>4</cp:revision>
  <dc:subject/>
  <dc:title>ČUVANJE I TRANSPORT VAKCINA "HLADNI LANAC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