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9615-6D4E-4CD3-951F-99813D11F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45FC-421C-403F-8F7C-9896548BC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A923-44CF-4A6B-ADDB-BD7A0FC74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FD1F-F2D8-4764-B08F-DBD8F7EBA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AF8162-B66A-4ADC-8A31-5CD028154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CD84CC-4671-4C34-852C-BEB3FFFA6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A722A8-CB44-4C9E-B341-9F37D8CFF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60170F-9A8C-410F-B4ED-B38227BF0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446F56-B455-40FE-A898-70A3E6B56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D5D00A-BE7F-40C0-9079-AA2C142A4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1BE5A4-277B-4551-AB5D-62B08A46D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ED7E-972A-45EA-97DE-B9308C980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9FF191-7D36-4B70-BD3B-954B85C63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9364E6-FD06-49FD-AC91-4FF88E6F8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55F630-A0EE-4FCC-A726-26BCC7041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B2A49A-8B27-4BE0-AFC1-843845975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E38E0D-64CA-41BA-9447-A43735313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8D36-E761-4C6C-9A9B-1FCE85F9B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F677-0115-4389-B017-8737E48B4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C211-E8FC-418A-8B68-0A12702AA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7711-2559-43CD-86DC-5C1373DEB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1732-13FB-4B0B-A3DC-BE7C0D54F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6ED2-8BB2-4363-903D-4502B7C2B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E66B-17E2-42CC-ADE8-80880E543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86149-4A61-48BF-B7AB-C8C367670A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60885-9795-45CB-B55D-42D31A95EF0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125000"/>
            <a:ext cx="7772400" cy="2303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Obavezna</a:t>
            </a:r>
            <a:r>
              <a:rPr b="1" lang="sr-Latn-R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aktivna i pasivn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imunizacija lica eksponiranih određenim zaraznim bolestima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ekspoziciona vakcinacija protiv besnila sprovodi se davanjem tri pojedinačne doze vakcine protiv besnila u deltoidni mišić, </a:t>
            </a:r>
            <a:r>
              <a:rPr b="0" lang="sr-Latn-RS" sz="3200" spc="-1" strike="noStrike">
                <a:solidFill>
                  <a:srgbClr val="ffffff"/>
                </a:solidFill>
                <a:latin typeface="Times New Roman"/>
              </a:rPr>
              <a:t>intramuskularno ili intradermalno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izmenično u naspramnu ruku, po šemi 0, 7. i 21. da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Times New Roman"/>
              </a:rPr>
              <a:t>Kontrola imuniteta je obavezna kod potpuno vakcinisanih 2 do 4 nedelje od poslednje doze vakci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kspoziciona vakcinacija protiv besnil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557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d svih osoba koje su profesionalno izložene virusu besnila redovna kontrola imuniteta obavezna je na svakih 12 mesec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ko je titar antitela manji od 0.5 IJ/ml osoba se revakciniše jednom dozom vakci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Latn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va vakcinacija preporučuje se i putnicima u zemlje sa enzootskim psećim besnilom najmanje 45 dana pre puta sa kontrolom imuniteta, 2 do 4 nedelje posle zadnje doze vakci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stekspozicion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bavezna imunizacija protiv besnila sprovodi se ko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ca koje je ugrizla ili na drugi način ozledila besna ili na besnilo sumnjiva divlja ili domaća životinja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ca koje je ugrizao pas ili mačka nepoznatog vlasnika, koji se ne mogu držati pod desetodnevnim veterinarskim nadzorom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ca koje je ugrizao pas ili mačka koji u toku deset dana od dana ozlede pokažu znake besnila, uginu, budu ubijeni ili odlutaju, a besnilo životinje se ne može isključiti laboratorijskim pregledom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ce koje se moglo zaraziti virusom besnila preko služokože ili oštećene kož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irabična vakcinacij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557360"/>
            <a:ext cx="822960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unizacija protiv besnila sprovodi se odmah po utvrđivanju indikacije, davanjem </a:t>
            </a:r>
            <a:r>
              <a:rPr b="0" lang="sr-Latn-RS" sz="3200" spc="-1" strike="noStrike">
                <a:solidFill>
                  <a:srgbClr val="ffffff"/>
                </a:solidFill>
                <a:latin typeface="Times New Roman"/>
              </a:rPr>
              <a:t>tri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jedinačnih doza vakcine protiv besnila u deltoidni mišić a kod male dece u anterolateralni deo natkolenice, intramuskularno, naizmenično u suprotni ekstremitet, po šemi: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 7 и </a:t>
            </a:r>
            <a:r>
              <a:rPr b="0" lang="sr-Latn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1.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на, сваки пут у наспрамну руку, а код деце узраста до две године ИМ у антеролатерални део натколенице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tekspoziciona zaštit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tovremeno sa davanjem prve doze vakcine protiv besnila, u svim slučajevima, daje se jednokratno i humani antirabijski imunoglobulin (HRIG) u dozi od 20 I.J. na kilogram telesne ma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že se dati </a:t>
            </a:r>
            <a:r>
              <a:rPr b="0" lang="sr-Latn-RS" sz="3200" spc="-1" strike="noStrike">
                <a:solidFill>
                  <a:srgbClr val="ffffff"/>
                </a:solidFill>
                <a:latin typeface="Times New Roman"/>
              </a:rPr>
              <a:t>d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RS" sz="32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dana od </a:t>
            </a:r>
            <a:r>
              <a:rPr b="0" lang="sr-Latn-RS" sz="3200" spc="-1" strike="noStrike">
                <a:solidFill>
                  <a:srgbClr val="ffffff"/>
                </a:solidFill>
                <a:latin typeface="Times New Roman"/>
              </a:rPr>
              <a:t>započete vakcinacij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RIG se infiltruje u ranu i oko rane</a:t>
            </a:r>
            <a:r>
              <a:rPr b="0" lang="sr-Latn-RS" sz="3200" spc="-1" strike="noStrike">
                <a:solidFill>
                  <a:srgbClr val="ffffff"/>
                </a:solidFill>
                <a:latin typeface="Times New Roman"/>
              </a:rPr>
              <a:t>-ukoloko je to moguć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a ostatak potrebne količine daje se intramuskularno u glutealnu regij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RIG se aplikuje u svim slučajevima, bez obzira na vreme proteklo od ekspozicije virusu besnil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trebna količina HRIG-a ne sme da se prekorač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600" spc="-1" strike="noStrike">
                <a:solidFill>
                  <a:srgbClr val="ffffff"/>
                </a:solidFill>
                <a:latin typeface="Times New Roman"/>
              </a:rPr>
              <a:t>Dve nedelje od poslednje doze vakcine u postekspozicionoj zaštiti sprovodi se obavezna provera imuniteta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stovremeno sa imunizacijom protiv besnila sprovodi se imunizacija protiv tetanusa, u skladu sa </a:t>
            </a:r>
            <a:r>
              <a:rPr b="0" lang="sr-Latn-RS" sz="36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avilnikom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ktivna i pasivna imunizacija protiv tetanusa kod povređenih li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unizacija protiv tetanusa kod povređenih lica sprovodi se vakcinisanjem adsorbovanom TT vakcinom i humanim antitetanusnim imunoglobulinom (HTIG) na sledeći nači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ca </a:t>
            </a:r>
            <a:r>
              <a:rPr b="0" lang="sr-Latn-RS" sz="3200" spc="-1" strike="noStrike">
                <a:solidFill>
                  <a:srgbClr val="ffffff"/>
                </a:solidFill>
                <a:latin typeface="Times New Roman"/>
              </a:rPr>
              <a:t>sa medicinskom dokomunentacijom,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oj</a:t>
            </a:r>
            <a:r>
              <a:rPr b="0" lang="sr-Latn-RS" sz="3200" spc="-1" strike="noStrike">
                <a:solidFill>
                  <a:srgbClr val="ffffff"/>
                </a:solidFill>
                <a:latin typeface="Times New Roman"/>
              </a:rPr>
              <a:t>o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</a:t>
            </a:r>
            <a:r>
              <a:rPr b="0" lang="sr-Latn-RS" sz="32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RS" sz="3200" spc="-1" strike="noStrike">
                <a:solidFill>
                  <a:srgbClr val="ffffff"/>
                </a:solidFill>
                <a:latin typeface="Times New Roman"/>
              </a:rPr>
              <a:t>potvrđuje da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tpuno vakcinisana i revakcinisana protiv tetanusa za svoj uzrast</a:t>
            </a:r>
            <a:r>
              <a:rPr b="0" lang="sr-Latn-RS" sz="3200" spc="-1" strike="noStrike">
                <a:solidFill>
                  <a:srgbClr val="ffffff"/>
                </a:solidFill>
                <a:latin typeface="Times New Roman"/>
              </a:rPr>
              <a:t> (najmanje 4 doze vakcine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a od poslednje doze do povrede je 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prošlo manje od </a:t>
            </a:r>
            <a:r>
              <a:rPr b="0" lang="sr-Latn-CS" sz="3200" spc="-1" strike="noStrike">
                <a:solidFill>
                  <a:srgbClr val="ffcc00"/>
                </a:solidFill>
                <a:latin typeface="Times New Roman"/>
              </a:rPr>
              <a:t>deset 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godina,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ne dobijaju ni vakcinu ni HTIG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ff"/>
                </a:solidFill>
                <a:latin typeface="Times New Roman"/>
              </a:rPr>
              <a:t>Hepatitis B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ff"/>
                </a:solidFill>
                <a:latin typeface="Times New Roman"/>
              </a:rPr>
              <a:t>Hepatitis 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ff"/>
                </a:solidFill>
                <a:latin typeface="Times New Roman"/>
              </a:rPr>
              <a:t>Tetanu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ff"/>
                </a:solidFill>
                <a:latin typeface="Times New Roman"/>
              </a:rPr>
              <a:t>Besnil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ff"/>
                </a:solidFill>
                <a:latin typeface="Times New Roman"/>
              </a:rPr>
              <a:t>Trbušni tifu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ca koja su potpuno vakcinisana i revakcinisana protiv tetanusa za svoj uzrast, a od poslednje doze do povrede je 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prošlo više od deset godina,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dobijaju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ednu dozu TT vakcine i 250I.J. HTI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odmah po povređivanju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ca koja nisu vakcinisana, lica koja su nepotpuno vakcinisana ili nemaju dokaze o imunizaciji protiv tetanusa, dobijaju </a:t>
            </a:r>
            <a:r>
              <a:rPr b="0" lang="sr-Latn-RS" sz="2800" spc="-1" strike="noStrike">
                <a:solidFill>
                  <a:srgbClr val="ff0000"/>
                </a:solidFill>
                <a:latin typeface="Times New Roman"/>
              </a:rPr>
              <a:t>tri</a:t>
            </a:r>
            <a:r>
              <a:rPr b="0" lang="sr-Latn-R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doze</a:t>
            </a:r>
            <a:r>
              <a:rPr b="0" lang="sr-Latn-CS" sz="2800" spc="-1" strike="noStrike">
                <a:solidFill>
                  <a:srgbClr val="ff3300"/>
                </a:solidFill>
                <a:latin typeface="Times New Roman"/>
              </a:rPr>
              <a:t> TT vakcin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prvu dozu odmah, drugu dozu u razmaku ne kraćem od mesec dana, treću dozu šest meseci nakon druge doze, </a:t>
            </a:r>
            <a:r>
              <a:rPr b="0" lang="sr-Latn-RS" sz="2800" spc="-1" strike="noStrike">
                <a:solidFill>
                  <a:srgbClr val="ffffff"/>
                </a:solidFill>
                <a:latin typeface="Times New Roman"/>
              </a:rPr>
              <a:t>šema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(0,1,6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va lica dobijaju i HTIG sa prvom dozom vakcine, odmah po povređivanju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kcine TT i HTIG daju se istovremeno, intramuskularno u suprotni ekstremite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kcinacija protiv trbušnog tifus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dna od najstarijih mrtvih vakcin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Široku upotrebu stekla prvo u armijam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toje: fenolna, alkoholna, formalinska, suva acetonska.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ktivna imunizacija danas sprovodi se kod dece starije od dve godine i kod odraslih jednom dozom inaktivisane polisaharidne vakci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ktivna imunizacija sprovodi se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d kontakta, osoba koje žive u domaćinstvu sa kliconošom trbušnog tifu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d osoba koje rade u lošim higijenskim uslovi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d zaposlenih u komunalnim preduzećima na otklanjanju otpadnih materija, sahranjivanju leševa.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akcinacija nakon 3 godine u slučaju postojanja rizik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ktivna imunizacija protiv hepatitisa 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ovodi se kod starijih od 16 godina davanjem jedne doze inaktivisane vakc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je se i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d intravenskih narkom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d osoba sa transplantiranom jetr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obama koje rade u lošim higijenskim prilika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poslenih u komunalnim preduzeći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škarcima koi imaju seksualne odnose sa drugim muškarci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uga doza može se dati 6 do 12 meseci od prve doz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kcinacija protiv akutnog virusnog hepatitisa B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ema epidemiološkim indikacijama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rovodi se ko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olelih od hemofilije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lesnika na dijalizi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lnih partnera HbsAg pozitivnih lica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štićenika ustanova socijalne zaštite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ravenskih narkomana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sulin zavisnih bolesnika od šećerne bolesti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vorođenčadi HbsAg pozitivnih majk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lantacije jet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ktivna i pasivna imunizacija lica koja su imala akcident sa infektivnim materijalom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ktivna imunizacija lica koja su imala akcident sa infektivnim materijalom sprovodi se sa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četiri doze vakcine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 šemi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0, 1, 2. i 12. mese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vakcinisana i nepotpuno vakcinisana lica koja su imala akcident sa infektivnim materijalom (krv ili serum)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bavezno dobijaju i intramuskularno hepatitis B imunoglobulin (HBIG) u količini koju preporučuje proizvođač, odmah po akcidentu, a najkasnije do 12 sati od momenta akciden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BIG se daje istovremeno sa prvom dozom vakcine, u suprotni ekstremite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ktivna i pasivna zaštita novorođenčadi HbsAg pozitivnih majk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orođenčad HbsAg pozitivnih majki obavezno se vakcinišu sa 4 doze vakcine po šemi 0,1,2,12 i intramuskularnim davanjem hepatitis B imunoglobulina (HBIG) odnosno rođenju, a najkasnije do 12 sati od rođenj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BIG se daje istovremeno sa prvom dozom vakcine, u suprotni ekstremite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ktivna imunizacija pacijenata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</a:rPr>
              <a:t>pre 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</a:rPr>
              <a:t>početka dijaliz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kcinacija pacijenata pre stupanja na dijalizu sprovodi se sa četiri doze po šemi 0, 1, 2. i 6. meseca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avanjem dvostruke doz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za određeni uzras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vakcinacija se sprovodi u slučajevima imunodefinicije i kod bolesnika na dijalizi, jednom dozom HB vakcine, pet godina posle potpune vakcinacij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600" spc="-1" strike="noStrike">
                <a:solidFill>
                  <a:srgbClr val="ffffff"/>
                </a:solidFill>
                <a:latin typeface="Times New Roman"/>
              </a:rPr>
              <a:t>Obavezna a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ktivna i pasivna imunizacija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rotiv besnil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2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ktivna imunizacija protiv besnila sprovodi se savremenim inaktivisanim vakcinama protiv besnila za humanu upotrebu, proizvedenim na kulturi ćelija koje preporučuje SZO, sa potencijom od najmanje 2.5 I.J. po pojedinačnoj dozi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asivna imunizacija protiv besnila sprovodi se primenom humanog antirabičkog imunoglobulina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reekspoziciona vakcinacija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tiv besnila sprovodi se kod lica koja su profesionalno izložena infekciji virusom besnila, i to: laboratorijski radnici koji su neposredno izloženi virusu besnila, veterinari, veterinarski tehničari, veterinarski higijeničari, zoohigijeničari, lovočuvari, šumari i preparatori životinja, krznari (lica koja odvajaju krzno sa leševa životinja i pripremaju ga za dalju upotrebu) i lica koja profesionalno dolaze u kontakt sa slepim miševim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9:12:04Z</dcterms:created>
  <dc:creator>Intel</dc:creator>
  <dc:description/>
  <dc:language>en-US</dc:language>
  <cp:lastModifiedBy>Natasa Rancic</cp:lastModifiedBy>
  <dcterms:modified xsi:type="dcterms:W3CDTF">2019-06-03T19:47:01Z</dcterms:modified>
  <cp:revision>27</cp:revision>
  <dc:subject/>
  <dc:title>Obavezna imunizacija lica eksponiranih određenim zaraznim bolestim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