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C1AE-1E23-4552-9E27-90FBD93FD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8E66-4522-403F-8246-8FC21B32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BA48-D09B-442F-9E94-4A33E99C1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9658-31E4-4992-A1DE-85DEA5D98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D633E-1241-4D8E-9592-5396AB9F3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79505-38EC-4370-B158-1B1C3A8E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A373A-5DB2-4356-B56C-4476C544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57F3F-2C6A-453F-8E32-8B348093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05F41-08E3-40A5-BC81-08E344BF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9E255-55F1-4B50-B2B0-D5CC1BD4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3680E-755F-423D-AFA3-2B9FC1AC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1B70-44B4-4A08-ABEE-C60C6FE2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ADC33-B981-4908-835B-12663ADE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FCFCA-3A6D-4A6B-A2C3-84D273D9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EA067A-0EF1-44BF-AE68-9E089955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6D4C3-675C-4979-826F-C191420AA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9E8ED-C69B-406D-B5D1-A2391F83F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780F-1E51-4B2E-90F7-FDBEA517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5F9F-4E91-4EBE-8433-224612BA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3445-6303-44CA-916D-6B9F753C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4C30-490D-4A36-84A7-C29B9B52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B9FC-EB2A-4DB8-BC4B-C972223B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7D61-530D-48E2-B933-C80CC8F3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9FCB-21C7-4825-8798-EBF395C6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0CAA-3833-48C5-A49C-BFF2ABECD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E3FD-8875-4AFF-AAC1-389AE4C701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560"/>
            <a:ext cx="7772400" cy="2295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Obavezna imunizacija lica određenog uzrasta </a:t>
            </a:r>
            <a:br>
              <a:rPr sz="4400"/>
            </a:b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(sistematska imunizacija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Vakcinacija protiv difterije, tetanusa i velikog kašlj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kcinacija protiv difterije, tetanusa i velikog kašlja započinje kad det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avrši dva mesec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života i mora se završiti do navršenih šest meseci života deteta, a najkasnije do navršenih 12 meseci živo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kcinacija protiv difterije, tetanusa, pertusis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ko se iz bilo kojih razloga vakcinacija  ne sprovede u roku ili se ne sprovede potpuno, dete će se vakcinisati u periodu i posle navršenih 12 meseci, a najkasnije do navršenih pet godina života dete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Primenjuje se kombinovana DTaP vakcina u tri doz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Razmak između doza ne sme biti manji od 1 mesec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Ova vakcina sadrži prečišćene anatoksine difterije i tetanusa adsorbovane na aluminijum fosfa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Obaveznoj imunizaciji protiv difterije, tetatunsa i pertusisa podležu sva deca od navršena dva meseca života do navršenih 18 godina život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Deca starija od pet godina ne primaju vakcinu protiv pertusisa, već samo protiv difterije i tetanusa i to sve do 18. godine život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Decu posle navršenih 7 godina treba vakcinisati protiv difterije posebnom vakcinom za odrasle (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dT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Vakcinacija protiv tetanusa kao obavezna primenjuje se do navrešene 18. god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U slučaju povrede primenjuje se i kod starijih od 18 godi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Šema vakcinacije protiv difterije, tetanusa i pertusis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cc00"/>
                </a:solidFill>
                <a:latin typeface="Times New Roman"/>
              </a:rPr>
              <a:t>I godina života-navršena dva meseca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; daju se 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</a:rPr>
              <a:t>tri doze </a:t>
            </a:r>
            <a:r>
              <a:rPr b="0" lang="sr-Latn-CS" sz="3200" spc="-1" strike="noStrike">
                <a:solidFill>
                  <a:srgbClr val="ff3300"/>
                </a:solidFill>
                <a:latin typeface="Times New Roman"/>
              </a:rPr>
              <a:t>DPaT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vakcine od po 0,5ml u propisanim razmaci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cc00"/>
                </a:solidFill>
                <a:latin typeface="Times New Roman"/>
              </a:rPr>
              <a:t>Druga godina života-godinu dana posle komletne vakcinacije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ff3300"/>
                </a:solidFill>
                <a:latin typeface="Times New Roman"/>
              </a:rPr>
              <a:t>DTaP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vakcinom , daje se 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</a:rPr>
              <a:t>jedna doza DTaP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vakcine od 0,5 ml. To je prva revakcinacij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i upisu u prvi razred, odnosno </a:t>
            </a:r>
            <a:r>
              <a:rPr b="0" lang="sr-Latn-CS" sz="3200" spc="-1" strike="noStrike">
                <a:solidFill>
                  <a:srgbClr val="ffcc00"/>
                </a:solidFill>
                <a:latin typeface="Times New Roman"/>
              </a:rPr>
              <a:t>u 7.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godini-vrši se druga revakcinacija i 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</a:rPr>
              <a:t>to jednom dozom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 0,5ml </a:t>
            </a:r>
            <a:r>
              <a:rPr b="0" lang="sr-Latn-CS" sz="3200" spc="-1" strike="noStrike">
                <a:solidFill>
                  <a:srgbClr val="ff3300"/>
                </a:solidFill>
                <a:latin typeface="Times New Roman"/>
              </a:rPr>
              <a:t>DT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vakc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U završnom razredu osnovne škole, odnosno </a:t>
            </a:r>
            <a:r>
              <a:rPr b="0" lang="sr-Latn-CS" sz="3600" spc="-1" strike="noStrike">
                <a:solidFill>
                  <a:srgbClr val="ffcc00"/>
                </a:solidFill>
                <a:latin typeface="Times New Roman"/>
              </a:rPr>
              <a:t>u 14. godini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, vrši se treća revakcinacija, </a:t>
            </a:r>
            <a:r>
              <a:rPr b="0" lang="sr-Latn-CS" sz="3600" spc="-1" strike="noStrike">
                <a:solidFill>
                  <a:srgbClr val="ff0000"/>
                </a:solidFill>
                <a:latin typeface="Times New Roman"/>
              </a:rPr>
              <a:t>jednom dozom dT vakcine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U završnom razredu osnovne škole, </a:t>
            </a:r>
            <a:r>
              <a:rPr b="0" lang="sr-Latn-CS" sz="3600" spc="-1" strike="noStrike">
                <a:solidFill>
                  <a:srgbClr val="ffcc00"/>
                </a:solidFill>
                <a:latin typeface="Times New Roman"/>
              </a:rPr>
              <a:t>u 18.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 godini vrši se četvrta revakcinacija i to </a:t>
            </a:r>
            <a:r>
              <a:rPr b="0" lang="sr-Latn-CS" sz="3600" spc="-1" strike="noStrike">
                <a:solidFill>
                  <a:srgbClr val="ff3300"/>
                </a:solidFill>
                <a:latin typeface="Times New Roman"/>
              </a:rPr>
              <a:t>TT 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vakcino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red opštih kontraindikacija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posebne kontraindikacije za vakcinaciju protiv velikog kašlja DT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 vakcinom su evolutivna neurološka oboljenja (nekontrolisana epilepsija, infantilni spazmi, progresivna encefalopatija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akcinacija protiv difterije i tetanusa dece 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od navršenih pet do navršenih sedam godina života sprovodi se </a:t>
            </a:r>
            <a:r>
              <a:rPr b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DT vakcinom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akcinacija protiv difterije i tetanusa lica starijih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od sedam godina sprovodi se kombinovanom vakcinom protiv difterije i tetanusa za odrasle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dT vakcina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Vakcinacija protiv dečje paraliz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kcinacija protiv dečije paralize sprovodi se kod dec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d navršena dva meseca do navršenih 1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godina živo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Vakcinacija protiv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čije paralize sprovodi se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živom oralnom polio vakcino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u daljem tekstu: OPV) i mrtvom, inaktivisanom polio vakcinom (u daljem tekstu: IPV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kcinacija protiv virusnog hepatitisa B (HB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avezna sistematska aktivna imunizacija od 2004. za svu zdravu novorođenč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kombinovana vakcina, dobijena genetskim inžinjering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B j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va vakcin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ju dete prema u Srbiji prema važećim zakoni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stematska vakcinacija protiv VHB počinje već u porodilišt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kcinacija protiv dečije paralize započinje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kad dete navrši dva mesec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 mora se završiti do šest meseci života, a najkasnije do navršenih 12 meseci živo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kcinacij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OVP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vakcino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provodi se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imeno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ri doze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 razmacima koji ne mogu biti kraći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d šest nedelj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osim u slučaju utvrđene epidemiološke indikacije kada se može dati u razmaku od mesec da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Živa vakcina protiv dečje paralize (Sabinova vakcina) daje se per os i imitira prirodan način infekcij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sle davanja žive vakcine, vakcinalni virus  razmnožava se u digestivnom traktu 6 nedelja i izlučuje u spoljašnju sredinu. Na ovaj način digestivni trakt postaje otporan prema divljem polio virusu, a u  krvi se stvaraju cirkulišuća antitel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Tako je postignuta zaštita i od paralitičkih i od neparalitičkih oblika dečje paraliz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U našoj zemlji primenjuje se kao obavezna sistematska vakcinacija od 1961. godin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OPV vakcina daje se peroralno u dozi od 0,1ml ili 2 kapi vakcin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OPV se ukapava direktno u usta detetu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Razmak između pojedinačnih doza ne sme biti manji od 42 dan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cc00"/>
                </a:solidFill>
                <a:latin typeface="Times New Roman"/>
              </a:rPr>
              <a:t>Prva doza daje se čim dete navrši dva meseca i mora da se završi do kraja prve godin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Prva revakcinacija u drugoj godini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Druga revakcinacija u 7. godini, pri upisu u prvi razre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Treća revakcinacija u 14. godini, odnosno u završnom razredu osnovne škol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kcinacija sa IPV sprovodi se u slučajevima imunodefinicije, a daje se u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ri doze u razmaku koji ne može biti kraći od četiri nedel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koliko do navršenih 12 meseci života vakcinacija deteta nije započeta primenom prve doze OPV, vakcinacija protiv dečije paralize sprovodi se davanjem prve doze IPV, a nastavlja se nakon mesec dana sa tri doze OPV u preporučenim razmaci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Vakcinacija protiv malih boginja, parotitisa i rubeo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kcinacija protiv malih boginja,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arotitis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 crvenke-rubeole sprovodi se kod dec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d navršenih 12 meseci do navršenih 14 godin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život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ednom dozo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kombinovane žive vakcine protiv malih boginja, zaušaka i crvenke - rubeole (MM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vakcine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kcinacija MM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vakcinom sprovodi se kad dete navrši 12 meseci, a mora se sprovesti najkasnije do navršenih 15 meseci živo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Revakcinacija se obavlja pri upisu u prvi razred osnovne škole, odnosno u 7. godini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Vakcinacija i revakcinacija obavljaju se </a:t>
            </a:r>
            <a:r>
              <a:rPr b="0" lang="sr-Latn-CS" sz="3600" spc="-1" strike="noStrike">
                <a:solidFill>
                  <a:srgbClr val="ff0000"/>
                </a:solidFill>
                <a:latin typeface="Times New Roman"/>
              </a:rPr>
              <a:t>jednom dozom MMR vakcine 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od 0,5ml. Vakcina se daje duboko potkožno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Vakcinacija protiv akutnog</a:t>
            </a:r>
            <a:br>
              <a:rPr sz="4000"/>
            </a:b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virusnog B hepatitis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akcinacija protiv akutnog virusnog hepatitisa B sprovodi se vakcinom protiv hepatitisa B (HB vakcina) 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koja je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izveden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todom genetskog inženjering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akcinom se obuhvataju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vorođenčad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vakcinisana deca u 12 godini života, odnosno u šestom razredu osnovne škol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3628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akcinacija novorođenčadi sprovodi se davanjem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tri doz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HB vakcin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va doza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HB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kcine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daje s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i u porodilištu u roku do 24 sata po rođenj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va doza vakcine deci koja nisu rođena u porodilištu mora se dati odmah u nadležnom domu zdravlj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uga doza vakcine daje se u razmaku koji ne sme biti kraći od mesec dana nakon prve doze HB vakc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Šema vakcinacije je 0, 1, 6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ma revakcinaci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avezna je i za svu decu u 6. razredu osnovne škole (propuštene generacije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ća doza vakcine daje se u razmaku ne kraćem od šest meseci nakon prve doze HB vakcine, odnosno ne kraćem od dva meseca nakon davanja druge doz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kcinacija protiv akutnog virusnog hepatitisa B mora se završiti najkasnije do navršenih 12 meseci života dete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vorođenčad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i deca do 10 godina dobijaju pedijatrijsku dozu vakcine, a starija od 10 godina dobijaju dozu za odrasle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,5 ml (pedijatrijska doza HB vakcine) intramuskularno u anterolateralni deo natkolenice (bedra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kcinisanje dece u 12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dini života, odnosno u šestom razredu osnovne škole sprovodi se davanjem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tri doze H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vakcine za odrasle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1,0 ml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 šemi 0,1 i 6. mesec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ktivna imunizacija protiv oboljenja izazvanih hemofilusom influence tipa "B"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Tokom sedamdesetih i osamdesetih godina XX veka došlo je do povećanog obolevanja dece od meningitisa izazvanog Haemophilus-om influence, tipa B (Hib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Bolest izazvana Hib infekcijom najviše pogađa decu u najranijem uzrastu, do 5. godine živo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rema podacima naših autora, smrtnost od ovog obolenja u prvoj godini života je i od 18 do 30%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Teške neurološke sekvele ostaju kod 25-35% de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kcinacija protiv oboljenja izazvanih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ofilusom influence tipa "B" sprovodi se konjugovanom vakcinom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kcinacija Hib vakcinom dece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uzrasta od navršena dva meseca do navršenih šest meseci života sprovodi se davanjem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ri doze Hib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vakcine istovremeno sa dozama DTP vakcine, u suprotni ekstremit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koliko vakcinacija Hib vakcinom nije započeta do navršenih šest meseci život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provodi se davanjem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dve doz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u razmaku koji ne sme biti kraći od mesec da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koliko vakcinacija Hib vakcinom nije započeta do navršenih 12 meseci života sprovodi se davanjem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jedne doz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o navršenih 24 meseci živo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b vakcina daje se intramuskularno u anterolateralni deo natkolenice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munizacija protiv Streptokokusa pneumonij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d dece uzrasta dva meseca primenjuje se konjugovana polisahardidna vakcina u tri doze  sa razmacima između doza ne kraćim od 4 nedel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akcinacija jednom dozom u drugoj godini života, najranije 6 meseci nakon kompletne primarne seri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o se primarna serija ne završi  do navršenih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šest meseci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že do navršenih 24 meseca života, primenom predviđenog  broja doza za određeni uzra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o se počinje sa vakcinacijom u uzrastu 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7-1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meseci, daju se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ve doz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akcine sa razmakom od najmanje 4 nedel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akcinacija se sprovodi u 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rugoj godini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dnom dozom konjugovane polisaharidne vakcine, najranije 6 meseci od kompletiranja primarne seri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o se vakcinacija započinje u uzrastu 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12-23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eca daju se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ve doz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kcine sa razmakom od 8 nedelja. Nema revakcinaci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kcina se daje intramuskularno u deltoidni mišić, nadlakticu ili nadokolenic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 navršena dva meseca do dve godine (kao sistematska imunizacij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enjuju se poliovalentna konjugovana vakcina-PCV 10 i PCV 1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V10 primenjuje se do navršenih 5 godina živo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PV23-pneumokokna polisaharidna vakcin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Vakcinacija protiv tuberkuloz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provođenje obvezne vakcinacije u našoj zemlji počelo 1948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Za vakcinaciju se koristi 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</a:rPr>
              <a:t>živa bakterijska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vakcina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d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oj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illus Calmette-Guerin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(BCG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bavezna imunizacija protiv tuberkuloze sprovodi s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ciljem sprečavanja određenih kliničkih oblika tuberkuloze (tuberkulozni meningitis, diseminovani oblici tuberkuloze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Obavezno se vakcinišu deca u prvoj godini života (bez tuberkulinskog testiranja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Deca rođena u porodilištima vakcinišu se BCG vakcinom pri otpustu, a deca koja su rođena van porodilišta moraju da se vakcinišu do kraja prve godin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Način aplikacije BCG vakcin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Daje se u jednoj dozi, strogo intradermalno u predeo deltoidnog mišića leve nadlakt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Deca uzrasta do 12 meseci dobijaju dozu od 0,05ml, a starija 0,1m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java vakcinalnog ožiljka na mestu vakcinacije prečnika od najmanje 3mm, znak je uspešne vakcinaci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Kontrola vakcinalnog ožilj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Vrši se 3 do 6 meseci posle aplikacije BCG vakcin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Ako vakcinisano dete nema ožiljak ili je manji od 3mm, dete mora ponovo da se vakciniš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Vakcinacija BCG vakcinom i kontrola vakcinalnog ožiljka u našem gradu,  obavlja se u Antituberkuloznom dispanzeru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Tuberkulinsko testiranj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vo testiranje sprovodi se intradermalnim ubrizgavanjem tuberkulinskog preparata PPD u dozi od 0,1ml u prednju stranu leve podlakt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Čita se posle 72 do 96 sat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egativna reakcija: indurat promera 5mm i man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labo pozitivna: promer indurata 6 do 10m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Kontraindikacije</a:t>
            </a: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Pored opštih kontraindikacija, posebna je HIV infekcija i drugi poremećaji celularnog imunitet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0000"/>
                </a:solidFill>
                <a:latin typeface="Times New Roman"/>
              </a:rPr>
              <a:t>Postvakcinalna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 komplikacija posle davanja BCG vakcine je pojava besežita (gnojne ulceracije i zapalenje okolnih limfnih žlezda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09:25:32Z</dcterms:created>
  <dc:creator>Intel</dc:creator>
  <dc:description/>
  <dc:language>en-US</dc:language>
  <cp:lastModifiedBy>Korisnik</cp:lastModifiedBy>
  <dcterms:modified xsi:type="dcterms:W3CDTF">2019-03-05T07:30:34Z</dcterms:modified>
  <cp:revision>41</cp:revision>
  <dc:subject/>
  <dc:title>Obavezna imunizacija lica određenog uzrasta  (sistemska imunizacij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