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9E2-B3C0-4A59-B0ED-5C70112B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1DC-DBC0-4FDA-99A1-C5067C1A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D57-C148-4D82-AA11-18CA3E55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124-7864-496A-A1E0-FDCB3342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926E-CEA0-4B6E-93CB-AA1C135E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074A-DC14-4249-8983-D68D1998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60BA-F6E3-4ACE-9596-C31F72CA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4EC6-6533-4900-8C96-ED23DAEE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7CEB-CB47-441A-9D67-06F398A7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429D-7727-4BEA-A36C-AEE0A550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4B6D-02D6-4A2A-B6FF-2B240ED5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529-8572-47CD-A6DE-CD195A53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2C28-D26D-45A7-ADA7-A97365C3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6F09-5207-4881-9A3B-A36428C5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3214-F642-4792-9071-E1A7F426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F2F5-6D06-4DD3-AD20-C952F261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B6A6-01A3-4321-B94D-1EAB97E7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954-209C-4FED-9C9A-471CF8C3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CD1-E61B-4CD5-8ED9-BAB73D4E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AC0-2B82-4EA3-98DA-002D6045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C1E-9E07-4023-B373-AA97684F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254-655F-4973-9174-4792C748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A0B-151D-4A1A-9ED6-97452F05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1AF-312E-4FEF-A77A-FE34BECC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A65E-D8F0-491E-932E-3AA052AB02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A808-DF9E-40FB-BE99-0E950CEE18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Aktivna imunizacija </a:t>
            </a:r>
            <a:r>
              <a:rPr b="1" lang="sr-Latn-CS" sz="5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lica na posebnom riziku od zaraznih bolest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cinacija se sprovodi jednom dozom vakcin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periodu 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</a:rPr>
              <a:t>najmanj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4 dana pre planirane transplantacije, elektivne splenktomije, terapije zračenjem ili hemioterapije kod malignih tumor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d asimptomatske HIV infekcij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acija se sprovodi sa dve doze vakcine u razmaku ne kraćem od mesec dana u sledećim slučajevi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le izvršene transplantacije organa i tkiva u toku imunosupresivne terapije, a prema savetu imunolog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d slezina nije u funkciji ili 14 i više dana posle izvršene splenektom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rpaste anem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toku hemioterapije ili terapije zračenjem malignih tumor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tomatske HIV infekc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d drugih klinički utvrđenih imunodeficijencij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ktivna imunizacija protiv oboljenja izazvanih streptokokusom pneumonije (pneumokokom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oboljenja izazvanih streptokokusom pneumonije (pneumokokom) vrši s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olisaharidnom vakcin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o kliničkim indikacijama, u sledećim slučajevim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tomske ili funkcionalne asplenij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rpaste anemij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onične kardiovaskularne i plućne bolesti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šećerne bolesti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oničnog oboljenja jetr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oničnog oboljenja bubreg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frotskog sindrom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koholizm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tomatske i asimptomatske HIV infekcij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lantacije organa i tkiv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ignog oboljenj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ca starijih od 65 godina života u kolektivnom smeštaj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se sprovodi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jednom doz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kcine kod dece starije od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ve god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kod odrasli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akcinacija se sprovodi davanjem jedne doze vakcine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ri do pet godin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akon vakcinacij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saharidna vakcina daje se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intramuskular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li supkutano u dozi od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0,5 ml u deltoidnu regij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Aktivna imunizacija protiv meningokoknog meningitis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protiv meningokoknog meningitisa sprovodi s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olisaharidno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vakcinom po kliničkim indikacijama kod dece starije od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ve godi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 kod odraslih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atomska i funkcionalna asplenija (splenektomija, srpasta anemija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unodeficijencija komplementa (C5-C9)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se sprovodi davanjem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jedne doz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olisaharidne vakcine protiv meningokoknog meningitisa odmah po utvrđivanju indikacij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akcinacija se sprovodi u razmaku ne kraćem od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tri godi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d izvršene vakcinacije u slučaju da indikacije i dalje postoj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akcinacija polisaharidnom vakcinom može se sprovoditi i ukoliko je osoba prethodno vakcinisana konjugovanom vakcinom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 protiv meningokoknog meningitisa daje se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u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kutan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u dozi od 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0,5 ml u deltoidnu regiju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Aktivna imunizacija putnika u međunarodnom saobraćaj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nici u međunarodnom saobraćaju vakcinišu se ako putuju u zemlje koje zahtevaju određenu vakcinu i prema epidemiološkim indikacijama, u skladu sa Međunarodnim zdravstvenim pravilnikom protiv sledećih bolest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žute groznic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ingokoknog meningitis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bušnog tifus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ler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ter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gih zaraznih bolesti (akutnog virusnog hepatitisa B, besnilo, tetanus, malih boginja i dr.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Vakcinacija protiv žute grozn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Živa atenuisana vakci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je se jednokratno, 10 dana pre polaska na pu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ebne kontraindikacije: alergija na jaja, perje i pileće mes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vakcinalne reakcije između 5 i 7. dana(temperaura, glavobolja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u vakcinu daju posebno ovlašćene ustanove i izdaju međunarodni sertifika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Obavezna aktivna i pasivna imunizacija lica u posebnom riziku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razne bolesti protiv kojih se sprovodi ova imunizacija s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patitis 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ingokokna bol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jenja izazavana streptokokusom pneumoni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jenja izazavana Hemofilusom influ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je se kod dece sa navršenih 9 meseci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 mlađoj od 6 meseci i starijima od 60 godina se ne sme davat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na doza daje doživotni imunite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Vakcinacija protiv kolere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na od najstarijih vakci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as se koristi klasična, mrtva vakcina koja u 1ml sadrži 8 milijardi uzročnika tipa Inaba, Ogawa i ElTo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je se u dve doze u razmaku koji nije kraći od 8 dana niti duži od 28 da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č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kcija izazvanih respiratornim sincicijalnim virus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Grip (influenza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utno respiratorno zarazno oboljen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bog međunarodnog značaja, od 1947. postoji služba za stalno praćenje influ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1971. je u grupi bolesti pod stalnim nadzorom SZ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ktivna imunizacija protiv grip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akcinacija-aktivna imunizacija, može da se sprovodi mrtvom i živom vakcinom protiv gri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acija protiv grip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Srbij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ovodi se inaktivisanom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rovalentn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om protiv grip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oriste se : inaktivisana, celovirusna, inaktivisa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LIT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razdrobljena) bez adjuvanasa  i inaktivisana SPLIT sa adjuvansom (adjuvantna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naktivisana celovirusna je bila visoko imunogena ali i visoko reaktogena, nije mogla da se primenjuje kod dece mlađe od 7 godina, više kod nas ne primenjuj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ema kliničkim indikacija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vakcinacija se sprovodi kod svih lica starijih od šest meseci sa hroničnim poremećajima pl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g i kardiovaskularnog sistema i sa metaboličkim poremećajima (uključujući šećernu bolest), bubrežnom disfunkcijom, hemoglobinopatijom, imunosupresijom i d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Prema epidemiološkim indikacijama vakcinacija se sprovodi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lica smeštenih u gerontološkim centrima i kod lica zaposlenih u gerontološkim centrim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dece, omladine i starih lica smeštenih u ustanovama socijalne zaštite i kod lica zaposlenih u tim ustanovam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lica zaposlenih u objektima u kojima se obavlja zdravstvena delatnost, a naročito u odeljenjima sa povećanim rizikom, stacionarima za hronično obolela lica i d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lica zaposlenih u javnim službama posebno eksponiranih infekciji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lica starijih od 65 godina živo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ve oso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j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 prvi put vakcinišu dobijaju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ve do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akcine u razmaku od 30 dana, a narednih godina samo po jednu dozu vakcin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a se daje intramuskularno ili duboko supkutano u deltoidnu regij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munitet traje oko godinu dan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ktivna imunizacija protiv oboljenja izazvanih hemofilusom influence tipa "B"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provodi se Hib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om, prema kliničkim indikacijama, kod dece starije od dve godine života bez obzira na prethodni vakcionalni status 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</a:rPr>
              <a:t>i odrasl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u slučajevi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platacije organa i tkiv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enektomije i srpaste anem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ioterapije i terapije zračenjem kod malignih tumor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tomatske i asimptomatske HIV infekcij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d drugih klinički utvrđenih imunodeficijencij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9:18:21Z</dcterms:created>
  <dc:creator>Intel</dc:creator>
  <dc:description/>
  <dc:language>en-US</dc:language>
  <cp:lastModifiedBy>Natasa Rancic</cp:lastModifiedBy>
  <dcterms:modified xsi:type="dcterms:W3CDTF">2019-06-04T03:43:21Z</dcterms:modified>
  <cp:revision>18</cp:revision>
  <dc:subject/>
  <dc:title>Aktivna imunizacija po kliničkim indikacija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