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DFA-EF55-4A01-8CA8-162EDFD0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336-8BC8-4A28-9B4A-F3519E6C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AB7-055F-42C6-8317-CD340B4F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C38-9D28-4DAA-8159-C6B86764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9EC3-A0E4-4FD1-A5F2-8FFDD14D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63D0-864B-4889-B86C-5F179CE6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EDA3-82CF-4F12-BD53-CDE4D376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92F1-1F4B-4F78-B9C7-EF14069A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DC5D-C7C6-4CC9-9E98-65EC6CB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A1E-C84A-45CD-B7E8-8028B93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EF2-B122-4259-A321-905270B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9A3-4FCF-4A11-B46D-EAA9873E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0B1C-8FE2-43D9-837B-E9837AD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8D36-20F3-48EE-BBBB-98A5EB38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B737-F144-4D6F-A258-983950DE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CDA8-3141-4BFD-876A-DCE8448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2C6-8B3A-4FEA-8CA9-6801C76E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7528-BB5D-4215-A1D7-52B63045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CBB9-20CA-4DEA-9075-DA54C376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2225-DD60-47F2-B502-D9A1AC0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B471-743F-4BC4-813A-4F93E0C2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4B8A-1063-4FF0-A067-742FC3EA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3AA-5DAD-43BD-9B68-B3BF67F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D41A-BA99-479B-9B89-D0EFA317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FC42-924A-49BB-B7B8-3FBD22C7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B1D78-6DC7-4BC2-8E22-872CA88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8A43-06A5-46CF-AA03-B10B529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9D555-562F-4CB9-9325-33BE3E90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30B4-C614-491B-AC4A-F5EB3981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0C02-AF38-4623-A63F-5EB6C0E5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E626-4471-4BEC-98D6-ED39B8DD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9F4D-B05C-4A1A-A5D0-301E083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E1B3-A639-4B6B-8D79-F130BFEF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997-57A5-460B-AFBD-4DCF66A8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A117-1919-4FCF-9E54-CDA9B03A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548A-5279-48A4-927B-BD8B7E12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4B8E-0D76-4143-9540-29297DC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CD4B9-290B-4634-B8AA-69D5B81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047E-8363-49AA-82B7-1F6176A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D621-15AA-463E-A702-F7338FB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0C69-4D1A-4D9F-A77E-CE69B26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B330-DAC9-443D-84B7-40012C88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06525-649E-4A53-AA7B-6DF0DF87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12B-2101-433B-AE7B-0CC03660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F0C-6C28-429E-922A-211B1071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9DC-8639-4B53-BDEC-A6EBE32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AB22-6516-4CE8-A411-8511379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F01-F40B-4DC3-A28C-C0287EB9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EE0-7593-4C2C-A9A6-2689EAB32500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BD8-82F9-445F-9949-E2C2952F41F5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4A9A-F876-4351-8A89-18A387975CF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C6D0-EA92-467F-9C5F-C7482063CB6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000" spc="-1" strike="noStrike">
                <a:solidFill>
                  <a:srgbClr val="ebebeb"/>
                </a:solidFill>
                <a:latin typeface="Times New Roman"/>
              </a:rPr>
              <a:t>SEROPROFILAKSA</a:t>
            </a:r>
            <a:br>
              <a:rPr sz="4000"/>
            </a:br>
            <a:r>
              <a:rPr b="0" lang="sr-Latn-CS" sz="4000" spc="-1" strike="noStrike">
                <a:solidFill>
                  <a:srgbClr val="ebebeb"/>
                </a:solidFill>
                <a:latin typeface="Times New Roman"/>
              </a:rPr>
              <a:t>(Zaštita specifičnim imunoglobulinima)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Zbog toga, davanje novih količina heterolognog seruma u cilju produženja zaštite nema svrhe, jer se pri tome stvara povećana opasnost od anafilaktičkih pojava, a heterologna antitela će biti brže razgrađena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 eventualnoj ponovnoj aplikaciji seruma, vreme zaštite se smanjuje, pa u pojedinim slučajevima može trajati samo nekoliko da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</a:rPr>
              <a:t>Humani serum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humanog porekla – imunoglobulini (kompletni serumi se danas više ne koriste) dobijaju se iz plazme i seruma odraslih osoba-dobrovoljih davaoca krvi, rekonvalescenata, kao i iz placentarne krvi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 ovih uzoraka izdvaj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noglobulini nosioci zaštitnih antitela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oliko preparat sadrži imunoglobuline – antitela protiv više zaraznih bolesti naziva se standardnim ili opštim imunoglobulinom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perimuni specifični imunoglobulin sadrži imunoglobuline – antitela prema određenoj bolesti u visokoj koncentraciji (tetanus, besnilo, hepatitis viroza B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vi preparati se dobijaju iz krvi vakcinisanih lica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Karakteristike p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asiv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g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 veštačk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g</a:t>
            </a: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 imunitet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sivna zaštita koja se postiže serumima ili imunoglobulinima nastupa brzo, ali je kratkotrajna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matra se da se animalnim serumima postiže zaštita koja traj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-3 nedel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umani preparati daju nešto dužu zaštit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4-6 nedelja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Zakon o zaštiti stanovništva od zaraznih bolesti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oje ugrožavaju celu zemlj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z 2016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isuje obeveznu zaštitu specifičnim imunoglobulinom u profilaksi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anusa, besnila i hepatitisa B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rste seru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logi hiperimuni serum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logi hiperimuni globuli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klonska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etrologni hiperimuni serumi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u serumi koji sadrže frakciju krvi koja sadrži antitela protiv jednog uzročnika ili toks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 bit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akterijsk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virusn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čni (besnilo, tetanus, botulizam, zmijski ujed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omologi imunoglobulin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ke frakcije seruma koje se dobijaju mešanjem frakcija antitela klase IgG velikog broja donor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antitela protiv svih bolsti koje su prebolela ta lica ili su imunizovan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vu s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ndardni ili opšti serumi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bili, HAV, Rubeo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iranje: 0,2-0,4mg na kg telesne m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omologi hiperimuni serumi</a:t>
            </a:r>
            <a:br>
              <a:rPr sz="3800"/>
            </a:b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visoke titrove specifičnih antitela protiv određenog agensa ili njegovog toksina (tetanus, besnilo, HVB, variče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ijaju se iz plazme rekonvalescenata ili vakcinisanih osob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oraju se u IJ na kg telesne mas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TETABUL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ptotiv tetanus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tetanogene povrede, pojave prvih simptoma daje se u terapijske svrhe kako bi se sprečila dalja intoksikacija organizm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od povrede prošlo više od 24 časa propisana doza se udvostručav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avilnik o imunizaciji i načinu zaštite lekovima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iz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17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godine obavezuj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 se za pasivnu imunizaciju upotrebljavaju imunoglobulini humanog porekla (imunoglobulini, hiperimuni gamaglobulini  I monoklonska antitela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Times New Roman"/>
              </a:rPr>
              <a:t>Seroprofilaksa je posebna mera prevencije koja se može koristiti u profilaksi nekog zaraznog oboljenja ali i postekspoziciono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800"/>
            </a:br>
            <a:r>
              <a:rPr b="0" lang="sr-Latn-CS" sz="38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Antirabični serum</a:t>
            </a:r>
            <a:br>
              <a:rPr sz="3800"/>
            </a:br>
            <a:endParaRPr b="0" lang="en-US" sz="3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ne da odmah sa prvom dozom vakcine, indikovano je davanje do 8. dana od ekspozicije jer već od 7. dana počinje sinteza antitela u organizmu čovek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Hepatitis </a:t>
            </a:r>
            <a:r>
              <a:rPr b="0" lang="en-U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irosa </a:t>
            </a: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B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nuta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/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 časa zajedno sa vakcin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e koje su imale seksualni kontakt sa osobom koja je zaražena virusom HB, treba da prime serum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jkasnije 14 dana od poslednjeg seksualnog odnosa sa tom osob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Serum za zaštitu od varičel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nje se može sprečiti ako se unutar 96 sati od kontak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seru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ociona zaštita novorođenčadi ili imunodeficijentne dece čije su majke obolele od varičel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se daje 5 dana pre i 2 dana po rođen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noklonska antitel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onovi B limfocita koji produkuju samo jednu vrstu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obiološki preparati sa apsolutnom standardizacijom i specifičnošć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u terapiji i prevenciji infekcija respiratornim sincicijalnim viruso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budućnosti će zameniti druge imunobiološke prepara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Seroprofilaksa predstavlja primenu preparata krvi (seruma ili drugih frakcija), koji sadrže antitela stvorena u nekom drugom organizmu (čoveku ili životinji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Na ovaj način nastaj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veštački pasivni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imunit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Ovaj postupak se koristi u slučajevima kada je potrebno stvoriti brzu zaštitu ugroženih lica, ili kada nema drugih mogućnost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bar i Wiliams su 1953. godine imunoelektroforezom gamaglobulinsku frakciju razdvojili na 3 dela: IgG, IgM i IgA klasu imunoglobul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s je poznato ukupno 5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klasa (IgE i IgD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3 klase je dokazano da imaju svojstva zaštitnih antitela (IgG, IgM i IgA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ziv “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oglobul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imunobiološke preparate koji sadrže one proteine krvi koji predstavljaju zaštitna antitel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Veštački pasivni imunite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iže se davanjem gotovih antitela stvorenih u telu druge jedinke, čoveka ili životin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pasivne zažtite počela je sa radovima nemačkog bakteriologa Emila Beringa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našao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n protiv difteri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Karakteristike imunite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va antitela obezbeđuju brzu, efikasnu, ali kratkotrajnu zaštitu, jer se brzo razgrađuju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ovana je primena samo u hitnim slučajevi, neposredne opasnosti od infekcij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Prevencija antiteli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ekspoziciona primen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postoji rizik  da će neka osoba biti izložena infekcij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kspozicion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n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da je agens već ušao u organizam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4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Postekspoziciona zašti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26560" y="1773000"/>
            <a:ext cx="6712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- davanje samo seruma, bez davanja vakcine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e s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da visok titar gotovih antitela ometa sintezu sopstvenih antitel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vim slučajevima kada vakcina ne postoji, ili je kontraindikovano davanje (trudnoća, laktacija, imunodeficijencija,imunosupresivna terapija)</a:t>
            </a:r>
            <a:r>
              <a:rPr b="0" lang="sr-Latn-C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raksi se najčešće primenjuje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-p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iv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avanje vakcine i serum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vremeno u suprotne ekstremite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to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štitu povređene osobe od tetanusa, besnila, hepatitisa 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3600" spc="-1" strike="noStrike">
                <a:solidFill>
                  <a:srgbClr val="ebebeb"/>
                </a:solidFill>
                <a:latin typeface="Times New Roman"/>
              </a:rPr>
              <a:t>Animalni serumi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rumi animalnog porekla (heterologni) dobijaju se imunizovanjem životinja (najčešće konja) iz čijeg seruma se spravljaju preparati za primenu u humanoj medicini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Život heterolognih antitela je kraći 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(2-4 nedelja)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d homolognih</a:t>
            </a:r>
            <a:r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 (4-6 nedelja)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iz razloga što se 8 do 10 dana po ubrizgavanju stvaraju antitela na strane belančevine, što dovodi do brzog razgrađivanja unetih heterolognih antitel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1:31:58Z</dcterms:created>
  <dc:creator>Intel</dc:creator>
  <dc:description/>
  <dc:language>en-US</dc:language>
  <cp:lastModifiedBy>Natasa Rancic</cp:lastModifiedBy>
  <dcterms:modified xsi:type="dcterms:W3CDTF">2019-06-05T06:42:32Z</dcterms:modified>
  <cp:revision>28</cp:revision>
  <dc:subject/>
  <dc:title>SEROPROFILAKSA (Zaštita specifičnim imunoglobulinim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