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6E0-A03C-4645-9985-A6C9F770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169-7F12-42B3-9AF9-185BD34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27A-08E9-481E-84C0-BAC0D6AC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80C-FD24-4C9C-A6E6-15081F09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980B-11E2-4B5C-B183-3F43361D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FECB-D0DD-4F7F-96AD-7698DEE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57216-1E38-4191-B576-CE7B114A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267A-F108-41EF-80DF-E3735A05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36431-1463-4983-AAC3-D2BD9C8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DE7A4-7234-4851-BF4E-2F9801FE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2344A-40A9-426E-90A8-7C2B1DF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EEF-D66D-464E-94AF-AE760B5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3F829-6CF0-4106-8AAC-018CBAF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65CB0-7814-4257-9CFA-33CFE95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86AA8-DCC1-4A29-BBA2-99EE3DB5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26A24-C9D7-4996-9095-1B75903A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530E-4894-4ECE-BFCB-AA4E4EEF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9C4-8795-4A5C-86C4-D3BED5B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A20-6474-4512-A48A-2234201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D3C-3510-4B4D-8A1B-755B637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71E-C7B2-4F7E-BF7C-5FD32F2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F4F-42E7-487A-BE4F-29433DD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D3F-BA55-4EB7-9CBD-442F10B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53F-2B32-47B6-AE5B-76F6E0B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F535-5ED4-447A-85D9-30356F5E3384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B491-0C26-48A3-8E5A-60B4C98099DD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384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EPIDEMIOLO</a:t>
            </a: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Š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KE KARAKTERISTIKE VEKTORSKIH </a:t>
            </a: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RAZNIH BOLE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Prof. dr Zoran Veličko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Životne zajednice (biocenoze) mogu da budu: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proste ili složene,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uže ili šire,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čvrste ili labave,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u nekim slučajevma tako zamršene (ko su sve vektori, ko je glavni, a ko sporedni domaćin.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Osnovni princip biocenoze jesu mnogostruke i izukrštane prehrambene veze koje nameću vektori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Životnu zajednicu (biocenozu) prirodnog žarišta čine četiri člana: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1. divlja životinja, nosilac uzročnika, kao davalac (donor) ili izvor zaraze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. patogeni uzročnik koji kruži u prirodi;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3. živi prenosilac (razne vrste insekata i krpelja) koji siše krv davaoca, zaražava se i prenosi infekciju na zdrave životinje i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4. zdrava divlja životinja kao primalac (recipijent), koji prima uzročnika od prenosioca i može postati davalac (donor) u daljem kruženju uzročnik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Izvori 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rezervoari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) najčešće divlje životinje (od sitnih i krupnih glodara pa do divljači i ptica). Mogu biti i domaće životinje, a nekada i same artropode (transovarijalno prenošenje uzročnika na potomstvo).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I čovek može biti izvor zaraze.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Izraženo je čak i dugotrajno nosilaštvo uzročnika posle preležane bolesti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ćina bolesti ove grupe ne predstavlja značajan epidemiološki problem naše zemlje. Međutim, neke bolesti iz ove grupe spadaju u karantinske bolest, pa postoji potencijalna opasnost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noge bolesti su vezane su za prirodna žarišta iz kojih se šire naročito za vreme vanrednih situacija.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Izlazak transmisivnih zaraza iz njihovih endemskih žarišta uslovljen je različitim faktorima, kao što su: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povećanje gustine populacije vektora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nosilaca uzročnika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migracije stanovništva i životinja,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- teške ekonomske i vanredne prilike i d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064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Zbog mnogobrojnih komunikacija sa endemskim područjima za malariju ova bolest se relativno često importuje kod nas u periodu posle eradikacije. Ovo treba imati u vidu i posumnjati na malariju kod osoba koje dolaze iz endemskih područj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U svetskim razmerama ove bolesti predstavljaju najmasovnije bolesti tropskih zemalja, koje remete razvoj i ekonomsku moć ovih zemalja. Zato je SZO pristupila organizovanoj borbi protiv njih sprovodeći veliki broj programa sprečavanja, suzbijanja i eliminacije istih.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Putevi prenošenja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su artropode, a najčešće  hematofagi insekti.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Najpoznatiji vektori su vaši, buve, komarci, flebotomi, krpelji, grinje itd.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Mehanizam prenošenja uzročnika je različit u zavisnosti od vektora.</a:t>
            </a:r>
            <a:br>
              <a:rPr sz="4000"/>
            </a:b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Ulazno mesto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u prirodnim uslovima skoro kod svih bolesti ove grupe je koža, a ređe sluzokož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Osetljivost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prema transmisivnim bolestima je opšta za sve uzraste i za oba pola.</a:t>
            </a: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Otpornost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posle preležane bolesti je različitog trajanja i intenziteta. Sklonost ka reinfekcijama predstavlja važnu karakteristiku (malarija, pegavac, rekurens i dr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6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eke transmisivne bolesti imaju strogo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sezonsk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karakter.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lasični pegavac, vašljivi rekurens, i rovovska groznica javljaju se i dostižu vrhunac u hladnim zimsko-prolećnim mesecima, dok se malarija, denga i papatači groznica najviše beleže u toplim mesecima.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ticaj sezone u tesnoj je vezi sa uslovima koji pogoduju razvoju i povećanoj aktivnosti vekto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Times New Roman"/>
              </a:rPr>
              <a:t>Obligatno transmisivne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One čiji se uzročnici u prirodnim uslovima prenose isključivo artropodama (malarija, klasični pegavac, žuta groznica,lajmska bolest, papatači groznica, klasični pegavac itd.)</a:t>
            </a:r>
            <a:br>
              <a:rPr sz="3500"/>
            </a:br>
            <a:r>
              <a:rPr b="0" lang="sr-Latn-CS" sz="3500" spc="-1" strike="noStrike">
                <a:solidFill>
                  <a:srgbClr val="ffcc00"/>
                </a:solidFill>
                <a:latin typeface="Times New Roman"/>
              </a:rPr>
              <a:t>Fakultativno transmisivne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One koje pored artropoda imaju i druge puteve prenošenja uzročnika (kuga, tularemija, 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Q-groznica, itd.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Transmisivne bolesti se javljaju u čitavom svetu, ali sve manje u ekonomski razvijenom svetu.</a:t>
            </a:r>
            <a:br>
              <a:rPr sz="4400"/>
            </a:br>
            <a:br>
              <a:rPr sz="2900"/>
            </a:b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Princip profilakse i suzbijanja transmisivnih zaraza sastoji se u sledećem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1. kod onih koje pripadaju zooantroponozama - poznavanje topografije prirodnih žarišta (biotopi) i izbegavanje istih od strane ljudi;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koršćenje prirodnih žarišta uz prethodnu lokalnu obradu (deratizacija, dezinfekcija i dezinsekcija boravišta – logora u prirodi, spaljivanje trave i drugog rastinja);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obezbeđenje hrane i vode za piće od kontaminacije glodarima i drugim životinjama;</a:t>
            </a:r>
            <a:br>
              <a:rPr sz="3500"/>
            </a:br>
            <a:r>
              <a:rPr b="0" lang="sr-Latn-CS" sz="3500" spc="-1" strike="noStrike">
                <a:solidFill>
                  <a:srgbClr val="ffffff"/>
                </a:solidFill>
                <a:latin typeface="Times New Roman"/>
              </a:rPr>
              <a:t>- higijenska dispozicija otpadnih materija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Značajna je i lična zaštita od artropoda (repelenti, mreže, upotreba zaštitne odeće, obuće, kape i rukavica).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Za zaštitu od nekih bolesti ove grupe kao važna profilaktička, a i protivepidemijska mera je imunizacija (npr. žuta groznic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2. kod onih koje pripadaju antroponozama mere su specifične za pojedine bolesti ove grupe. One mogu biti usmerene ka izvoru zaraze – čoveku, kao bolesniku ili nosiocu uzročnik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ali i ka putevima širenja.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U nekim slučajevima mogća je vakcinoprofilaksa i hemioprofilaksa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ećina vektorskih bolesti spada u zooantroponoze, a čovek slučajno upada u lanac infekcije.</a:t>
            </a: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Uzročnici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: virusi (arbovirusi), rikecije, bakterije, protozoe i helminti. Svi uzročnici predstavljaju krvne parazit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Sisanjem krvi, hematofagni zglavkari unose prouzrokovače u krvotok čoveka ili životinje u kome ostaju sve dotle, dok ih isti ili drugi zglavkari usisaju i prenose na novog domać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99308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ki od prouzrokovača se ne menjaju u zglavkaru, ostaju istog oblika kao u domaćinu, jedino se razmnožavaju (rikecija – vaš rublja, uzročnik kuge – pacovska buva)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rugi su se tokom razvoja navikli na naizmenični život (zglavkar-čovek) pa menjaju svoj oblik (uzročnik malarije menjaju se u komarcu)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ćina uzročnika se adaptirala na određene vektore (komarac-plazmodij, 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š tela-rikecija i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ki uzročnici moraju u svom razvoju da prođu kroz pojedine faze u organizmu vektora i u organizmu čoveka ili životinje.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nekim slučajevima su glavni domaćini čovek ili životnja (Bankroftova filarijaza), a sporedni domaćin je komarac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malarije je obrnut slučaj.</a:t>
            </a:r>
            <a:br>
              <a:rPr sz="3200"/>
            </a:b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Glavnim domaćinom se smatra onaj u kome parazit postaje polno z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imes New Roman"/>
              </a:rPr>
              <a:t>Mehanizam prenošenja:</a:t>
            </a:r>
            <a:br>
              <a:rPr sz="3600"/>
            </a:br>
            <a:br>
              <a:rPr sz="20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Mehaničk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nije karakterističan za transmisivne zaraze. Artropode prenose uzročnike na svojim nožicama, dlačicama i rilicama i njima zagađuju otvorene povrede na koži ili ih mehanički ubacuju u krv primaoca (obadi Tabanidae u tropskim krajevim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Biološk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način je karakterističan za ovu grupu oboljenja. Postoje dva oblika:</a:t>
            </a:r>
            <a:br>
              <a:rPr sz="3600"/>
            </a:br>
            <a:br>
              <a:rPr sz="34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inokulacion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(artropod ubada prilikom sisanja krvi i drugih tkivnih tečnosti – anofeles/malariju, aedes aegipti/žutu groznicu, Glosina palpalis/bolest spavan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kontaminaciju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vrši artropod tako što deponuje zaražene izlučevine (feces) ili tkivne tečnosti (hemolimfa, koksalna tešnost) na površinu kože. Uzročnici prodiru </a:t>
            </a: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utrljavanjem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(Ricketsia), ili </a:t>
            </a:r>
            <a:r>
              <a:rPr b="0" lang="sr-Latn-CS" sz="4000" spc="-1" strike="noStrike">
                <a:solidFill>
                  <a:srgbClr val="ffcc00"/>
                </a:solidFill>
                <a:latin typeface="Times New Roman"/>
              </a:rPr>
              <a:t>samostalno 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jer su pokretni (Borelia recurrentis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Tasman</cp:lastModifiedBy>
  <dcterms:modified xsi:type="dcterms:W3CDTF">2009-11-27T08:52:31Z</dcterms:modified>
  <cp:revision>99</cp:revision>
  <dc:subject/>
  <dc:title>PROFILAKSA ZARAZNIH BOLESTI</dc:title>
</cp:coreProperties>
</file>